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3895-8CA1-4428-B6B0-3743C3A1E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DFED-A84E-428D-99CA-CA8646A078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E6AA-145A-45D3-AA0F-A9A0D6D5BD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51BF-E3AF-479F-AA5D-AF64B8D08D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5A7D-B83E-4648-8EE6-9936DA92B2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3730-5BCE-4A25-8C01-270B226ABF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BBC2-EC7F-4D7F-B181-CE160B1949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053C-9D79-41E9-9AA4-5EDFF83D3C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258E-9478-4F82-B703-761590E57F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BC59-2FA8-4D8C-9DD9-4A75022BE3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16DA-08C2-4345-9F4F-FECA9E433E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0B91-1D21-4F8F-9475-B3961B4C6F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5A4A-6B7B-423E-B06F-3CA4A0A3B0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187E-0EB0-4E88-9752-029CEA9A2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220E-C970-467C-8AEC-1CE8EFF5AF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CADC-84C2-4E31-92B7-915926F1CD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5CE4-1F49-431C-929F-853FEB866E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04A4-CDE7-478F-A7D7-C781CD05D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779D-CBAA-4DA6-A1DE-F0AF8B3C98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FE7F-3069-420F-85F0-979DAC631D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8511-E9B0-4A81-8644-30D19C5981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F79-4740-4A31-8712-77813E17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165-2FB4-471D-9B25-C5708B1A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7FA-2DC0-4474-B5EB-FE927C22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988-BEB3-44F8-9A22-65D12FA3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120-54BB-4930-87EC-90E0F307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118-AE4A-4DDA-8733-5245D8BE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48F-6B2C-460E-A458-F33E9B04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F63-1996-4B54-A861-93357D2B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359-1FC9-4453-A39C-7CE46AD6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5C2-5A1A-45DF-9C2E-900A81C7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BAD-A825-4A46-8260-6CE11548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47A-4BDA-4956-9A14-4987232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9C25-3B12-43C4-A31E-85E4033788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68" name="Picture 21" descr="image001"/>
          <p:cNvPicPr/>
          <p:nvPr/>
        </p:nvPicPr>
        <p:blipFill>
          <a:blip r:embed="rId2"/>
          <a:stretch/>
        </p:blipFill>
        <p:spPr>
          <a:xfrm>
            <a:off x="88920" y="216000"/>
            <a:ext cx="687240" cy="1390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E Consultation May 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066680" y="2133720"/>
            <a:ext cx="77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DP Water Governance Program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uman Rights Based Approach to Improving Water Govern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gional Programme E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ilot Project Bondo, Ken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rmative criter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066680" y="1895400"/>
            <a:ext cx="773460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ailability: Water Loss Detection Pl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ss: improved access to safe water for internally displaced persons (IDP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tiy/safety: Water Loss Detection Pl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ross-cutting criter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066680" y="1905120"/>
            <a:ext cx="8077320" cy="60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discrimination: identification of vulnerable groups – targeting ID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tion: participatory design of awareness raising campa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untability: improved understanding of rights, responsibilities, redress mechanisms (assumption: knowledge empowers ac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Impact: empowerment leading to better acc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ustainability: through involvement &amp; ownership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eedback so f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066680" y="1905120"/>
            <a:ext cx="807732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on HRBA to improve water access and govern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ts needs and priorit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novative cross-practice water governance &amp; human righ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s infrastructure fo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90720" y="457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ater Governance Facility Pilot Projec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ndo District, Ke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1066680" y="2133720"/>
            <a:ext cx="80773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itiative to improve accountability in water s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ablish feedback and complaint redress mechanisms  particularly at the local communit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rengthen capacity of water actors to  understand and participate effectively in the water sector reform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rove information sharing and dissemination to local level actors for effective engagement with sector reform proces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rtn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066680" y="2133720"/>
            <a:ext cx="7734600" cy="59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DP-Keny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enya Water and Health Organization (KWAH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istry of Water and Irrigation, Lake Victoria South Water Services Board (LWSWS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enya Anti-Corruption Commission (KAC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enya National Human Rights Commission (KNCH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ssu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66680" y="2133720"/>
            <a:ext cx="773460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or access to safe water for domestic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ruption (lack of information, bribery, overcharging, theft, vandalism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 capacity of both DBs and RHs to implement sector ref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lying HRB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90720" y="1676520"/>
            <a:ext cx="773424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usality analysis: analysis of hierarchy of caus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Role/patterns analysis: delineating the relationship between claim holders and duty bear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pacity, gap analysis: identifying what constrains ability of RHs to claim rights and DBs to fulfill their obliga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Identification of priorities for ac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rogramme desig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ce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66680" y="1905120"/>
            <a:ext cx="77346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Baseline assess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Governance regimes and acto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Strengths and gaps in governance process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apacity assess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Identify capacity gaps of RHs and DBs in relation to RTW criteria and sector constrai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orruption and complaint/redress mechanism assess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Low awareness, non-involvement, no redress mechanis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ject Activiti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66680" y="2133720"/>
            <a:ext cx="773460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wareness raising campa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dress: platform for dialogue and complain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 results and impac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66680" y="2133720"/>
            <a:ext cx="77346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nge in consumer attitude … entitlement and responsibility … ownership and empower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gagement of regulator and service provider with consum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roved relationships between regulator, service provider, consumer towards coop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RBA – UN Common Under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066680" y="1828800"/>
            <a:ext cx="80773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ll programmes of development co-operation, policies and technical assistance should further the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 realisation of human rights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Human rights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standards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contained in, and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principles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derived from, the Universal Declaration of Human Rights and other international human rights instruments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guide all development cooperation and programming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in all sectors and in all phases of the programming process.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evelopment cooperation contributes to the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development of the capacities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‘duty-bearers’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to meet their obligations and/or of ‘</a:t>
            </a:r>
            <a:r>
              <a:rPr b="0" i="1" lang="en-GB" sz="2200" spc="-1" strike="noStrike">
                <a:solidFill>
                  <a:srgbClr val="ffffff"/>
                </a:solidFill>
                <a:latin typeface="Tahoma"/>
              </a:rPr>
              <a:t>rights-holders’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to claim their rights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 challenges &amp; shortcom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066680" y="2133720"/>
            <a:ext cx="77346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traints of all-around weak capac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stainability issue: need to institutionalize the dialogue platform and redress mechan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eneric issue: how to work with RBA and the informal water service s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RBA principles identifi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066680" y="2133720"/>
            <a:ext cx="77346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ality and inalien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vi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-dependence and inter-related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ality and non-discrimin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tion and incl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untability and rule of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990720" y="457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CIS Regional HRBA – Water Governance Programm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66680" y="1828800"/>
            <a:ext cx="773460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: Access to WSS for 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ss-cutting programming in water governance &amp; right to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 development support to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s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ford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ty and allocation (availabili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boundary wa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rget: marginalized and vulnerable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utcomes aimed f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066680" y="2133720"/>
            <a:ext cx="77346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 governance considerations incorporated into national development framewo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logues and processes at local, national and transboundary levels better address key water and sanitation challe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d protection and promotion of human rights, as relevant to the water s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ree step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066680" y="2133720"/>
            <a:ext cx="77346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ase 1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k review of key challenges and country sel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line assessment, standard checkli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abling environment, institutional frame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ing programmes and prior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1066680" y="2133720"/>
            <a:ext cx="7734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ase 2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ntry scoping mission,  sector assessment, project op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keholder consul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-depth situation &amp; gaps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 options form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nerships and resources mobil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ase 3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 implementation, M&amp;E, repor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snia and Herzegovi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066680" y="2133720"/>
            <a:ext cx="807732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Water rich,  grave problems affecting water suppl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nfrastructure old and crumbling, water utilities heavily indebted, local government is failing to perform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ervices are not meeting citizens’ legitimate expecta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ittle civic culture of respect for the natural environ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wareness of the rights and responsibilities of citizens in relation to the obligations of public sector very poorly develop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990720" y="457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H Interven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066680" y="2133720"/>
            <a:ext cx="807732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 Rights &amp; Responsibilities Awareness Campaign / Capacity Building (joint UNDP-UNICEF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ng a Water Loss Detection Plan and training local government personn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ing water delivery of internally displaced persons (IDP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4:45:33Z</dcterms:created>
  <dc:creator>user</dc:creator>
  <dc:description/>
  <dc:language>en-US</dc:language>
  <cp:lastModifiedBy>Inga Winkler</cp:lastModifiedBy>
  <dcterms:modified xsi:type="dcterms:W3CDTF">2010-05-18T13:46:51Z</dcterms:modified>
  <cp:revision>92</cp:revision>
  <dc:subject/>
  <dc:title>Slide 1</dc:title>
</cp:coreProperties>
</file>