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6FF-F4AC-4FF6-842D-6A2E649E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A0DC-C63F-4776-A7DB-41905CE95C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666C-B86B-46F1-9DE9-41FF0469AB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A08-FAD5-4E94-A49F-CFB6897E9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691-B71F-46D0-A6BF-5E686E859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A35-368C-45E7-B204-79E4D0D6A9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7510-B813-49F4-9614-C8BCBE5478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34C9-52DE-488E-B512-0D34EB005D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669-F2CC-4B89-BF0D-6657609D3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362-E3B2-4F0F-AD56-E71912873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C3D2-ADFD-4EAB-A73E-1D1460B46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FE8-C355-4701-B3B0-9271110AE2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15EA-40A5-44B7-A37C-A070BA8645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8108-09DD-4BC7-8A45-ACEF809D8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D636-CF3D-4B46-AF24-202B85A43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942F-E5DD-4557-BDDB-ACFD5470D4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058F-B96A-4ED8-9A72-81DCAD8148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882-D81B-46B7-8214-D809052504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6CC-E56D-4F84-9138-16373B6D5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E6CC-48F3-4476-8C30-99A4E0174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037F-6032-41F6-BCFD-2E41457999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051-20AD-4487-A6A2-846EB017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D98-6BDF-4161-8585-D10AB653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CDC-E685-4796-9EF9-60183943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FEA-9E71-490F-B365-B9A9B353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178-B232-45CB-9C54-FA0605AA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F9E-C346-4D6E-A3D3-D2C52C11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133-5C72-4DFF-A705-6C497CC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28D-39E8-44E0-BF57-8741381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917-3864-48A6-B945-FF6EB7B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4C6-7053-490E-A986-A7091F4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7C3-CACE-4B4D-9A3C-5582E552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A93-2AE9-444E-ADF0-998C46F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4ED4-6BBA-4F0E-8C5E-815CBCA280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68" name="Picture 21" descr="image001"/>
          <p:cNvPicPr/>
          <p:nvPr/>
        </p:nvPicPr>
        <p:blipFill>
          <a:blip r:embed="rId2"/>
          <a:stretch/>
        </p:blipFill>
        <p:spPr>
          <a:xfrm>
            <a:off x="88920" y="216000"/>
            <a:ext cx="687240" cy="1390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E Consultation May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066680" y="2133720"/>
            <a:ext cx="77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DP Water Governance Program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uman Rights Based Approach to Improving Water Gover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gional Programme E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lot Project Bondo, Ke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mative criter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066680" y="1895400"/>
            <a:ext cx="77346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ility: Water Loss Detection Pl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: improved access to safe water for internally displaced persons (IDP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tiy/safety: Water Loss Detection Pl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oss-cutting criter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66680" y="1905120"/>
            <a:ext cx="807732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discrimination: identification of vulnerable groups – targeting ID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ion: participatory design of awareness raising campa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ability: improved understanding of rights, responsibilities, redress mechanisms (assumption: knowledge empowers a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Impact: empowerment leading to better acc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ustainability: through involvement &amp; ownership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edback so f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66680" y="1905120"/>
            <a:ext cx="807732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on HRBA to improve water access and gover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ts needs and prior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novative cross-practice water governance &amp; human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s infrastructure fo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9072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ter Governance Facility Pilot Proj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ndo District, Ke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66680" y="2133720"/>
            <a:ext cx="80773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itiative to improve accountability in water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ablish feedback and complaint redress mechanisms  particularly at the local communit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en capacity of water actors to  understand and participate effectively in the water sector refor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rove information sharing and dissemination to local level actors for effective engagement with sector reform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tn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066680" y="2133720"/>
            <a:ext cx="773460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DP-Ke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nya Water and Health Organization (KWAH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ry of Water and Irrigation, Lake Victoria South Water Services Board (LWSWS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nya Anti-Corruption Commission (KAC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nya National Human Rights Commission (KNCH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su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66680" y="2133720"/>
            <a:ext cx="77346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or access to safe water for domestic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ruption (lack of information, bribery, overcharging, theft, vandalism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 capacity of both DBs and RHs to implement sector ref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ying HR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90720" y="1676520"/>
            <a:ext cx="773424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usality analysis: analysis of hierarchy of caus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Role/patterns analysis: delineating the relationship between claim holders and duty bear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pacity, gap analysis: identifying what constrains ability of RHs to claim rights and DBs to fulfill their obliga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Identification of priorities for a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ogramme desig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66680" y="1905120"/>
            <a:ext cx="7734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Baseline assess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Governance regimes and acto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rengths and gaps in governance process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pacity assess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Identify capacity gaps of RHs and DBs in relation to RTW criteria and sector constrai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orruption and complaint/redress mechanism assess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Low awareness, non-involvement, no redress mechanis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ject Activi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66680" y="2133720"/>
            <a:ext cx="773460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wareness raising campa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ress: platform for dialogue and compla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results and impac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66680" y="2133720"/>
            <a:ext cx="77346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nge in consumer attitude … entitlement and responsibility … ownership and empower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gagement of regulator and service provider with consu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roved relationships between regulator, service provider, consumer towards co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RBA – UN Common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66680" y="1828800"/>
            <a:ext cx="8077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ll programmes of development co-operation, policies and technical assistance should further the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 realisation of human right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uman rights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standards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ontained in, and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principle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derived from, the Universal Declaration of Human Rights and other international human rights instruments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guide all development cooperation and programming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in all sectors and in all phases of the programming process.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evelopment cooperation contributes to the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development of the capacitie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‘duty-bearers’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to meet their obligations and/or of ‘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rights-holders’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to claim their right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challenges &amp; shortcom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66680" y="2133720"/>
            <a:ext cx="77346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traints of all-around weak capac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stainability issue: need to institutionalize the dialogue platform and redress mech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ric issue: how to work with RBA and the informal water service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RBA principles identifi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066680" y="2133720"/>
            <a:ext cx="77346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ality and inalien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vi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-dependence and inter-related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ity and non-discrim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ion and incl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ability and rule of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99072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IS Regional HRBA – Water Governance Program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66680" y="1828800"/>
            <a:ext cx="77346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: Access to WSS for 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-cutting programming in water governance &amp; right to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development support to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ord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 and allocation (availabil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boundary wa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rget: marginalized and vulnerable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utcomes aimed 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066680" y="2133720"/>
            <a:ext cx="77346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governance considerations incorporated into national development frame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logues and processes at local, national and transboundary levels better address key water and sanitation challe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d protection and promotion of human rights, as relevant to the water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ste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66680" y="2133720"/>
            <a:ext cx="77346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1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k review of key challenges and country s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line assessment, standard check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abling environment, institutional frame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ing programmes and pri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1066680" y="2133720"/>
            <a:ext cx="773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ry scoping mission,  sector assessment, project op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 consul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-depth situation &amp; gaps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options form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nerships and resources mobil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implementation, M&amp;E,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snia and Herzegov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66680" y="2133720"/>
            <a:ext cx="80773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Water rich,  grave problems affecting water supp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nfrastructure old and crumbling, water utilities heavily indebted, local government is failing to perfor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ervices are not meeting citizens’ legitimate expecta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ittle civic culture of respect for the natural environ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wareness of the rights and responsibilities of citizens in relation to the obligations of public sector very poorly develop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H Interven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066680" y="2133720"/>
            <a:ext cx="80773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Rights &amp; Responsibilities Awareness Campaign / Capacity Building (joint UNDP-UNICEF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a Water Loss Detection Plan and training local government personn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ng water delivery of internally displaced persons (IDP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4:45:33Z</dcterms:created>
  <dc:creator>user</dc:creator>
  <dc:description/>
  <dc:language>en-US</dc:language>
  <cp:lastModifiedBy>Inga Winkler</cp:lastModifiedBy>
  <dcterms:modified xsi:type="dcterms:W3CDTF">2010-05-18T13:46:51Z</dcterms:modified>
  <cp:revision>92</cp:revision>
  <dc:subject/>
  <dc:title>Slide 1</dc:title>
</cp:coreProperties>
</file>