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93600" y="777960"/>
            <a:ext cx="509616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lyph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5680" cy="45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4017960" y="0"/>
            <a:ext cx="30672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672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4017960" y="9720360"/>
            <a:ext cx="30672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B5BBF-A9B1-41FD-A1BC-162AC3BAEAC3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5"/>
          <p:cNvSpPr/>
          <p:nvPr/>
        </p:nvSpPr>
        <p:spPr>
          <a:xfrm>
            <a:off x="4017960" y="9720360"/>
            <a:ext cx="3067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C1C72-0C27-44BA-AD64-80C87D8D6F60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039680" y="777960"/>
            <a:ext cx="5008680" cy="38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8CE-174A-4D0E-BE79-66049A10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906804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079520"/>
            <a:ext cx="906804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289-B227-4DD0-BD49-ADC29AE1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07952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8160" y="407952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8F0-5017-4185-80F2-866A98DD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7400" y="180828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180828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07952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7400" y="407952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07952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8B4-A450-47EA-9D0D-EB24F832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D87-5EBF-4890-ADE9-C629955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71F-050A-4AFF-98F9-80292F2D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4F6-174E-47C5-9CF9-2E42C14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CE2-7066-4625-A94C-FBB5D39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063-9DE0-48DD-B7ED-CCC088D8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07952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B8D-0421-4D6E-8B62-074C328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8160" y="407952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EB7-102B-4292-B4CF-82B154B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079520"/>
            <a:ext cx="906804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EAD-1F86-4640-916A-C8942960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503280" y="0"/>
            <a:ext cx="1069344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lyph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70308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703080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427360" y="70308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Glypha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08BD0C-9AAC-426C-8A7A-C8CA028B7145}" type="slidenum">
              <a:rPr b="0" lang="de-DE" sz="1400" spc="-1" strike="noStrike">
                <a:solidFill>
                  <a:srgbClr val="000000"/>
                </a:solidFill>
                <a:latin typeface="Glyph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 rot="21420000">
            <a:off x="472680" y="505800"/>
            <a:ext cx="845352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Glypha"/>
              </a:rPr>
              <a:t>WASH United – using football to advocate for the rights to water and sanitation </a:t>
            </a:r>
            <a:endParaRPr b="1" lang="en-US" sz="36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2284200"/>
            <a:ext cx="795636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60" name="Grafik 3" descr="Team of champions and partners.JPG"/>
          <p:cNvPicPr/>
          <p:nvPr/>
        </p:nvPicPr>
        <p:blipFill>
          <a:blip r:embed="rId1"/>
          <a:srcRect l="0" t="14096" r="0" b="8552"/>
          <a:stretch/>
        </p:blipFill>
        <p:spPr>
          <a:xfrm rot="21420000">
            <a:off x="-200160" y="1955880"/>
            <a:ext cx="1018080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83" name="Picture 2" descr="C:\Dokumente und Einstellungen\Thorsten Kiefer\Eigene Dateien\My Dropbox\WASH United 2\Promotional Materials\Webassets\african water week\IMG_1333_small.jpg"/>
          <p:cNvPicPr/>
          <p:nvPr/>
        </p:nvPicPr>
        <p:blipFill>
          <a:blip r:embed="rId1"/>
          <a:stretch/>
        </p:blipFill>
        <p:spPr>
          <a:xfrm>
            <a:off x="2664000" y="179280"/>
            <a:ext cx="46638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85" name="Picture 7" descr="C:\Dokumente und Einstellungen\Thorsten Kiefer\Desktop\Stockholm 2010\Materials donor meet\Photo gallery\3 - South African Water Minister.JPG"/>
          <p:cNvPicPr/>
          <p:nvPr/>
        </p:nvPicPr>
        <p:blipFill>
          <a:blip r:embed="rId1"/>
          <a:stretch/>
        </p:blipFill>
        <p:spPr>
          <a:xfrm>
            <a:off x="7201080" y="1619280"/>
            <a:ext cx="2592360" cy="388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kumente und Einstellungen\Thorsten Kiefer\Desktop\BfdW - COHRE - IE\BfdW All\WASH United\Political Support\Willem Alexander and African Ministers\Fotos\23 - Prince of Orange.JPG"/>
          <p:cNvPicPr/>
          <p:nvPr/>
        </p:nvPicPr>
        <p:blipFill>
          <a:blip r:embed="rId2"/>
          <a:stretch/>
        </p:blipFill>
        <p:spPr>
          <a:xfrm>
            <a:off x="0" y="1619280"/>
            <a:ext cx="2592360" cy="388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kumente und Einstellungen\Thorsten Kiefer\Desktop\Stockholm 2010\Pictures\Bai-Mass Taal.JPG"/>
          <p:cNvPicPr/>
          <p:nvPr/>
        </p:nvPicPr>
        <p:blipFill>
          <a:blip r:embed="rId3"/>
          <a:stretch/>
        </p:blipFill>
        <p:spPr>
          <a:xfrm>
            <a:off x="3527280" y="179280"/>
            <a:ext cx="2521080" cy="3360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kumente und Einstellungen\Thorsten Kiefer\Desktop\Stockholm 2010\Pictures\Mutagamba.JPG"/>
          <p:cNvPicPr/>
          <p:nvPr/>
        </p:nvPicPr>
        <p:blipFill>
          <a:blip r:embed="rId4"/>
          <a:stretch/>
        </p:blipFill>
        <p:spPr>
          <a:xfrm>
            <a:off x="3527280" y="385128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90" name="Picture 2" descr="C:\Dokumente und Einstellungen\Thorsten Kiefer\Desktop\BfdW - COHRE - IE\BfdW All\WASH United\Standard Docs\PPTs\UN consultation\IMG_0933.JPG"/>
          <p:cNvPicPr/>
          <p:nvPr/>
        </p:nvPicPr>
        <p:blipFill>
          <a:blip r:embed="rId1"/>
          <a:stretch/>
        </p:blipFill>
        <p:spPr>
          <a:xfrm>
            <a:off x="0" y="324000"/>
            <a:ext cx="4464000" cy="595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kumente und Einstellungen\Thorsten Kiefer\Desktop\Stockholm 2010\Pictures\IMG_0942.JPG"/>
          <p:cNvPicPr/>
          <p:nvPr/>
        </p:nvPicPr>
        <p:blipFill>
          <a:blip r:embed="rId2"/>
          <a:stretch/>
        </p:blipFill>
        <p:spPr>
          <a:xfrm>
            <a:off x="5256360" y="900000"/>
            <a:ext cx="45464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Results WASH United campaign: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31280" y="1402920"/>
            <a:ext cx="90680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lypha"/>
              </a:rPr>
              <a:t>In less than 4 months, WASH United has directly reached more than 70,000 people with events and activities across Africa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1280" indent="-341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lypha"/>
              </a:rPr>
              <a:t>More than 27,000 people (mostly children) have joined the WASH United Club and committed to practising good WASH behaviour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1280" indent="-341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lypha"/>
              </a:rPr>
              <a:t>Ca. 13.5 million people have been reached through poster and media campaigns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Results re RTWS advocacy: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0360" y="1763640"/>
            <a:ext cx="9067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Political support for RTWS in Germany: ruling parties and the Green Party have submitted appeals to Parliament re RTWS; government appeal explicitly referring to WASH United.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More than 50 political decision makers have agreed to become Champions for WASH United, including more than 20 Ministers, Kofi Annan, Desmond Tutu, etc. Follow up now. 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Challenges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lypha"/>
              </a:rPr>
              <a:t>Moving beyond recognition: 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Nationally: engage with governments to facilitate national legal and policy reform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Challenge: capacity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InternationallyMainstreaming the RTWS into the UN human rights system: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Support amending of reporting guidIdentify focal points at Treaty Bodies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99" name="Inhaltsplatzhalter 3" descr="DSC_3658.jpg"/>
          <p:cNvPicPr/>
          <p:nvPr/>
        </p:nvPicPr>
        <p:blipFill>
          <a:blip r:embed="rId1"/>
          <a:stretch/>
        </p:blipFill>
        <p:spPr>
          <a:xfrm>
            <a:off x="2519280" y="179280"/>
            <a:ext cx="46576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What is WASH United?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1280" y="1474920"/>
            <a:ext cx="90680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15000"/>
              </a:lnSpc>
              <a:spcAft>
                <a:spcPts val="14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lypha"/>
              </a:rPr>
              <a:t>WASH United </a:t>
            </a:r>
            <a:r>
              <a:rPr b="0" lang="de-DE" sz="2800" spc="-1" strike="noStrike">
                <a:solidFill>
                  <a:srgbClr val="000000"/>
                </a:solidFill>
                <a:latin typeface="Glypha"/>
              </a:rPr>
              <a:t>uses the positive power of football and the role model status of football stars to promote safe drinking water, sanitation and hygiene for all. </a:t>
            </a:r>
            <a:endParaRPr b="0" lang="en-US" sz="2800" spc="-1" strike="noStrike">
              <a:solidFill>
                <a:srgbClr val="000000"/>
              </a:solidFill>
              <a:latin typeface="Glypha"/>
            </a:endParaRPr>
          </a:p>
          <a:p>
            <a:pPr>
              <a:lnSpc>
                <a:spcPct val="115000"/>
              </a:lnSpc>
              <a:spcAft>
                <a:spcPts val="14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lypha"/>
              </a:rPr>
              <a:t>WASH United is a Club</a:t>
            </a:r>
            <a:r>
              <a:rPr b="0" lang="de-DE" sz="2800" spc="-1" strike="noStrike">
                <a:solidFill>
                  <a:srgbClr val="000000"/>
                </a:solidFill>
                <a:latin typeface="Glypha"/>
              </a:rPr>
              <a:t> – everyone (football stars, political decision makers, organizations, ordinary people) is encouraged to join and become a Champion for WASH!</a:t>
            </a:r>
            <a:endParaRPr b="0" lang="en-US" sz="28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63" name="Grafik 6" descr="join-wide_03.jpg"/>
          <p:cNvPicPr/>
          <p:nvPr/>
        </p:nvPicPr>
        <p:blipFill>
          <a:blip r:embed="rId1"/>
          <a:srcRect l="852" t="0" r="0" b="29082"/>
          <a:stretch/>
        </p:blipFill>
        <p:spPr>
          <a:xfrm rot="21420000">
            <a:off x="-342720" y="5653080"/>
            <a:ext cx="83394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Goals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1280" y="1592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15000"/>
              </a:lnSpc>
              <a:spcAft>
                <a:spcPts val="1400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Promote handwashing with soap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at critical times;</a:t>
            </a:r>
            <a:endParaRPr b="0" lang="en-US" sz="30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115000"/>
              </a:lnSpc>
              <a:spcAft>
                <a:spcPts val="1400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Tackle taboos related to sanitation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and create demand for sanitation services;</a:t>
            </a:r>
            <a:endParaRPr b="0" lang="en-US" sz="30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115000"/>
              </a:lnSpc>
              <a:spcAft>
                <a:spcPts val="1400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Advocate for the full recognition and implementation of the human right to water and sanitation. </a:t>
            </a:r>
            <a:endParaRPr b="0" lang="en-US" sz="30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66" name="Grafik 4" descr="3icons_01.jpg"/>
          <p:cNvPicPr/>
          <p:nvPr/>
        </p:nvPicPr>
        <p:blipFill>
          <a:blip r:embed="rId1"/>
          <a:stretch/>
        </p:blipFill>
        <p:spPr>
          <a:xfrm rot="21420000">
            <a:off x="7128000" y="1663560"/>
            <a:ext cx="3168360" cy="13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Advocacy activities and materials for South and North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lypha"/>
              </a:rPr>
              <a:t>Poster campaigns in Germany and in 8 African countries;</a:t>
            </a:r>
            <a:endParaRPr b="0" lang="en-US" sz="36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lypha"/>
              </a:rPr>
              <a:t>Public Service Announcements;</a:t>
            </a:r>
            <a:endParaRPr b="0" lang="en-US" sz="36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lypha"/>
              </a:rPr>
              <a:t>Country Briefing Papers on RTWS;</a:t>
            </a:r>
            <a:endParaRPr b="0" lang="en-US" sz="36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lypha"/>
              </a:rPr>
              <a:t>Direct engagement with political decision-makers at national and international level.</a:t>
            </a:r>
            <a:endParaRPr b="0" lang="en-US" sz="36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2505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Poster campaigns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70" name="Picture 2" descr="C:\Dokumente und Einstellungen\Thorsten Kiefer\Desktop\UN consultation\Drogba Human Right.jpg"/>
          <p:cNvPicPr/>
          <p:nvPr/>
        </p:nvPicPr>
        <p:blipFill>
          <a:blip r:embed="rId1"/>
          <a:stretch/>
        </p:blipFill>
        <p:spPr>
          <a:xfrm>
            <a:off x="719280" y="1474920"/>
            <a:ext cx="3965400" cy="551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kumente und Einstellungen\Thorsten Kiefer\Desktop\UN consultation\Pitroipa Droit de'l homme.jpg"/>
          <p:cNvPicPr/>
          <p:nvPr/>
        </p:nvPicPr>
        <p:blipFill>
          <a:blip r:embed="rId2"/>
          <a:stretch/>
        </p:blipFill>
        <p:spPr>
          <a:xfrm>
            <a:off x="5688000" y="611280"/>
            <a:ext cx="36003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73" name="Inhaltsplatzhalter 4" descr="IMG_0750.JPG"/>
          <p:cNvPicPr/>
          <p:nvPr/>
        </p:nvPicPr>
        <p:blipFill>
          <a:blip r:embed="rId1"/>
          <a:stretch/>
        </p:blipFill>
        <p:spPr>
          <a:xfrm>
            <a:off x="1011240" y="539640"/>
            <a:ext cx="7318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75" name="Inhaltsplatzhalter 3" descr="100 most influential people in the world.jpg"/>
          <p:cNvPicPr/>
          <p:nvPr/>
        </p:nvPicPr>
        <p:blipFill>
          <a:blip r:embed="rId1"/>
          <a:stretch/>
        </p:blipFill>
        <p:spPr>
          <a:xfrm>
            <a:off x="863640" y="395280"/>
            <a:ext cx="3960720" cy="5376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kumente und Einstellungen\Thorsten Kiefer\Desktop\UN consultation\Drogba Human Right.jpg"/>
          <p:cNvPicPr/>
          <p:nvPr/>
        </p:nvPicPr>
        <p:blipFill>
          <a:blip r:embed="rId2"/>
          <a:stretch/>
        </p:blipFill>
        <p:spPr>
          <a:xfrm>
            <a:off x="5616720" y="395280"/>
            <a:ext cx="38163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Using football to directly engage with political decision maker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World Toilet Cup</a:t>
            </a:r>
            <a:r>
              <a:rPr b="1" lang="de-DE" sz="3600" spc="-1" strike="noStrike">
                <a:solidFill>
                  <a:srgbClr val="000000"/>
                </a:solidFill>
                <a:latin typeface="Glyph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1280" y="1331640"/>
            <a:ext cx="90680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81" name="Picture 2" descr="C:\Dokumente und Einstellungen\Thorsten Kiefer\Desktop\Country pictures\Kenya\Kenya Public Viewing\PSE1\DSC_3353.jpg"/>
          <p:cNvPicPr/>
          <p:nvPr/>
        </p:nvPicPr>
        <p:blipFill>
          <a:blip r:embed="rId1"/>
          <a:stretch/>
        </p:blipFill>
        <p:spPr>
          <a:xfrm>
            <a:off x="863640" y="1547640"/>
            <a:ext cx="712944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3:57:37Z</dcterms:created>
  <dc:creator/>
  <dc:description/>
  <dc:language>en-US</dc:language>
  <cp:lastModifiedBy>Daniel Spalthoff</cp:lastModifiedBy>
  <dcterms:modified xsi:type="dcterms:W3CDTF">2010-10-11T08:13:11Z</dcterms:modified>
  <cp:revision>170</cp:revision>
  <dc:subject/>
  <dc:title>Core Group Meeting</dc:title>
</cp:coreProperties>
</file>