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E1EA52-8D37-4A18-88C1-3C9D92EF14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887D42-98CB-4B0D-8209-6B683B9C1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39480" y="3330720"/>
            <a:ext cx="68166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88E-0281-4B4B-B4A9-659756C6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428-FF80-4958-8889-3E730BE5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E6C-A7E9-4F54-98B2-E991A1AD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F64-9094-4AE6-8047-45BC8D3C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FB6-30F9-4E82-BC58-29A2D1E7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74E-E74F-4E5C-9CFA-3C435B7B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52E-E013-4178-A5BD-54F8022E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062-0CF8-475A-8CF3-32B7890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17A-200D-44FC-8019-0983B506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1DA-ECFC-4670-B2CE-30E5E6EB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8B9-8E8A-49FE-A25A-5AFDB91B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431-46D0-47C2-A5EB-FEEEA72F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ernhardMo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ernhardMo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nhardMod B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BF4D-B9EA-437F-925A-69E394E7F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Human Rights Perspectiv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LTS</a:t>
            </a: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(Community Led Total Sani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ahoma"/>
              </a:rPr>
              <a:t>Presentation b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Shaikh A. Hal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halim@verc.or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4880" y="6253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Lessons lear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990720"/>
            <a:ext cx="8534520" cy="46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hift from the old mind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mand responsive other than extending absolute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ppropriate, low-cost and locally innovat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bsidy not needed on household sanitation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cal entrepreneurs in the appropriate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omen’s situation / privacy e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"/>
              </a:lnSpc>
              <a:spcBef>
                <a:spcPts val="1800"/>
              </a:spcBef>
              <a:spcAft>
                <a:spcPts val="18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ctive involvement of Local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0" t="6200" r="0" b="0"/>
          <a:stretch/>
        </p:blipFill>
        <p:spPr>
          <a:xfrm>
            <a:off x="4952880" y="479520"/>
            <a:ext cx="33530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2914560"/>
            <a:ext cx="33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 Mapping of WatSan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867280"/>
            <a:ext cx="33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observation on Poverty Re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847960"/>
            <a:ext cx="33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d public place sanitation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952880" y="3352680"/>
            <a:ext cx="358164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58672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hand washing session with girl stud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4556160" cy="475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57800" y="34308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56386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fordable technology support to people with disabi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9718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volvement of students in hygiene promo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9436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lescent group meeting on reproductive hygi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4" descr=""/>
          <p:cNvPicPr/>
          <p:nvPr/>
        </p:nvPicPr>
        <p:blipFill>
          <a:blip r:embed="rId4"/>
          <a:stretch/>
        </p:blipFill>
        <p:spPr>
          <a:xfrm>
            <a:off x="5257800" y="327672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90920" y="3068640"/>
            <a:ext cx="4190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1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82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Organisational Profi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647360" y="6324480"/>
            <a:ext cx="696276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514600"/>
            <a:ext cx="914400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Vision                           :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A self-reliant society based on justice equity and  sustainability where every human being has equal opportunity to maximize their potential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400" y="139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me of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organisation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illage Education Resource Center (VE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0" y="1814400"/>
            <a:ext cx="9144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4560" indent="-291456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743200"/>
                <a:tab algn="l" pos="2914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ar of Emergence     : 1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86200"/>
            <a:ext cx="91854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ission                         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stablish and promote a dynamic and participator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ustainable process towards human develop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914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Main interventions         : WatSan &amp; Technology, Education, Health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Training &amp; Communication, IBIG, Research,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valuation and Document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4880" y="91440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3148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ables the community analyzing its own sanitation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ads to collective action towards ODF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approach has proved to be a good practice that covers human rights considerations towards improved access to safe water, sanitation and hygiene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he approach put people at the forefront, enables them by installing capacity in them so that they can feel that their views are important to initiate a process of desired change in the WatSan and hygiene scenario by raising the question how they look at it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33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Arial"/>
              </a:rPr>
              <a:t>CLTS refers to Community Led Total Sanitation</a:t>
            </a:r>
            <a:r>
              <a:rPr b="1" lang="en-GB" sz="4400" spc="-1" strike="noStrike">
                <a:solidFill>
                  <a:srgbClr val="99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2209680"/>
            <a:ext cx="83818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100% use of hygienic latrines i.e. no open defe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ood personal hygiene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fe water use for all domestic purpo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ater points well manag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100% Sanitation as viewed by Community People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9907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Key Principles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76312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rgeting total coverage for (100%) sanitatio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inclusiveness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cial development not service delivery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afford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zation of Social Capital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sustain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nitation should not be a charity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Human Rights prior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nu of Technology options based on affordability status of households 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agement of LGIs to steer the process for long term sustainability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cognition and promotion of indigenous knowledge, values and tradition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ttom-up process replaces the top down planning process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xploring local skills, technologies, norms/values and promote (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ustainability)</a:t>
            </a:r>
            <a:endParaRPr b="0" lang="en-US" sz="20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4880" y="91440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Pre-CLTS Scenario</a:t>
            </a:r>
            <a:endParaRPr b="0" lang="en-US" sz="28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ople not consulted in planning interventions for sanitatio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otal coverage was not the issue without which sanitation is meaningless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pply drive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rvice &amp; Target oriented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cribed limited technology options on practice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ocial accountability was not in place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or, poorest vulnerable people were not in the focus of attention</a:t>
            </a:r>
            <a:endParaRPr b="0" lang="en-US" sz="2800" spc="-1" strike="noStrike">
              <a:solidFill>
                <a:srgbClr val="ffffff"/>
              </a:solidFill>
              <a:latin typeface="BernhardMod BT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300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tail of Steps and Stages of the Process</a:t>
            </a:r>
            <a:endParaRPr b="0" lang="en-US" sz="24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7760" y="1066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ernhardMod B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ransect and Rapport building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entification of Key informants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ate and time fixation for meeting in the community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ernhardMod BT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4880" y="76212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13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 into a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349360"/>
            <a:ext cx="1752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2413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zation of a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20968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cial Ma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asonality tre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ell being ranking through F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ann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sentation and situation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962520"/>
            <a:ext cx="6019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ecation site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lculation of fec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low Diagram of fe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u of hygienic latrine technology o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otal coverage taken as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581280"/>
            <a:ext cx="2438280" cy="236232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rigg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I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Uniqueness of the Approach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14300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eople’s participation in the entire PIME (Planning, Implementation, Monitoring and Evaluation) process  to emphasize on  motivational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ngagement of all segment of communit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Looks at WatSan and Hygiene Education as a Human Rights packag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tal coverage (household, public place and instit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A sense of ownership in community people supports sus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37720" y="640080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4880" y="86508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04880" y="865080"/>
            <a:ext cx="78296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4624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Times New Roman"/>
              </a:rPr>
              <a:t>Challenges ahead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66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74880"/>
            <a:ext cx="84582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bsidy Vs. community 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Decline of water table in the northern region and arsenic contamination of ground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Support for software, hardware, research, studies, innov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Effective coverage in public place and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37720" y="6324480"/>
            <a:ext cx="7496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0:00:14Z</dcterms:created>
  <dc:creator>S. M. Atiqur Rahman</dc:creator>
  <dc:description/>
  <dc:language>en-US</dc:language>
  <cp:lastModifiedBy>Ruben</cp:lastModifiedBy>
  <dcterms:modified xsi:type="dcterms:W3CDTF">2010-09-10T09:42:56Z</dcterms:modified>
  <cp:revision>517</cp:revision>
  <dc:subject/>
  <dc:title>PowerPoint Presentation</dc:title>
</cp:coreProperties>
</file>