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1AEC79-DC5D-4ADA-8E76-9A4BBC6B8D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22F63A-F892-4AB9-8C7B-5C0B11483B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B62-5290-4C66-AC24-9471B808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89C-6288-4C83-8F02-9B3D5C52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D9E0-F436-4E8E-91F1-7CC24270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A36-9DF9-4647-888B-E874243D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3D8C-4B9E-4FBB-9EBD-8F251D06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470-375E-4492-A38F-390F174E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63F0-0FC9-461E-A571-AD50765C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AAB-D1C0-4B4F-937C-622DCCB5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9B6-7368-44C2-BEAB-C50DB2DE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B16-0488-41A9-8946-D9234823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ED3-E40A-427C-A053-9A564332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A1D-D1AB-434A-9A14-300B66F2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ernhardMo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ernhardMo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BernhardMo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ernhardMo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ernhardMo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3085-409E-4DDE-9817-1C5E315F5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581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837720" y="6324480"/>
            <a:ext cx="7496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2388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Human Rights Perspectiv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CLTS</a:t>
            </a:r>
            <a:r>
              <a:rPr b="1" lang="en-US" sz="3600" spc="-1" strike="noStrike">
                <a:solidFill>
                  <a:srgbClr val="990000"/>
                </a:solidFill>
                <a:latin typeface="Tahoma"/>
              </a:rPr>
              <a:t>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(Community Led Total Sanit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ahoma"/>
              </a:rPr>
              <a:t>Presentation by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Shaikh A. Hal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halim@verc.or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anglade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04880" y="625320"/>
            <a:ext cx="78296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Lessons learn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990720"/>
            <a:ext cx="8534520" cy="46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"/>
              </a:lnSpc>
              <a:spcBef>
                <a:spcPts val="1800"/>
              </a:spcBef>
              <a:spcAft>
                <a:spcPts val="18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hift from the old mind 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"/>
              </a:lnSpc>
              <a:spcBef>
                <a:spcPts val="1800"/>
              </a:spcBef>
              <a:spcAft>
                <a:spcPts val="18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Demand responsive other than extending absolute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"/>
              </a:lnSpc>
              <a:spcBef>
                <a:spcPts val="1800"/>
              </a:spcBef>
              <a:spcAft>
                <a:spcPts val="18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ppropriate, low-cost and locally innovate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"/>
              </a:lnSpc>
              <a:spcBef>
                <a:spcPts val="1800"/>
              </a:spcBef>
              <a:spcAft>
                <a:spcPts val="18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ubsidy not needed on household sanitation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"/>
              </a:lnSpc>
              <a:spcBef>
                <a:spcPts val="1800"/>
              </a:spcBef>
              <a:spcAft>
                <a:spcPts val="18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Local entrepreneurs in the appropriate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"/>
              </a:lnSpc>
              <a:spcBef>
                <a:spcPts val="1800"/>
              </a:spcBef>
              <a:spcAft>
                <a:spcPts val="18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Women’s situation / privacy en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"/>
              </a:lnSpc>
              <a:spcBef>
                <a:spcPts val="1800"/>
              </a:spcBef>
              <a:spcAft>
                <a:spcPts val="18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ctive involvement of Local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837720" y="6324480"/>
            <a:ext cx="7496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3429000" cy="2568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rcRect l="0" t="6200" r="0" b="0"/>
          <a:stretch/>
        </p:blipFill>
        <p:spPr>
          <a:xfrm>
            <a:off x="4952880" y="479520"/>
            <a:ext cx="3353040" cy="2359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2914560"/>
            <a:ext cx="336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 Mapping of WatSan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5867280"/>
            <a:ext cx="33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observation on Poverty Re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2847960"/>
            <a:ext cx="336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d public place sanitation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952880" y="3352680"/>
            <a:ext cx="3581640" cy="2517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952880" y="58672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hand washing session with girl stude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4556160" cy="4753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257800" y="34308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8600" y="56386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fordable technology support to people with disabi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297180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nvolvement of students in hygiene promo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594360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lescent group meeting on reproductive hygi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4" descr=""/>
          <p:cNvPicPr/>
          <p:nvPr/>
        </p:nvPicPr>
        <p:blipFill>
          <a:blip r:embed="rId4"/>
          <a:stretch/>
        </p:blipFill>
        <p:spPr>
          <a:xfrm>
            <a:off x="5257800" y="3276720"/>
            <a:ext cx="350532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90920" y="3068640"/>
            <a:ext cx="41907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ank You</a:t>
            </a:r>
            <a:endParaRPr b="1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Organisational Profil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647360" y="6324480"/>
            <a:ext cx="696276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514600"/>
            <a:ext cx="914400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4560" indent="-29145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743200"/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4560" indent="-29145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743200"/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Vision                           :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A self-reliant society based on justice equity and  sustainability where every human being has equal opportunity to maximize their potential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400" y="139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4560" indent="-29145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743200"/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ame of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organisation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illage Education Resource Center (VER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0" y="1814400"/>
            <a:ext cx="9144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4560" indent="-29145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743200"/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4560" indent="-29145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743200"/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Year of Emergence     : 19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886200"/>
            <a:ext cx="91854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Mission                         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Establish and promote a dynamic and participatory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sustainable process towards human developme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Main interventions         : WatSan &amp; Technology, Education, Health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Training &amp; Communication, IBIG, Research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Evaluation and Documenta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4880" y="914400"/>
            <a:ext cx="78296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31480"/>
            <a:ext cx="914400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ables the community analyzing its own sanitation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ads to collective action towards ODF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 approach has proved to be a good practice that covers human rights considerations towards improved access to safe water, sanitation and hygiene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 approach put people at the forefront, enables them by installing capacity in them so that they can feel that their views are important to initiate a process of desired change in the WatSan and hygiene scenario by raising the question how they look at it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5335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Arial"/>
              </a:rPr>
              <a:t>CLTS refers to Community Led Total Sanitation</a:t>
            </a:r>
            <a:r>
              <a:rPr b="1" lang="en-GB" sz="4400" spc="-1" strike="noStrike">
                <a:solidFill>
                  <a:srgbClr val="990000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2209680"/>
            <a:ext cx="838188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100% use of hygienic latrines i.e. no open defe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ood personal hygiene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afe water use for all domestic purpo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ater points well manag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100% Sanitation as viewed by Community People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837720" y="6324480"/>
            <a:ext cx="7496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880" y="990720"/>
            <a:ext cx="78296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Key Principles</a:t>
            </a:r>
            <a:endParaRPr b="0" lang="en-US" sz="28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7631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rgeting total coverage for (100%) sanitation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inclusiveness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ernhardMod BT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ocial development not service delivery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affordability)</a:t>
            </a:r>
            <a:endParaRPr b="0" lang="en-US" sz="2000" spc="-1" strike="noStrike">
              <a:solidFill>
                <a:srgbClr val="ffffff"/>
              </a:solidFill>
              <a:latin typeface="BernhardMod BT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tilization of Social Capital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sustainability)</a:t>
            </a:r>
            <a:endParaRPr b="0" lang="en-US" sz="2000" spc="-1" strike="noStrike">
              <a:solidFill>
                <a:srgbClr val="ffffff"/>
              </a:solidFill>
              <a:latin typeface="BernhardMod BT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anitation should not be a charity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Human Rights priority)</a:t>
            </a:r>
            <a:endParaRPr b="0" lang="en-US" sz="2000" spc="-1" strike="noStrike">
              <a:solidFill>
                <a:srgbClr val="ffffff"/>
              </a:solidFill>
              <a:latin typeface="BernhardMod BT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nu of Technology options based on affordability status of households </a:t>
            </a:r>
            <a:endParaRPr b="0" lang="en-US" sz="2000" spc="-1" strike="noStrike">
              <a:solidFill>
                <a:srgbClr val="ffffff"/>
              </a:solidFill>
              <a:latin typeface="BernhardMod BT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gagement of LGIs to steer the process for long term sustainability</a:t>
            </a:r>
            <a:endParaRPr b="0" lang="en-US" sz="2000" spc="-1" strike="noStrike">
              <a:solidFill>
                <a:srgbClr val="ffffff"/>
              </a:solidFill>
              <a:latin typeface="BernhardMod BT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cognition and promotion of indigenous knowledge, values and tradition</a:t>
            </a:r>
            <a:endParaRPr b="0" lang="en-US" sz="2000" spc="-1" strike="noStrike">
              <a:solidFill>
                <a:srgbClr val="ffffff"/>
              </a:solidFill>
              <a:latin typeface="BernhardMod BT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ottom-up process replaces the top down planning process</a:t>
            </a:r>
            <a:endParaRPr b="0" lang="en-US" sz="2000" spc="-1" strike="noStrike">
              <a:solidFill>
                <a:srgbClr val="ffffff"/>
              </a:solidFill>
              <a:latin typeface="BernhardMod BT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ploring local skills, technologies, norms/values and promote (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sustainability)</a:t>
            </a:r>
            <a:endParaRPr b="0" lang="en-US" sz="20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837720" y="6324480"/>
            <a:ext cx="7496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4880" y="914400"/>
            <a:ext cx="78296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Pre-CLTS Scenario</a:t>
            </a:r>
            <a:endParaRPr b="0" lang="en-US" sz="28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eople not consulted in planning interventions for sanitation</a:t>
            </a:r>
            <a:endParaRPr b="0" lang="en-US" sz="2800" spc="-1" strike="noStrike">
              <a:solidFill>
                <a:srgbClr val="ffffff"/>
              </a:solidFill>
              <a:latin typeface="BernhardMod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otal coverage was not the issue without which sanitation is meaningless</a:t>
            </a:r>
            <a:endParaRPr b="0" lang="en-US" sz="2800" spc="-1" strike="noStrike">
              <a:solidFill>
                <a:srgbClr val="ffffff"/>
              </a:solidFill>
              <a:latin typeface="BernhardMod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pply driven</a:t>
            </a:r>
            <a:endParaRPr b="0" lang="en-US" sz="2800" spc="-1" strike="noStrike">
              <a:solidFill>
                <a:srgbClr val="ffffff"/>
              </a:solidFill>
              <a:latin typeface="BernhardMod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rvice &amp; Target oriented</a:t>
            </a:r>
            <a:endParaRPr b="0" lang="en-US" sz="2800" spc="-1" strike="noStrike">
              <a:solidFill>
                <a:srgbClr val="ffffff"/>
              </a:solidFill>
              <a:latin typeface="BernhardMod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escribed limited technology options on practice</a:t>
            </a:r>
            <a:endParaRPr b="0" lang="en-US" sz="2800" spc="-1" strike="noStrike">
              <a:solidFill>
                <a:srgbClr val="ffffff"/>
              </a:solidFill>
              <a:latin typeface="BernhardMod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cial accountability was not in place</a:t>
            </a:r>
            <a:endParaRPr b="0" lang="en-US" sz="2800" spc="-1" strike="noStrike">
              <a:solidFill>
                <a:srgbClr val="ffffff"/>
              </a:solidFill>
              <a:latin typeface="BernhardMod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oor, poorest vulnerable people were not in the focus of attention</a:t>
            </a:r>
            <a:endParaRPr b="0" lang="en-US" sz="2800" spc="-1" strike="noStrike">
              <a:solidFill>
                <a:srgbClr val="ffffff"/>
              </a:solidFill>
              <a:latin typeface="BernhardMod BT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6300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etail of Steps and Stages of the Process</a:t>
            </a:r>
            <a:endParaRPr b="0" lang="en-US" sz="2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7760" y="1066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BernhardMod BT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ransect and Rapport building</a:t>
            </a:r>
            <a:endParaRPr b="0" lang="en-US" sz="1800" spc="-1" strike="noStrike">
              <a:solidFill>
                <a:srgbClr val="ffffff"/>
              </a:solidFill>
              <a:latin typeface="BernhardMod BT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dentification of Key informants</a:t>
            </a:r>
            <a:endParaRPr b="0" lang="en-US" sz="1800" spc="-1" strike="noStrike">
              <a:solidFill>
                <a:srgbClr val="ffffff"/>
              </a:solidFill>
              <a:latin typeface="BernhardMod BT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ate and time fixation for meeting in the community</a:t>
            </a:r>
            <a:endParaRPr b="0" lang="en-US" sz="1800" spc="-1" strike="noStrike">
              <a:solidFill>
                <a:srgbClr val="ffffff"/>
              </a:solidFill>
              <a:latin typeface="BernhardMod BT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rnhardMod B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37720" y="6324480"/>
            <a:ext cx="7496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4880" y="762120"/>
            <a:ext cx="78296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5238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066680"/>
            <a:ext cx="1752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130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y into a 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349360"/>
            <a:ext cx="17524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413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ization of a 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2209680"/>
            <a:ext cx="5181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ocial Mapp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asonality trend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ell being ranking through FG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ann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esentation and situation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3962520"/>
            <a:ext cx="6019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fecation site vi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lculation of fec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low Diagram of fe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enu of hygienic latrine technology op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otal coverage taken as 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c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rnhardMod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581280"/>
            <a:ext cx="2438280" cy="236232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rigge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I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Uniqueness of the Approach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143000"/>
            <a:ext cx="8001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eople’s participation in the entire PIME (Planning, Implementation, Monitoring and Evaluation) process  to emphasize on  motivational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gagement of all segment of community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Looks at WatSan and Hygiene Education as a Human Rights package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tal coverage (household, public place and instit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 sense of ownership in community people supports sustain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837720" y="6400800"/>
            <a:ext cx="7496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4880" y="865080"/>
            <a:ext cx="78296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04880" y="865080"/>
            <a:ext cx="78296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4624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Challenges ahead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974880"/>
            <a:ext cx="84582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15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ubsidy Vs. community empower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457200">
              <a:lnSpc>
                <a:spcPct val="15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Decline of water table in the northern region and arsenic contamination of ground 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457200">
              <a:lnSpc>
                <a:spcPct val="15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upport for software, hardware, research, studies, innovatio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457200">
              <a:lnSpc>
                <a:spcPct val="15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ffective coverage in public place and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837720" y="6324480"/>
            <a:ext cx="7496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0:00:14Z</dcterms:created>
  <dc:creator>S. M. Atiqur Rahman</dc:creator>
  <dc:description/>
  <dc:language>en-US</dc:language>
  <cp:lastModifiedBy>Ruben</cp:lastModifiedBy>
  <dcterms:modified xsi:type="dcterms:W3CDTF">2010-09-10T09:42:56Z</dcterms:modified>
  <cp:revision>517</cp:revision>
  <dc:subject/>
  <dc:title>PowerPoint Presentation</dc:title>
</cp:coreProperties>
</file>