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126EB-A54D-46A9-AFCD-B4EE0912F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7C2CF-099C-4F10-A1FF-F8C1BD5AD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3C5AC-9940-4AEB-BBE0-BDABA2EE6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5707B-9FCA-43A6-BF1C-20F2D4707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74D57-ECA3-4D70-B0DB-1EB518F5C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431CF-20E6-4DBE-98A4-9B786C496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E7B4-700D-4E73-B43F-E30EAE877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4D0D2-AD09-4E85-BA66-1D26AB66A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ooter Placeholder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CH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1D499-587F-4943-BD1E-C1E33C709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E8690-C898-431E-99BB-926E4B267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730A8-6D79-4EA0-9098-8BCB9A2FF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44F13-5E93-4ADD-9A42-E52E1EAC1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35260-D103-4EE7-AA46-807D33593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132A4-04EA-4ED4-9074-75C73A29F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E9541-D9CE-4453-9873-97BE2E452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A13F-70F3-42DD-9D61-B25EB1A34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30F8-3940-429D-8454-6B6A639CB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C846-8BCC-4936-857C-A4721C7D8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6E2D-3F9C-44B7-9AF4-C6B703C1B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4A68A-8CC5-43CE-A164-05D8EA2B6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8E9E3-F4D4-46F3-A31E-A530A9592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62AC0-AAEF-4251-B794-97476FDB8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31E22-025D-41EF-8830-AEC53EFBA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238C2-1758-475E-B583-140883DA2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AE171-F6F6-43BA-8001-5240BDA43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6C1C7-A46F-43ED-9143-5ADBBCA4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DDBB-3CF6-460A-B23D-3308D8E36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B55FE-885C-4134-8090-0048DD8D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C76D4-30BE-4398-ADCA-AAF9BCCC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A8E9A-3DB4-40BB-AFA7-10C704790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70AF5-3979-4C60-BA25-EEDAAC9CD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E4CAD-9D2E-4ADD-8E8E-399B3C754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3556-6660-4DDE-B7D7-ADDE8042E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3327-114D-46DC-B34E-26232CD85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946D-44DB-426E-8F1B-443642A2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F336-DDDF-4764-B58C-551F0BDE0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F89A-3B5A-49F0-A8F0-F1CEB3FE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7712-FFF4-489A-8A92-1086500A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0A92-CC7D-4A11-86BE-D4207F05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E0120-E14A-4262-8649-A7EA05AB85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01689-8BC9-41D2-913E-83E4A70661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umande.or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Nairobi_UhuruPark_Panorama_2010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Image3"/>
          <p:cNvPicPr/>
          <p:nvPr/>
        </p:nvPicPr>
        <p:blipFill>
          <a:blip r:embed="rId1"/>
          <a:stretch/>
        </p:blipFill>
        <p:spPr>
          <a:xfrm>
            <a:off x="395280" y="115920"/>
            <a:ext cx="1511280" cy="1152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7"/>
          <p:cNvSpPr/>
          <p:nvPr/>
        </p:nvSpPr>
        <p:spPr>
          <a:xfrm>
            <a:off x="179280" y="1341360"/>
            <a:ext cx="207180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66"/>
                </a:solidFill>
                <a:latin typeface="Georgia"/>
              </a:rPr>
              <a:t>        </a:t>
            </a:r>
            <a:r>
              <a:rPr b="1" lang="en-US" sz="1200" spc="-1" strike="noStrike">
                <a:solidFill>
                  <a:srgbClr val="339966"/>
                </a:solidFill>
                <a:latin typeface="Georgia"/>
              </a:rPr>
              <a:t>UMANDE TR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3635280" y="1341360"/>
            <a:ext cx="5184720" cy="863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Gill Sans MT"/>
              </a:rPr>
              <a:t>Promoting Human Rights in Urban Water and Sanitation in Nairobi, Keny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57"/>
          <p:cNvSpPr/>
          <p:nvPr/>
        </p:nvSpPr>
        <p:spPr>
          <a:xfrm>
            <a:off x="605520" y="5229360"/>
            <a:ext cx="2221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Replication of similar projects to Kisum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74" descr=""/>
          <p:cNvPicPr/>
          <p:nvPr/>
        </p:nvPicPr>
        <p:blipFill>
          <a:blip r:embed="rId2"/>
          <a:srcRect l="50025" t="36471" r="20849" b="19315"/>
          <a:stretch/>
        </p:blipFill>
        <p:spPr>
          <a:xfrm>
            <a:off x="755640" y="1773360"/>
            <a:ext cx="2808360" cy="3384360"/>
          </a:xfrm>
          <a:prstGeom prst="rect">
            <a:avLst/>
          </a:prstGeom>
          <a:ln w="0">
            <a:noFill/>
          </a:ln>
        </p:spPr>
      </p:pic>
      <p:grpSp>
        <p:nvGrpSpPr>
          <p:cNvPr id="94" name="Group 175"/>
          <p:cNvGrpSpPr/>
          <p:nvPr/>
        </p:nvGrpSpPr>
        <p:grpSpPr>
          <a:xfrm>
            <a:off x="4356000" y="2708280"/>
            <a:ext cx="4537080" cy="3728880"/>
            <a:chOff x="4356000" y="2708280"/>
            <a:chExt cx="4537080" cy="3728880"/>
          </a:xfrm>
        </p:grpSpPr>
        <p:sp>
          <p:nvSpPr>
            <p:cNvPr id="95" name="AutoShape 176"/>
            <p:cNvSpPr/>
            <p:nvPr/>
          </p:nvSpPr>
          <p:spPr>
            <a:xfrm>
              <a:off x="4356000" y="2708280"/>
              <a:ext cx="4537080" cy="37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77"/>
            <p:cNvSpPr/>
            <p:nvPr/>
          </p:nvSpPr>
          <p:spPr>
            <a:xfrm>
              <a:off x="5550480" y="4174560"/>
              <a:ext cx="9900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dc0000"/>
                  </a:solidFill>
                  <a:latin typeface="ESRI Geometric Symbols"/>
                </a:rPr>
                <a:t>$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78"/>
            <p:cNvSpPr/>
            <p:nvPr/>
          </p:nvSpPr>
          <p:spPr>
            <a:xfrm>
              <a:off x="5550480" y="4174560"/>
              <a:ext cx="9828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ESRI Geometric Symbols"/>
                </a:rPr>
                <a:t>Z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79"/>
            <p:cNvSpPr/>
            <p:nvPr/>
          </p:nvSpPr>
          <p:spPr>
            <a:xfrm>
              <a:off x="5596920" y="4195800"/>
              <a:ext cx="99000" cy="17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dc0000"/>
                  </a:solidFill>
                  <a:latin typeface="ESRI Geometric Symbols"/>
                </a:rPr>
                <a:t>$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80"/>
            <p:cNvSpPr/>
            <p:nvPr/>
          </p:nvSpPr>
          <p:spPr>
            <a:xfrm>
              <a:off x="5596920" y="4195800"/>
              <a:ext cx="98280" cy="17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ESRI Geometric Symbols"/>
                </a:rPr>
                <a:t>Z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81"/>
            <p:cNvSpPr/>
            <p:nvPr/>
          </p:nvSpPr>
          <p:spPr>
            <a:xfrm>
              <a:off x="5660280" y="4245840"/>
              <a:ext cx="99000" cy="17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dc0000"/>
                  </a:solidFill>
                  <a:latin typeface="ESRI Geometric Symbols"/>
                </a:rPr>
                <a:t>$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82"/>
            <p:cNvSpPr/>
            <p:nvPr/>
          </p:nvSpPr>
          <p:spPr>
            <a:xfrm>
              <a:off x="5660280" y="4245840"/>
              <a:ext cx="98280" cy="17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ESRI Geometric Symbols"/>
                </a:rPr>
                <a:t>Z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183"/>
            <p:cNvSpPr/>
            <p:nvPr/>
          </p:nvSpPr>
          <p:spPr>
            <a:xfrm>
              <a:off x="6501240" y="3522960"/>
              <a:ext cx="9900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dc0000"/>
                  </a:solidFill>
                  <a:latin typeface="ESRI Geometric Symbols"/>
                </a:rPr>
                <a:t>$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84"/>
            <p:cNvSpPr/>
            <p:nvPr/>
          </p:nvSpPr>
          <p:spPr>
            <a:xfrm>
              <a:off x="6501240" y="3522960"/>
              <a:ext cx="9828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ESRI Geometric Symbols"/>
                </a:rPr>
                <a:t>Z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85"/>
            <p:cNvSpPr/>
            <p:nvPr/>
          </p:nvSpPr>
          <p:spPr>
            <a:xfrm>
              <a:off x="6501240" y="3586320"/>
              <a:ext cx="9900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dc0000"/>
                  </a:solidFill>
                  <a:latin typeface="ESRI Geometric Symbols"/>
                </a:rPr>
                <a:t>$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86"/>
            <p:cNvSpPr/>
            <p:nvPr/>
          </p:nvSpPr>
          <p:spPr>
            <a:xfrm>
              <a:off x="6501240" y="3586320"/>
              <a:ext cx="9828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ESRI Geometric Symbols"/>
                </a:rPr>
                <a:t>Z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87"/>
            <p:cNvSpPr/>
            <p:nvPr/>
          </p:nvSpPr>
          <p:spPr>
            <a:xfrm>
              <a:off x="6513120" y="3508560"/>
              <a:ext cx="9900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dc0000"/>
                  </a:solidFill>
                  <a:latin typeface="ESRI Geometric Symbols"/>
                </a:rPr>
                <a:t>$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88"/>
            <p:cNvSpPr/>
            <p:nvPr/>
          </p:nvSpPr>
          <p:spPr>
            <a:xfrm>
              <a:off x="6513120" y="3508560"/>
              <a:ext cx="9828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ESRI Geometric Symbols"/>
                </a:rPr>
                <a:t>Z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89"/>
            <p:cNvSpPr/>
            <p:nvPr/>
          </p:nvSpPr>
          <p:spPr>
            <a:xfrm>
              <a:off x="6506640" y="3537360"/>
              <a:ext cx="99000" cy="17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dc0000"/>
                  </a:solidFill>
                  <a:latin typeface="ESRI Geometric Symbols"/>
                </a:rPr>
                <a:t>$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90"/>
            <p:cNvSpPr/>
            <p:nvPr/>
          </p:nvSpPr>
          <p:spPr>
            <a:xfrm>
              <a:off x="6506640" y="3537360"/>
              <a:ext cx="98280" cy="17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ESRI Geometric Symbols"/>
                </a:rPr>
                <a:t>Z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91"/>
            <p:cNvSpPr/>
            <p:nvPr/>
          </p:nvSpPr>
          <p:spPr>
            <a:xfrm>
              <a:off x="5533200" y="4267080"/>
              <a:ext cx="9900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dc0000"/>
                  </a:solidFill>
                  <a:latin typeface="ESRI Geometric Symbols"/>
                </a:rPr>
                <a:t>$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92"/>
            <p:cNvSpPr/>
            <p:nvPr/>
          </p:nvSpPr>
          <p:spPr>
            <a:xfrm>
              <a:off x="5533200" y="4267080"/>
              <a:ext cx="9828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ESRI Geometric Symbols"/>
                </a:rPr>
                <a:t>Z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93"/>
            <p:cNvSpPr/>
            <p:nvPr/>
          </p:nvSpPr>
          <p:spPr>
            <a:xfrm>
              <a:off x="5509440" y="4288320"/>
              <a:ext cx="9900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dc0000"/>
                  </a:solidFill>
                  <a:latin typeface="ESRI Geometric Symbols"/>
                </a:rPr>
                <a:t>$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94"/>
            <p:cNvSpPr/>
            <p:nvPr/>
          </p:nvSpPr>
          <p:spPr>
            <a:xfrm>
              <a:off x="5509440" y="4288320"/>
              <a:ext cx="9828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ESRI Geometric Symbols"/>
                </a:rPr>
                <a:t>Z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95"/>
            <p:cNvSpPr/>
            <p:nvPr/>
          </p:nvSpPr>
          <p:spPr>
            <a:xfrm>
              <a:off x="6251760" y="3692520"/>
              <a:ext cx="99000" cy="17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dc0000"/>
                  </a:solidFill>
                  <a:latin typeface="ESRI Geometric Symbols"/>
                </a:rPr>
                <a:t>$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96"/>
            <p:cNvSpPr/>
            <p:nvPr/>
          </p:nvSpPr>
          <p:spPr>
            <a:xfrm>
              <a:off x="6251760" y="3692520"/>
              <a:ext cx="98280" cy="17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ESRI Geometric Symbols"/>
                </a:rPr>
                <a:t>Z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97"/>
            <p:cNvSpPr/>
            <p:nvPr/>
          </p:nvSpPr>
          <p:spPr>
            <a:xfrm>
              <a:off x="6246360" y="3678840"/>
              <a:ext cx="9900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dc0000"/>
                  </a:solidFill>
                  <a:latin typeface="ESRI Geometric Symbols"/>
                </a:rPr>
                <a:t>$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98"/>
            <p:cNvSpPr/>
            <p:nvPr/>
          </p:nvSpPr>
          <p:spPr>
            <a:xfrm>
              <a:off x="6246360" y="3678840"/>
              <a:ext cx="9828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ESRI Geometric Symbols"/>
                </a:rPr>
                <a:t>Z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99"/>
            <p:cNvSpPr/>
            <p:nvPr/>
          </p:nvSpPr>
          <p:spPr>
            <a:xfrm>
              <a:off x="6495480" y="4380120"/>
              <a:ext cx="9900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dc0000"/>
                  </a:solidFill>
                  <a:latin typeface="ESRI Geometric Symbols"/>
                </a:rPr>
                <a:t>$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00"/>
            <p:cNvSpPr/>
            <p:nvPr/>
          </p:nvSpPr>
          <p:spPr>
            <a:xfrm>
              <a:off x="6495480" y="4380120"/>
              <a:ext cx="9828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ESRI Geometric Symbols"/>
                </a:rPr>
                <a:t>Z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201"/>
            <p:cNvSpPr/>
            <p:nvPr/>
          </p:nvSpPr>
          <p:spPr>
            <a:xfrm>
              <a:off x="6077520" y="4153320"/>
              <a:ext cx="9900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dc0000"/>
                  </a:solidFill>
                  <a:latin typeface="ESRI Geometric Symbols"/>
                </a:rPr>
                <a:t>$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02"/>
            <p:cNvSpPr/>
            <p:nvPr/>
          </p:nvSpPr>
          <p:spPr>
            <a:xfrm>
              <a:off x="6077520" y="4153320"/>
              <a:ext cx="9828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ESRI Geometric Symbols"/>
                </a:rPr>
                <a:t>Z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03"/>
            <p:cNvSpPr/>
            <p:nvPr/>
          </p:nvSpPr>
          <p:spPr>
            <a:xfrm>
              <a:off x="5898240" y="4267080"/>
              <a:ext cx="9900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dc0000"/>
                  </a:solidFill>
                  <a:latin typeface="ESRI Geometric Symbols"/>
                </a:rPr>
                <a:t>$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204"/>
            <p:cNvSpPr/>
            <p:nvPr/>
          </p:nvSpPr>
          <p:spPr>
            <a:xfrm>
              <a:off x="5898240" y="4267080"/>
              <a:ext cx="9828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ESRI Geometric Symbols"/>
                </a:rPr>
                <a:t>Z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05"/>
            <p:cNvSpPr/>
            <p:nvPr/>
          </p:nvSpPr>
          <p:spPr>
            <a:xfrm>
              <a:off x="5973480" y="4117680"/>
              <a:ext cx="9900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dc0000"/>
                  </a:solidFill>
                  <a:latin typeface="ESRI Geometric Symbols"/>
                </a:rPr>
                <a:t>$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206"/>
            <p:cNvSpPr/>
            <p:nvPr/>
          </p:nvSpPr>
          <p:spPr>
            <a:xfrm>
              <a:off x="5973480" y="4117680"/>
              <a:ext cx="9828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ESRI Geometric Symbols"/>
                </a:rPr>
                <a:t>Z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207"/>
            <p:cNvSpPr/>
            <p:nvPr/>
          </p:nvSpPr>
          <p:spPr>
            <a:xfrm>
              <a:off x="6066360" y="4344480"/>
              <a:ext cx="99000" cy="17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dc0000"/>
                  </a:solidFill>
                  <a:latin typeface="ESRI Geometric Symbols"/>
                </a:rPr>
                <a:t>$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208"/>
            <p:cNvSpPr/>
            <p:nvPr/>
          </p:nvSpPr>
          <p:spPr>
            <a:xfrm>
              <a:off x="6066360" y="4344480"/>
              <a:ext cx="98280" cy="17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ESRI Geometric Symbols"/>
                </a:rPr>
                <a:t>Z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209"/>
            <p:cNvSpPr/>
            <p:nvPr/>
          </p:nvSpPr>
          <p:spPr>
            <a:xfrm>
              <a:off x="5515560" y="4323240"/>
              <a:ext cx="68760" cy="1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00"/>
                  </a:solidFill>
                  <a:latin typeface="ESRI Geometric Symbols"/>
                </a:rPr>
                <a:t>#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210"/>
            <p:cNvSpPr/>
            <p:nvPr/>
          </p:nvSpPr>
          <p:spPr>
            <a:xfrm>
              <a:off x="5515560" y="4323240"/>
              <a:ext cx="70920" cy="1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ESRI Geometric Symbols"/>
                </a:rPr>
                <a:t>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211"/>
            <p:cNvSpPr/>
            <p:nvPr/>
          </p:nvSpPr>
          <p:spPr>
            <a:xfrm>
              <a:off x="5642640" y="4302000"/>
              <a:ext cx="68760" cy="1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00"/>
                  </a:solidFill>
                  <a:latin typeface="ESRI Geometric Symbols"/>
                </a:rPr>
                <a:t>#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212"/>
            <p:cNvSpPr/>
            <p:nvPr/>
          </p:nvSpPr>
          <p:spPr>
            <a:xfrm>
              <a:off x="5642640" y="4302000"/>
              <a:ext cx="70920" cy="1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ESRI Geometric Symbols"/>
                </a:rPr>
                <a:t>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13"/>
            <p:cNvSpPr/>
            <p:nvPr/>
          </p:nvSpPr>
          <p:spPr>
            <a:xfrm>
              <a:off x="6472080" y="3692520"/>
              <a:ext cx="68760" cy="1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00"/>
                  </a:solidFill>
                  <a:latin typeface="ESRI Geometric Symbols"/>
                </a:rPr>
                <a:t>#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14"/>
            <p:cNvSpPr/>
            <p:nvPr/>
          </p:nvSpPr>
          <p:spPr>
            <a:xfrm>
              <a:off x="6472080" y="3692520"/>
              <a:ext cx="70920" cy="1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ESRI Geometric Symbols"/>
                </a:rPr>
                <a:t>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215"/>
            <p:cNvSpPr/>
            <p:nvPr/>
          </p:nvSpPr>
          <p:spPr>
            <a:xfrm>
              <a:off x="6489360" y="3656880"/>
              <a:ext cx="68760" cy="1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00"/>
                  </a:solidFill>
                  <a:latin typeface="ESRI Geometric Symbols"/>
                </a:rPr>
                <a:t>#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216"/>
            <p:cNvSpPr/>
            <p:nvPr/>
          </p:nvSpPr>
          <p:spPr>
            <a:xfrm>
              <a:off x="6489360" y="3656880"/>
              <a:ext cx="70920" cy="1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ESRI Geometric Symbols"/>
                </a:rPr>
                <a:t>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217"/>
            <p:cNvSpPr/>
            <p:nvPr/>
          </p:nvSpPr>
          <p:spPr>
            <a:xfrm>
              <a:off x="6530400" y="3564720"/>
              <a:ext cx="68760" cy="1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00"/>
                  </a:solidFill>
                  <a:latin typeface="ESRI Geometric Symbols"/>
                </a:rPr>
                <a:t>#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218"/>
            <p:cNvSpPr/>
            <p:nvPr/>
          </p:nvSpPr>
          <p:spPr>
            <a:xfrm>
              <a:off x="6530400" y="3564720"/>
              <a:ext cx="70920" cy="1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ESRI Geometric Symbols"/>
                </a:rPr>
                <a:t>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219"/>
            <p:cNvSpPr/>
            <p:nvPr/>
          </p:nvSpPr>
          <p:spPr>
            <a:xfrm>
              <a:off x="6513120" y="3593160"/>
              <a:ext cx="68760" cy="1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00"/>
                  </a:solidFill>
                  <a:latin typeface="ESRI Geometric Symbols"/>
                </a:rPr>
                <a:t>#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220"/>
            <p:cNvSpPr/>
            <p:nvPr/>
          </p:nvSpPr>
          <p:spPr>
            <a:xfrm>
              <a:off x="6513120" y="3593160"/>
              <a:ext cx="70920" cy="1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ESRI Geometric Symbols"/>
                </a:rPr>
                <a:t>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221"/>
            <p:cNvSpPr/>
            <p:nvPr/>
          </p:nvSpPr>
          <p:spPr>
            <a:xfrm>
              <a:off x="5550480" y="4302000"/>
              <a:ext cx="68760" cy="1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00"/>
                  </a:solidFill>
                  <a:latin typeface="ESRI Geometric Symbols"/>
                </a:rPr>
                <a:t>#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222"/>
            <p:cNvSpPr/>
            <p:nvPr/>
          </p:nvSpPr>
          <p:spPr>
            <a:xfrm>
              <a:off x="5550480" y="4302000"/>
              <a:ext cx="70920" cy="1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ESRI Geometric Symbols"/>
                </a:rPr>
                <a:t>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223"/>
            <p:cNvSpPr/>
            <p:nvPr/>
          </p:nvSpPr>
          <p:spPr>
            <a:xfrm>
              <a:off x="5649120" y="4280760"/>
              <a:ext cx="68760" cy="1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00"/>
                  </a:solidFill>
                  <a:latin typeface="ESRI Geometric Symbols"/>
                </a:rPr>
                <a:t>#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224"/>
            <p:cNvSpPr/>
            <p:nvPr/>
          </p:nvSpPr>
          <p:spPr>
            <a:xfrm>
              <a:off x="5649120" y="4280760"/>
              <a:ext cx="70920" cy="1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ESRI Geometric Symbols"/>
                </a:rPr>
                <a:t>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5"/>
            <p:cNvSpPr/>
            <p:nvPr/>
          </p:nvSpPr>
          <p:spPr>
            <a:xfrm>
              <a:off x="4379400" y="2708280"/>
              <a:ext cx="4104720" cy="3159360"/>
            </a:xfrm>
            <a:prstGeom prst="pie">
              <a:avLst/>
            </a:prstGeom>
            <a:noFill/>
            <a:ln w="13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226"/>
            <p:cNvSpPr/>
            <p:nvPr/>
          </p:nvSpPr>
          <p:spPr>
            <a:xfrm>
              <a:off x="7237440" y="5124240"/>
              <a:ext cx="9900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dc0000"/>
                  </a:solidFill>
                  <a:latin typeface="ESRI Geometric Symbols"/>
                </a:rPr>
                <a:t>$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227"/>
            <p:cNvSpPr/>
            <p:nvPr/>
          </p:nvSpPr>
          <p:spPr>
            <a:xfrm>
              <a:off x="7237440" y="5124240"/>
              <a:ext cx="9864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ESRI Geometric Symbols"/>
                </a:rPr>
                <a:t>Z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228"/>
            <p:cNvSpPr/>
            <p:nvPr/>
          </p:nvSpPr>
          <p:spPr>
            <a:xfrm>
              <a:off x="7428600" y="5159160"/>
              <a:ext cx="7884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229"/>
            <p:cNvSpPr/>
            <p:nvPr/>
          </p:nvSpPr>
          <p:spPr>
            <a:xfrm>
              <a:off x="7498440" y="5159160"/>
              <a:ext cx="6156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230"/>
            <p:cNvSpPr/>
            <p:nvPr/>
          </p:nvSpPr>
          <p:spPr>
            <a:xfrm>
              <a:off x="7556400" y="5159160"/>
              <a:ext cx="6156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231"/>
            <p:cNvSpPr/>
            <p:nvPr/>
          </p:nvSpPr>
          <p:spPr>
            <a:xfrm>
              <a:off x="7620120" y="5159160"/>
              <a:ext cx="6156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232"/>
            <p:cNvSpPr/>
            <p:nvPr/>
          </p:nvSpPr>
          <p:spPr>
            <a:xfrm>
              <a:off x="7677720" y="5159160"/>
              <a:ext cx="2844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233"/>
            <p:cNvSpPr/>
            <p:nvPr/>
          </p:nvSpPr>
          <p:spPr>
            <a:xfrm>
              <a:off x="7701480" y="5159160"/>
              <a:ext cx="6156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234"/>
            <p:cNvSpPr/>
            <p:nvPr/>
          </p:nvSpPr>
          <p:spPr>
            <a:xfrm>
              <a:off x="7759080" y="5159160"/>
              <a:ext cx="6156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235"/>
            <p:cNvSpPr/>
            <p:nvPr/>
          </p:nvSpPr>
          <p:spPr>
            <a:xfrm>
              <a:off x="7817400" y="5159160"/>
              <a:ext cx="28440" cy="18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236"/>
            <p:cNvSpPr/>
            <p:nvPr/>
          </p:nvSpPr>
          <p:spPr>
            <a:xfrm>
              <a:off x="7845840" y="5159160"/>
              <a:ext cx="7272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237"/>
            <p:cNvSpPr/>
            <p:nvPr/>
          </p:nvSpPr>
          <p:spPr>
            <a:xfrm>
              <a:off x="7916040" y="5159160"/>
              <a:ext cx="2844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238"/>
            <p:cNvSpPr/>
            <p:nvPr/>
          </p:nvSpPr>
          <p:spPr>
            <a:xfrm>
              <a:off x="7939080" y="5159160"/>
              <a:ext cx="6156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239"/>
            <p:cNvSpPr/>
            <p:nvPr/>
          </p:nvSpPr>
          <p:spPr>
            <a:xfrm>
              <a:off x="7997400" y="5159160"/>
              <a:ext cx="2844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240"/>
            <p:cNvSpPr/>
            <p:nvPr/>
          </p:nvSpPr>
          <p:spPr>
            <a:xfrm>
              <a:off x="8025840" y="5159160"/>
              <a:ext cx="5652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241"/>
            <p:cNvSpPr/>
            <p:nvPr/>
          </p:nvSpPr>
          <p:spPr>
            <a:xfrm>
              <a:off x="8078040" y="5159160"/>
              <a:ext cx="3348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242"/>
            <p:cNvSpPr/>
            <p:nvPr/>
          </p:nvSpPr>
          <p:spPr>
            <a:xfrm>
              <a:off x="8112600" y="5159160"/>
              <a:ext cx="3960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43"/>
            <p:cNvSpPr/>
            <p:nvPr/>
          </p:nvSpPr>
          <p:spPr>
            <a:xfrm>
              <a:off x="8147880" y="5159160"/>
              <a:ext cx="2844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44"/>
            <p:cNvSpPr/>
            <p:nvPr/>
          </p:nvSpPr>
          <p:spPr>
            <a:xfrm>
              <a:off x="8176680" y="5159160"/>
              <a:ext cx="6156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245"/>
            <p:cNvSpPr/>
            <p:nvPr/>
          </p:nvSpPr>
          <p:spPr>
            <a:xfrm>
              <a:off x="8235000" y="5159160"/>
              <a:ext cx="5652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246"/>
            <p:cNvSpPr/>
            <p:nvPr/>
          </p:nvSpPr>
          <p:spPr>
            <a:xfrm>
              <a:off x="8286840" y="5159160"/>
              <a:ext cx="5652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47"/>
            <p:cNvSpPr/>
            <p:nvPr/>
          </p:nvSpPr>
          <p:spPr>
            <a:xfrm>
              <a:off x="7254720" y="5002920"/>
              <a:ext cx="68760" cy="1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00"/>
                  </a:solidFill>
                  <a:latin typeface="ESRI Geometric Symbols"/>
                </a:rPr>
                <a:t>#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248"/>
            <p:cNvSpPr/>
            <p:nvPr/>
          </p:nvSpPr>
          <p:spPr>
            <a:xfrm>
              <a:off x="7254720" y="5002920"/>
              <a:ext cx="70920" cy="1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ESRI Geometric Symbols"/>
                </a:rPr>
                <a:t>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249"/>
            <p:cNvSpPr/>
            <p:nvPr/>
          </p:nvSpPr>
          <p:spPr>
            <a:xfrm>
              <a:off x="7428600" y="4996080"/>
              <a:ext cx="7272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250"/>
            <p:cNvSpPr/>
            <p:nvPr/>
          </p:nvSpPr>
          <p:spPr>
            <a:xfrm>
              <a:off x="7492320" y="4996080"/>
              <a:ext cx="6156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251"/>
            <p:cNvSpPr/>
            <p:nvPr/>
          </p:nvSpPr>
          <p:spPr>
            <a:xfrm>
              <a:off x="7556400" y="4996080"/>
              <a:ext cx="9000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252"/>
            <p:cNvSpPr/>
            <p:nvPr/>
          </p:nvSpPr>
          <p:spPr>
            <a:xfrm>
              <a:off x="7637400" y="4996080"/>
              <a:ext cx="6156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253"/>
            <p:cNvSpPr/>
            <p:nvPr/>
          </p:nvSpPr>
          <p:spPr>
            <a:xfrm>
              <a:off x="7695360" y="4996080"/>
              <a:ext cx="2844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254"/>
            <p:cNvSpPr/>
            <p:nvPr/>
          </p:nvSpPr>
          <p:spPr>
            <a:xfrm>
              <a:off x="7724160" y="4996080"/>
              <a:ext cx="5652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255"/>
            <p:cNvSpPr/>
            <p:nvPr/>
          </p:nvSpPr>
          <p:spPr>
            <a:xfrm>
              <a:off x="7776360" y="4996080"/>
              <a:ext cx="3348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256"/>
            <p:cNvSpPr/>
            <p:nvPr/>
          </p:nvSpPr>
          <p:spPr>
            <a:xfrm>
              <a:off x="7805520" y="4996080"/>
              <a:ext cx="5652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257"/>
            <p:cNvSpPr/>
            <p:nvPr/>
          </p:nvSpPr>
          <p:spPr>
            <a:xfrm>
              <a:off x="7863840" y="4996080"/>
              <a:ext cx="6156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58"/>
            <p:cNvSpPr/>
            <p:nvPr/>
          </p:nvSpPr>
          <p:spPr>
            <a:xfrm>
              <a:off x="7921800" y="4996080"/>
              <a:ext cx="28440" cy="18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259"/>
            <p:cNvSpPr/>
            <p:nvPr/>
          </p:nvSpPr>
          <p:spPr>
            <a:xfrm>
              <a:off x="7944480" y="4996080"/>
              <a:ext cx="7272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260"/>
            <p:cNvSpPr/>
            <p:nvPr/>
          </p:nvSpPr>
          <p:spPr>
            <a:xfrm>
              <a:off x="8014680" y="4996080"/>
              <a:ext cx="2844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261"/>
            <p:cNvSpPr/>
            <p:nvPr/>
          </p:nvSpPr>
          <p:spPr>
            <a:xfrm>
              <a:off x="8043120" y="4996080"/>
              <a:ext cx="6156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262"/>
            <p:cNvSpPr/>
            <p:nvPr/>
          </p:nvSpPr>
          <p:spPr>
            <a:xfrm>
              <a:off x="8101440" y="4996080"/>
              <a:ext cx="2844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263"/>
            <p:cNvSpPr/>
            <p:nvPr/>
          </p:nvSpPr>
          <p:spPr>
            <a:xfrm>
              <a:off x="8124480" y="4996080"/>
              <a:ext cx="5652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264"/>
            <p:cNvSpPr/>
            <p:nvPr/>
          </p:nvSpPr>
          <p:spPr>
            <a:xfrm>
              <a:off x="8176680" y="4996080"/>
              <a:ext cx="3348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265"/>
            <p:cNvSpPr/>
            <p:nvPr/>
          </p:nvSpPr>
          <p:spPr>
            <a:xfrm>
              <a:off x="8211240" y="4996080"/>
              <a:ext cx="3960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266"/>
            <p:cNvSpPr/>
            <p:nvPr/>
          </p:nvSpPr>
          <p:spPr>
            <a:xfrm>
              <a:off x="8246160" y="4996080"/>
              <a:ext cx="2844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267"/>
            <p:cNvSpPr/>
            <p:nvPr/>
          </p:nvSpPr>
          <p:spPr>
            <a:xfrm>
              <a:off x="8274960" y="4996080"/>
              <a:ext cx="6156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268"/>
            <p:cNvSpPr/>
            <p:nvPr/>
          </p:nvSpPr>
          <p:spPr>
            <a:xfrm>
              <a:off x="8333280" y="4996080"/>
              <a:ext cx="5652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269"/>
            <p:cNvSpPr/>
            <p:nvPr/>
          </p:nvSpPr>
          <p:spPr>
            <a:xfrm>
              <a:off x="8385480" y="4996080"/>
              <a:ext cx="5652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270"/>
            <p:cNvSpPr/>
            <p:nvPr/>
          </p:nvSpPr>
          <p:spPr>
            <a:xfrm>
              <a:off x="7197120" y="4869000"/>
              <a:ext cx="185400" cy="120240"/>
            </a:xfrm>
            <a:prstGeom prst="rect">
              <a:avLst/>
            </a:prstGeom>
            <a:noFill/>
            <a:ln w="13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271"/>
            <p:cNvSpPr/>
            <p:nvPr/>
          </p:nvSpPr>
          <p:spPr>
            <a:xfrm>
              <a:off x="7428600" y="4854240"/>
              <a:ext cx="7272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272"/>
            <p:cNvSpPr/>
            <p:nvPr/>
          </p:nvSpPr>
          <p:spPr>
            <a:xfrm>
              <a:off x="7492320" y="4854240"/>
              <a:ext cx="5652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73"/>
            <p:cNvSpPr/>
            <p:nvPr/>
          </p:nvSpPr>
          <p:spPr>
            <a:xfrm>
              <a:off x="7550640" y="4854240"/>
              <a:ext cx="2844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274"/>
            <p:cNvSpPr/>
            <p:nvPr/>
          </p:nvSpPr>
          <p:spPr>
            <a:xfrm>
              <a:off x="7573680" y="4854240"/>
              <a:ext cx="3960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275"/>
            <p:cNvSpPr/>
            <p:nvPr/>
          </p:nvSpPr>
          <p:spPr>
            <a:xfrm>
              <a:off x="7614360" y="4854240"/>
              <a:ext cx="6156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276"/>
            <p:cNvSpPr/>
            <p:nvPr/>
          </p:nvSpPr>
          <p:spPr>
            <a:xfrm>
              <a:off x="7672320" y="4854240"/>
              <a:ext cx="6156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277"/>
            <p:cNvSpPr/>
            <p:nvPr/>
          </p:nvSpPr>
          <p:spPr>
            <a:xfrm>
              <a:off x="7730640" y="4854240"/>
              <a:ext cx="2844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278"/>
            <p:cNvSpPr/>
            <p:nvPr/>
          </p:nvSpPr>
          <p:spPr>
            <a:xfrm>
              <a:off x="7753680" y="4854240"/>
              <a:ext cx="28440" cy="18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279"/>
            <p:cNvSpPr/>
            <p:nvPr/>
          </p:nvSpPr>
          <p:spPr>
            <a:xfrm>
              <a:off x="4379400" y="6363360"/>
              <a:ext cx="811080" cy="3528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280"/>
            <p:cNvSpPr/>
            <p:nvPr/>
          </p:nvSpPr>
          <p:spPr>
            <a:xfrm>
              <a:off x="4379400" y="6399000"/>
              <a:ext cx="811080" cy="349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281"/>
            <p:cNvSpPr/>
            <p:nvPr/>
          </p:nvSpPr>
          <p:spPr>
            <a:xfrm>
              <a:off x="5190840" y="6363360"/>
              <a:ext cx="811440" cy="35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282"/>
            <p:cNvSpPr/>
            <p:nvPr/>
          </p:nvSpPr>
          <p:spPr>
            <a:xfrm>
              <a:off x="5190840" y="6399000"/>
              <a:ext cx="811440" cy="3492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283"/>
            <p:cNvSpPr/>
            <p:nvPr/>
          </p:nvSpPr>
          <p:spPr>
            <a:xfrm>
              <a:off x="6002640" y="6363360"/>
              <a:ext cx="811800" cy="3528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284"/>
            <p:cNvSpPr/>
            <p:nvPr/>
          </p:nvSpPr>
          <p:spPr>
            <a:xfrm>
              <a:off x="6002640" y="6399000"/>
              <a:ext cx="811800" cy="349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285"/>
            <p:cNvSpPr/>
            <p:nvPr/>
          </p:nvSpPr>
          <p:spPr>
            <a:xfrm>
              <a:off x="6814440" y="6363360"/>
              <a:ext cx="811080" cy="35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286"/>
            <p:cNvSpPr/>
            <p:nvPr/>
          </p:nvSpPr>
          <p:spPr>
            <a:xfrm>
              <a:off x="6814440" y="6399000"/>
              <a:ext cx="811080" cy="3492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287"/>
            <p:cNvSpPr/>
            <p:nvPr/>
          </p:nvSpPr>
          <p:spPr>
            <a:xfrm>
              <a:off x="7625880" y="6363360"/>
              <a:ext cx="806040" cy="3528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288"/>
            <p:cNvSpPr/>
            <p:nvPr/>
          </p:nvSpPr>
          <p:spPr>
            <a:xfrm>
              <a:off x="7625880" y="6399000"/>
              <a:ext cx="806040" cy="349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289"/>
            <p:cNvSpPr/>
            <p:nvPr/>
          </p:nvSpPr>
          <p:spPr>
            <a:xfrm>
              <a:off x="4356000" y="6257160"/>
              <a:ext cx="43560" cy="11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290"/>
            <p:cNvSpPr/>
            <p:nvPr/>
          </p:nvSpPr>
          <p:spPr>
            <a:xfrm>
              <a:off x="5150160" y="6257160"/>
              <a:ext cx="43560" cy="11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291"/>
            <p:cNvSpPr/>
            <p:nvPr/>
          </p:nvSpPr>
          <p:spPr>
            <a:xfrm>
              <a:off x="5185080" y="6257160"/>
              <a:ext cx="43560" cy="11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292"/>
            <p:cNvSpPr/>
            <p:nvPr/>
          </p:nvSpPr>
          <p:spPr>
            <a:xfrm>
              <a:off x="5962320" y="6257160"/>
              <a:ext cx="43560" cy="11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293"/>
            <p:cNvSpPr/>
            <p:nvPr/>
          </p:nvSpPr>
          <p:spPr>
            <a:xfrm>
              <a:off x="5996880" y="6257160"/>
              <a:ext cx="43560" cy="11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294"/>
            <p:cNvSpPr/>
            <p:nvPr/>
          </p:nvSpPr>
          <p:spPr>
            <a:xfrm>
              <a:off x="6773400" y="6257160"/>
              <a:ext cx="43560" cy="11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295"/>
            <p:cNvSpPr/>
            <p:nvPr/>
          </p:nvSpPr>
          <p:spPr>
            <a:xfrm>
              <a:off x="6808320" y="6257160"/>
              <a:ext cx="43560" cy="11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296"/>
            <p:cNvSpPr/>
            <p:nvPr/>
          </p:nvSpPr>
          <p:spPr>
            <a:xfrm>
              <a:off x="7585560" y="6257160"/>
              <a:ext cx="43560" cy="11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297"/>
            <p:cNvSpPr/>
            <p:nvPr/>
          </p:nvSpPr>
          <p:spPr>
            <a:xfrm>
              <a:off x="7620120" y="6257160"/>
              <a:ext cx="43560" cy="11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298"/>
            <p:cNvSpPr/>
            <p:nvPr/>
          </p:nvSpPr>
          <p:spPr>
            <a:xfrm>
              <a:off x="8397360" y="6257160"/>
              <a:ext cx="43560" cy="11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299"/>
            <p:cNvSpPr/>
            <p:nvPr/>
          </p:nvSpPr>
          <p:spPr>
            <a:xfrm>
              <a:off x="8431920" y="6257160"/>
              <a:ext cx="43560" cy="11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300"/>
            <p:cNvSpPr/>
            <p:nvPr/>
          </p:nvSpPr>
          <p:spPr>
            <a:xfrm>
              <a:off x="8524440" y="6257160"/>
              <a:ext cx="56880" cy="11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301"/>
            <p:cNvSpPr/>
            <p:nvPr/>
          </p:nvSpPr>
          <p:spPr>
            <a:xfrm>
              <a:off x="8570880" y="6257160"/>
              <a:ext cx="21600" cy="11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302"/>
            <p:cNvSpPr/>
            <p:nvPr/>
          </p:nvSpPr>
          <p:spPr>
            <a:xfrm>
              <a:off x="8593920" y="6257160"/>
              <a:ext cx="21600" cy="11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303"/>
            <p:cNvSpPr/>
            <p:nvPr/>
          </p:nvSpPr>
          <p:spPr>
            <a:xfrm>
              <a:off x="8611200" y="6257160"/>
              <a:ext cx="47880" cy="11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304"/>
            <p:cNvSpPr/>
            <p:nvPr/>
          </p:nvSpPr>
          <p:spPr>
            <a:xfrm>
              <a:off x="8652240" y="6257160"/>
              <a:ext cx="69840" cy="11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305"/>
            <p:cNvSpPr/>
            <p:nvPr/>
          </p:nvSpPr>
          <p:spPr>
            <a:xfrm>
              <a:off x="8715960" y="6257160"/>
              <a:ext cx="43560" cy="11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306"/>
            <p:cNvSpPr/>
            <p:nvPr/>
          </p:nvSpPr>
          <p:spPr>
            <a:xfrm>
              <a:off x="8756280" y="6257160"/>
              <a:ext cx="26280" cy="11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307"/>
            <p:cNvSpPr/>
            <p:nvPr/>
          </p:nvSpPr>
          <p:spPr>
            <a:xfrm>
              <a:off x="8779320" y="6257160"/>
              <a:ext cx="43560" cy="11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308"/>
            <p:cNvSpPr/>
            <p:nvPr/>
          </p:nvSpPr>
          <p:spPr>
            <a:xfrm>
              <a:off x="8820360" y="6257160"/>
              <a:ext cx="30600" cy="11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309"/>
            <p:cNvSpPr/>
            <p:nvPr/>
          </p:nvSpPr>
          <p:spPr>
            <a:xfrm>
              <a:off x="8849520" y="6257160"/>
              <a:ext cx="43560" cy="11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310"/>
            <p:cNvSpPr/>
            <p:nvPr/>
          </p:nvSpPr>
          <p:spPr>
            <a:xfrm>
              <a:off x="7416360" y="4685400"/>
              <a:ext cx="1465920" cy="65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Nairob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Completed Biolatrin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Ongoing Biolatrin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Line 311"/>
          <p:cNvSpPr/>
          <p:nvPr/>
        </p:nvSpPr>
        <p:spPr>
          <a:xfrm flipV="1">
            <a:off x="1835280" y="3068280"/>
            <a:ext cx="3816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312"/>
          <p:cNvSpPr/>
          <p:nvPr/>
        </p:nvSpPr>
        <p:spPr>
          <a:xfrm>
            <a:off x="1835280" y="3933720"/>
            <a:ext cx="309708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13"/>
          <p:cNvSpPr/>
          <p:nvPr/>
        </p:nvSpPr>
        <p:spPr>
          <a:xfrm>
            <a:off x="971640" y="3573360"/>
            <a:ext cx="1296720" cy="1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Black"/>
              </a:rPr>
              <a:t>Kisumu -Nyalend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14"/>
          <p:cNvSpPr/>
          <p:nvPr/>
        </p:nvSpPr>
        <p:spPr>
          <a:xfrm>
            <a:off x="2340000" y="3860640"/>
            <a:ext cx="187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Black"/>
              </a:rPr>
              <a:t>(Mathare, Westlands, Kibera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Black"/>
              </a:rPr>
              <a:t>Mukuru, Korogocho village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99640" y="476280"/>
            <a:ext cx="727236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The front view of Gatwekera Tosha Bio-Cen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3" descr="IMAG0006"/>
          <p:cNvPicPr/>
          <p:nvPr/>
        </p:nvPicPr>
        <p:blipFill>
          <a:blip r:embed="rId1"/>
          <a:stretch/>
        </p:blipFill>
        <p:spPr>
          <a:xfrm>
            <a:off x="228600" y="1752480"/>
            <a:ext cx="4648320" cy="5105520"/>
          </a:xfrm>
          <a:prstGeom prst="rect">
            <a:avLst/>
          </a:prstGeom>
          <a:ln w="0">
            <a:noFill/>
          </a:ln>
        </p:spPr>
      </p:pic>
      <p:sp>
        <p:nvSpPr>
          <p:cNvPr id="268" name="Line 4"/>
          <p:cNvSpPr/>
          <p:nvPr/>
        </p:nvSpPr>
        <p:spPr>
          <a:xfrm flipH="1">
            <a:off x="4038480" y="2057400"/>
            <a:ext cx="990720" cy="30492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5109840" y="1523880"/>
            <a:ext cx="34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pen Hall: Operating as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afe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6"/>
          <p:cNvSpPr/>
          <p:nvPr/>
        </p:nvSpPr>
        <p:spPr>
          <a:xfrm flipH="1">
            <a:off x="3886200" y="3886200"/>
            <a:ext cx="129528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7"/>
          <p:cNvSpPr/>
          <p:nvPr/>
        </p:nvSpPr>
        <p:spPr>
          <a:xfrm>
            <a:off x="5213520" y="3505320"/>
            <a:ext cx="303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BO’s office and Rental off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8"/>
          <p:cNvSpPr/>
          <p:nvPr/>
        </p:nvSpPr>
        <p:spPr>
          <a:xfrm flipH="1">
            <a:off x="3962160" y="5486400"/>
            <a:ext cx="144756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5445360" y="5181480"/>
            <a:ext cx="31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oilets and bathroom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nessing Biogas from Human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6" descr="PA192557"/>
          <p:cNvPicPr/>
          <p:nvPr/>
        </p:nvPicPr>
        <p:blipFill>
          <a:blip r:embed="rId2"/>
          <a:stretch/>
        </p:blipFill>
        <p:spPr>
          <a:xfrm>
            <a:off x="714240" y="1643040"/>
            <a:ext cx="7643880" cy="4033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ies of Community Ses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" descr="DSC00124"/>
          <p:cNvPicPr/>
          <p:nvPr/>
        </p:nvPicPr>
        <p:blipFill>
          <a:blip r:embed="rId2"/>
          <a:stretch/>
        </p:blipFill>
        <p:spPr>
          <a:xfrm>
            <a:off x="571680" y="1643040"/>
            <a:ext cx="7929360" cy="4214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Storage Ta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" descr="Picture1"/>
          <p:cNvPicPr/>
          <p:nvPr/>
        </p:nvPicPr>
        <p:blipFill>
          <a:blip r:embed="rId2"/>
          <a:stretch/>
        </p:blipFill>
        <p:spPr>
          <a:xfrm>
            <a:off x="642960" y="1571760"/>
            <a:ext cx="7358040" cy="4286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2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INNOVATIONS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68360" y="620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066680"/>
                <a:tab algn="ctr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066680"/>
                <a:tab algn="ctr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066680"/>
                <a:tab algn="ctr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Wingdings" charset="2"/>
              <a:buChar char=""/>
              <a:tabLst>
                <a:tab algn="l" pos="1066680"/>
                <a:tab algn="ctr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Community-led advocacy on the right to water and sanitation (alternative budgets, petitions, coalitions and international partnerships with agencies such as COH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066680"/>
                <a:tab algn="ctr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Wingdings" charset="2"/>
              <a:buChar char=""/>
              <a:tabLst>
                <a:tab algn="l" pos="1066680"/>
                <a:tab algn="ctr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Demonstrating construction governance in which communities take the lead in planning, designing, costing, procuring and construct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066680"/>
                <a:tab algn="ctr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Wingdings" charset="2"/>
              <a:buChar char=""/>
              <a:tabLst>
                <a:tab algn="l" pos="1066680"/>
                <a:tab algn="ctr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Using anaerobic technology that converts human waste into bio-gas and contributes to environmental sustainability by reducing carbon emiss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066680"/>
                <a:tab algn="ctr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Wingdings" charset="2"/>
              <a:buChar char=""/>
              <a:tabLst>
                <a:tab algn="l" pos="1066680"/>
                <a:tab algn="ctr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Community members holding monthly review meetings and  accountability se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066680"/>
                <a:tab algn="ctr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Wingdings" charset="2"/>
              <a:buChar char=""/>
              <a:tabLst>
                <a:tab algn="l" pos="1066680"/>
                <a:tab algn="ctr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Demonstrating successful partnerships among NGOs, local authority, water providers, international agencies, private sector and communi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066680"/>
                <a:tab algn="ctr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Wingdings" charset="2"/>
              <a:buChar char=""/>
              <a:tabLst>
                <a:tab algn="l" pos="1066680"/>
                <a:tab algn="ctr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Enhancing community ownership through promoting shareholding  in urban water and sanitation services to enable members earn dividends and improve local economic develop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066680"/>
                <a:tab algn="ctr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1066680"/>
                <a:tab algn="ctr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2050560" y="1915920"/>
            <a:ext cx="5040360" cy="2665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it our websi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umande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yo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3" descr="http://upload.wikimedia.org/wikipedia/commons/thumb/e/eb/Nairobi_UhuruPark_Panorama_2010.jpg/1400px-Nairobi_UhuruPark_Panorama_2010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914400"/>
            <a:ext cx="8686800" cy="571500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1"/>
          <p:cNvSpPr/>
          <p:nvPr/>
        </p:nvSpPr>
        <p:spPr>
          <a:xfrm>
            <a:off x="1143000" y="154800"/>
            <a:ext cx="701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b0f0"/>
                </a:solidFill>
                <a:latin typeface="Monotype Corsiva"/>
                <a:ea typeface="Calibri"/>
              </a:rPr>
              <a:t>The City  of Concept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b05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http://upload.wikimedia.org/wikipedia/commons/2/21/Giraffe_-_Skyline_-_Nairobi_-_Park.jpg"/>
          <p:cNvPicPr/>
          <p:nvPr/>
        </p:nvPicPr>
        <p:blipFill>
          <a:blip r:embed="rId2"/>
          <a:stretch/>
        </p:blipFill>
        <p:spPr>
          <a:xfrm>
            <a:off x="685800" y="1295280"/>
            <a:ext cx="8077320" cy="4267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The City of Contem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G:\Paulo Backup\Desktop\13th October 2009\Picha\DSC03921.JPG"/>
          <p:cNvPicPr/>
          <p:nvPr/>
        </p:nvPicPr>
        <p:blipFill>
          <a:blip r:embed="rId2"/>
          <a:stretch/>
        </p:blipFill>
        <p:spPr>
          <a:xfrm>
            <a:off x="228600" y="1523880"/>
            <a:ext cx="8610480" cy="5029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3" descr="IMAG0005"/>
          <p:cNvPicPr/>
          <p:nvPr/>
        </p:nvPicPr>
        <p:blipFill>
          <a:blip r:embed="rId1"/>
          <a:stretch/>
        </p:blipFill>
        <p:spPr>
          <a:xfrm>
            <a:off x="395280" y="1052640"/>
            <a:ext cx="6962760" cy="487656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9"/>
          <p:cNvSpPr/>
          <p:nvPr/>
        </p:nvSpPr>
        <p:spPr>
          <a:xfrm>
            <a:off x="611280" y="333360"/>
            <a:ext cx="274644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A Sanitation Cri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8" descr=""/>
          <p:cNvPicPr/>
          <p:nvPr/>
        </p:nvPicPr>
        <p:blipFill>
          <a:blip r:embed="rId1"/>
          <a:stretch/>
        </p:blipFill>
        <p:spPr>
          <a:xfrm>
            <a:off x="684360" y="3716280"/>
            <a:ext cx="3240000" cy="25210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3" descr="IMAG0013"/>
          <p:cNvPicPr/>
          <p:nvPr/>
        </p:nvPicPr>
        <p:blipFill>
          <a:blip r:embed="rId2"/>
          <a:stretch/>
        </p:blipFill>
        <p:spPr>
          <a:xfrm>
            <a:off x="684360" y="907920"/>
            <a:ext cx="3166920" cy="244980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7"/>
          <p:cNvSpPr/>
          <p:nvPr/>
        </p:nvSpPr>
        <p:spPr>
          <a:xfrm>
            <a:off x="4067280" y="836640"/>
            <a:ext cx="478764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99"/>
                </a:solidFill>
                <a:latin typeface="Arial"/>
              </a:rPr>
              <a:t>Households buy water from water kiosks at prices 4 to 5 times higher than tariffs charged by Nairobi Water and Sewerage Compa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99"/>
                </a:solidFill>
                <a:latin typeface="Arial"/>
              </a:rPr>
              <a:t>Dilapidated pipes cause wastage and expose water to contamin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essive Re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Our rights-based approach seeks to focus on the obligation of state and non-state actors to: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sp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Prot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Ful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The Right to safe, affordable, adequate water and bio-sanitation servi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nya’s New Constitu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mulgated on 2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ugust 2010 after over 20 years of concerted citizen advoc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Article 43:- `Every Person has the right to…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b) to accessible  &amp; adequate housing and to reasonable standards of sanita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d)  to clean and safe water in adequate quantitie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25"/>
          <p:cNvGrpSpPr/>
          <p:nvPr/>
        </p:nvGrpSpPr>
        <p:grpSpPr>
          <a:xfrm>
            <a:off x="2843280" y="692280"/>
            <a:ext cx="5905080" cy="5946480"/>
            <a:chOff x="2843280" y="692280"/>
            <a:chExt cx="5905080" cy="5946480"/>
          </a:xfrm>
        </p:grpSpPr>
        <p:pic>
          <p:nvPicPr>
            <p:cNvPr id="252" name="Picture 10" descr="IMAG0032"/>
            <p:cNvPicPr/>
            <p:nvPr/>
          </p:nvPicPr>
          <p:blipFill>
            <a:blip r:embed="rId1">
              <a:lum bright="-24000"/>
            </a:blip>
            <a:srcRect l="13335" t="0" r="20002" b="14843"/>
            <a:stretch/>
          </p:blipFill>
          <p:spPr>
            <a:xfrm>
              <a:off x="2913480" y="692280"/>
              <a:ext cx="2640600" cy="169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Picture 11" descr="IMAG0008"/>
            <p:cNvPicPr/>
            <p:nvPr/>
          </p:nvPicPr>
          <p:blipFill>
            <a:blip r:embed="rId2"/>
            <a:stretch/>
          </p:blipFill>
          <p:spPr>
            <a:xfrm>
              <a:off x="6179400" y="692280"/>
              <a:ext cx="2544480" cy="169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12" descr="IMAG0004"/>
            <p:cNvPicPr/>
            <p:nvPr/>
          </p:nvPicPr>
          <p:blipFill>
            <a:blip r:embed="rId3"/>
            <a:stretch/>
          </p:blipFill>
          <p:spPr>
            <a:xfrm>
              <a:off x="2843280" y="2737080"/>
              <a:ext cx="2571840" cy="157824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pic>
          <p:nvPicPr>
            <p:cNvPr id="255" name="Picture 13" descr="IMAG0006"/>
            <p:cNvPicPr/>
            <p:nvPr/>
          </p:nvPicPr>
          <p:blipFill>
            <a:blip r:embed="rId4"/>
            <a:stretch/>
          </p:blipFill>
          <p:spPr>
            <a:xfrm>
              <a:off x="2865960" y="4595040"/>
              <a:ext cx="2709720" cy="181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Picture 14" descr="DSC00512"/>
            <p:cNvPicPr/>
            <p:nvPr/>
          </p:nvPicPr>
          <p:blipFill>
            <a:blip r:embed="rId5"/>
            <a:stretch/>
          </p:blipFill>
          <p:spPr>
            <a:xfrm>
              <a:off x="5900760" y="4665600"/>
              <a:ext cx="2778840" cy="175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Rectangle 17"/>
            <p:cNvSpPr/>
            <p:nvPr/>
          </p:nvSpPr>
          <p:spPr>
            <a:xfrm>
              <a:off x="6025680" y="523296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3300"/>
                  </a:solidFill>
                  <a:latin typeface="Arial"/>
                </a:rPr>
                <a:t>The Flam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8" name="Picture 18" descr="Unep 4"/>
            <p:cNvPicPr/>
            <p:nvPr/>
          </p:nvPicPr>
          <p:blipFill>
            <a:blip r:embed="rId6"/>
            <a:stretch/>
          </p:blipFill>
          <p:spPr>
            <a:xfrm>
              <a:off x="6248520" y="2737080"/>
              <a:ext cx="2499840" cy="158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TextBox 12"/>
            <p:cNvSpPr/>
            <p:nvPr/>
          </p:nvSpPr>
          <p:spPr>
            <a:xfrm>
              <a:off x="2865960" y="2449800"/>
              <a:ext cx="2881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Excavation Process by the community Memb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Box 13"/>
            <p:cNvSpPr/>
            <p:nvPr/>
          </p:nvSpPr>
          <p:spPr>
            <a:xfrm>
              <a:off x="6588720" y="2449800"/>
              <a:ext cx="1205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Dome constru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Box 14"/>
            <p:cNvSpPr/>
            <p:nvPr/>
          </p:nvSpPr>
          <p:spPr>
            <a:xfrm>
              <a:off x="3141720" y="4361760"/>
              <a:ext cx="1308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A complete Dom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Box 15"/>
            <p:cNvSpPr/>
            <p:nvPr/>
          </p:nvSpPr>
          <p:spPr>
            <a:xfrm>
              <a:off x="6380280" y="4361760"/>
              <a:ext cx="2207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Construction of  the Superstructu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Box 16"/>
            <p:cNvSpPr/>
            <p:nvPr/>
          </p:nvSpPr>
          <p:spPr>
            <a:xfrm>
              <a:off x="3077640" y="6392520"/>
              <a:ext cx="1450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A complete Bio-Cent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Box 17"/>
            <p:cNvSpPr/>
            <p:nvPr/>
          </p:nvSpPr>
          <p:spPr>
            <a:xfrm>
              <a:off x="6381720" y="6392520"/>
              <a:ext cx="1352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Burning of  Bio - G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Rectangle 39"/>
          <p:cNvSpPr/>
          <p:nvPr/>
        </p:nvSpPr>
        <p:spPr>
          <a:xfrm>
            <a:off x="179280" y="476280"/>
            <a:ext cx="24480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truction and Effective Use of Bio-Cen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Community Members and artisans constructing a bio-sanitation facility – one of the 40 such bio-centres in Nairob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4T07:46:14Z</dcterms:created>
  <dc:creator>umande</dc:creator>
  <dc:description/>
  <dc:language>en-US</dc:language>
  <cp:lastModifiedBy>csd</cp:lastModifiedBy>
  <dcterms:modified xsi:type="dcterms:W3CDTF">2010-09-14T08:47:40Z</dcterms:modified>
  <cp:revision>15</cp:revision>
  <dc:subject/>
  <dc:title>Slide 1</dc:title>
</cp:coreProperties>
</file>