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9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3E6D1-4DF2-41CB-AE62-6C1CCE7D2F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CA888-1546-450B-93CB-267CC276B5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5DDF3-FEF2-4500-AB0A-90A14FE2B1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82CCE-1D2D-4881-B4CB-B3EADD8C73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8D7E4-439D-486B-A6EB-DA75204AF1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52D6B-42CB-4E63-B568-75A827823F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37041-D266-4B88-962A-CB677CBAA0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E1275-CC06-420A-8D7B-A3499AF0D4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Footer Placeholder 3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CH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CB48B-EEA5-4FD3-874B-D7CB966FB8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37F54-6944-4A7F-B31E-64809FCD36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7BC5C-3BAE-46CC-A622-E05D351E6F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5E82B-EF26-47D0-89CE-5D018B53EE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9A934-D2FB-4137-A7DC-04703024E0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C611C-1297-4B1C-8D4D-2372AE3357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12BF3-2C1A-4C48-B84A-0174A53589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2C84B-D344-4107-A930-1987506D8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F0151-9C27-409B-9363-4D21A2686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6F3BF-DC0E-4A28-B67E-362798B0D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892E0-B8B5-4956-B2E2-0AD2E5430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5DF16-E8B1-49E1-BFBC-597D63660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152B8-D640-4C17-AA3A-552CA140F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FCD93-F58A-44EE-8350-E8F501217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DDE40-785D-4CD6-BC37-47288E638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11542-F86C-4348-941B-2DAA60067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85D5F-65E7-4246-963A-5B979E65B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2BEE7-8CC3-4F53-886D-1F2D68F36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438D6-EF4B-49C5-AC14-9721DBDCB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7D5DA-A5A6-4AA7-BAE6-72D27BB5E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984AB-38BD-4914-85D5-0A9C2C938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AC6C8-A692-4BD2-AA20-8E82816E6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304C2-12CB-478A-874D-4D4726FD3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A98B5-F604-4658-8750-FD2AAD41E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76260-B189-441B-BA57-E972A5E50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1AAED-1E61-4C81-947C-2530C6F3B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10A35-FCFF-4DA8-AC30-D903716DE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EC389-420A-4AF8-9716-B2CF0C318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CBABE-365E-4E0D-B285-9B4DBEA2D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65483-02D0-4299-83E1-0D4DDE64E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1B208-2AB3-41F9-8638-A56BE91B6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03F7C-3E5E-4FD8-95F4-FCAE5C7165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160EF-C6C8-4663-A825-5014CA14B6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umande.org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en.wikipedia.org/wiki/File:Nairobi_UhuruPark_Panorama_2010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5" descr="Image3"/>
          <p:cNvPicPr/>
          <p:nvPr/>
        </p:nvPicPr>
        <p:blipFill>
          <a:blip r:embed="rId1"/>
          <a:stretch/>
        </p:blipFill>
        <p:spPr>
          <a:xfrm>
            <a:off x="395280" y="115920"/>
            <a:ext cx="1511280" cy="1152360"/>
          </a:xfrm>
          <a:prstGeom prst="rect">
            <a:avLst/>
          </a:prstGeom>
          <a:ln w="0">
            <a:noFill/>
          </a:ln>
        </p:spPr>
      </p:pic>
      <p:sp>
        <p:nvSpPr>
          <p:cNvPr id="90" name="Text Box 7"/>
          <p:cNvSpPr/>
          <p:nvPr/>
        </p:nvSpPr>
        <p:spPr>
          <a:xfrm>
            <a:off x="179280" y="1341360"/>
            <a:ext cx="2071800" cy="285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9966"/>
                </a:solidFill>
                <a:latin typeface="Georgia"/>
              </a:rPr>
              <a:t>        </a:t>
            </a:r>
            <a:r>
              <a:rPr b="1" lang="en-US" sz="1200" spc="-1" strike="noStrike">
                <a:solidFill>
                  <a:srgbClr val="339966"/>
                </a:solidFill>
                <a:latin typeface="Georgia"/>
              </a:rPr>
              <a:t>UMANDE TRU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6"/>
          <p:cNvSpPr/>
          <p:nvPr/>
        </p:nvSpPr>
        <p:spPr>
          <a:xfrm>
            <a:off x="3635280" y="1341360"/>
            <a:ext cx="5184720" cy="863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Gill Sans MT"/>
              </a:rPr>
              <a:t>Promoting Human Rights in Urban Water and Sanitation in Nairobi, Keny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157"/>
          <p:cNvSpPr/>
          <p:nvPr/>
        </p:nvSpPr>
        <p:spPr>
          <a:xfrm>
            <a:off x="605520" y="5229360"/>
            <a:ext cx="2221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Replication of similar projects to Kisum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174" descr=""/>
          <p:cNvPicPr/>
          <p:nvPr/>
        </p:nvPicPr>
        <p:blipFill>
          <a:blip r:embed="rId2"/>
          <a:srcRect l="50025" t="36471" r="20849" b="19315"/>
          <a:stretch/>
        </p:blipFill>
        <p:spPr>
          <a:xfrm>
            <a:off x="755640" y="1773360"/>
            <a:ext cx="2808360" cy="3384360"/>
          </a:xfrm>
          <a:prstGeom prst="rect">
            <a:avLst/>
          </a:prstGeom>
          <a:ln w="0">
            <a:noFill/>
          </a:ln>
        </p:spPr>
      </p:pic>
      <p:grpSp>
        <p:nvGrpSpPr>
          <p:cNvPr id="94" name="Group 175"/>
          <p:cNvGrpSpPr/>
          <p:nvPr/>
        </p:nvGrpSpPr>
        <p:grpSpPr>
          <a:xfrm>
            <a:off x="4356000" y="2708280"/>
            <a:ext cx="4537080" cy="3728880"/>
            <a:chOff x="4356000" y="2708280"/>
            <a:chExt cx="4537080" cy="3728880"/>
          </a:xfrm>
        </p:grpSpPr>
        <p:sp>
          <p:nvSpPr>
            <p:cNvPr id="95" name="AutoShape 176"/>
            <p:cNvSpPr/>
            <p:nvPr/>
          </p:nvSpPr>
          <p:spPr>
            <a:xfrm>
              <a:off x="4356000" y="2708280"/>
              <a:ext cx="4537080" cy="372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ectangle 177"/>
            <p:cNvSpPr/>
            <p:nvPr/>
          </p:nvSpPr>
          <p:spPr>
            <a:xfrm>
              <a:off x="5550480" y="4174560"/>
              <a:ext cx="99000" cy="17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dc0000"/>
                  </a:solidFill>
                  <a:latin typeface="ESRI Geometric Symbols"/>
                </a:rPr>
                <a:t>$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Rectangle 178"/>
            <p:cNvSpPr/>
            <p:nvPr/>
          </p:nvSpPr>
          <p:spPr>
            <a:xfrm>
              <a:off x="5550480" y="4174560"/>
              <a:ext cx="98280" cy="17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ESRI Geometric Symbols"/>
                </a:rPr>
                <a:t>Z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Rectangle 179"/>
            <p:cNvSpPr/>
            <p:nvPr/>
          </p:nvSpPr>
          <p:spPr>
            <a:xfrm>
              <a:off x="5596920" y="4195800"/>
              <a:ext cx="99000" cy="17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dc0000"/>
                  </a:solidFill>
                  <a:latin typeface="ESRI Geometric Symbols"/>
                </a:rPr>
                <a:t>$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Rectangle 180"/>
            <p:cNvSpPr/>
            <p:nvPr/>
          </p:nvSpPr>
          <p:spPr>
            <a:xfrm>
              <a:off x="5596920" y="4195800"/>
              <a:ext cx="98280" cy="17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ESRI Geometric Symbols"/>
                </a:rPr>
                <a:t>Z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Rectangle 181"/>
            <p:cNvSpPr/>
            <p:nvPr/>
          </p:nvSpPr>
          <p:spPr>
            <a:xfrm>
              <a:off x="5660280" y="4245840"/>
              <a:ext cx="99000" cy="17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dc0000"/>
                  </a:solidFill>
                  <a:latin typeface="ESRI Geometric Symbols"/>
                </a:rPr>
                <a:t>$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Rectangle 182"/>
            <p:cNvSpPr/>
            <p:nvPr/>
          </p:nvSpPr>
          <p:spPr>
            <a:xfrm>
              <a:off x="5660280" y="4245840"/>
              <a:ext cx="98280" cy="17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ESRI Geometric Symbols"/>
                </a:rPr>
                <a:t>Z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Rectangle 183"/>
            <p:cNvSpPr/>
            <p:nvPr/>
          </p:nvSpPr>
          <p:spPr>
            <a:xfrm>
              <a:off x="6501240" y="3522960"/>
              <a:ext cx="99000" cy="17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dc0000"/>
                  </a:solidFill>
                  <a:latin typeface="ESRI Geometric Symbols"/>
                </a:rPr>
                <a:t>$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Rectangle 184"/>
            <p:cNvSpPr/>
            <p:nvPr/>
          </p:nvSpPr>
          <p:spPr>
            <a:xfrm>
              <a:off x="6501240" y="3522960"/>
              <a:ext cx="98280" cy="17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ESRI Geometric Symbols"/>
                </a:rPr>
                <a:t>Z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Rectangle 185"/>
            <p:cNvSpPr/>
            <p:nvPr/>
          </p:nvSpPr>
          <p:spPr>
            <a:xfrm>
              <a:off x="6501240" y="3586320"/>
              <a:ext cx="99000" cy="17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dc0000"/>
                  </a:solidFill>
                  <a:latin typeface="ESRI Geometric Symbols"/>
                </a:rPr>
                <a:t>$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Rectangle 186"/>
            <p:cNvSpPr/>
            <p:nvPr/>
          </p:nvSpPr>
          <p:spPr>
            <a:xfrm>
              <a:off x="6501240" y="3586320"/>
              <a:ext cx="98280" cy="17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ESRI Geometric Symbols"/>
                </a:rPr>
                <a:t>Z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187"/>
            <p:cNvSpPr/>
            <p:nvPr/>
          </p:nvSpPr>
          <p:spPr>
            <a:xfrm>
              <a:off x="6513120" y="3508560"/>
              <a:ext cx="99000" cy="17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dc0000"/>
                  </a:solidFill>
                  <a:latin typeface="ESRI Geometric Symbols"/>
                </a:rPr>
                <a:t>$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Rectangle 188"/>
            <p:cNvSpPr/>
            <p:nvPr/>
          </p:nvSpPr>
          <p:spPr>
            <a:xfrm>
              <a:off x="6513120" y="3508560"/>
              <a:ext cx="98280" cy="17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ESRI Geometric Symbols"/>
                </a:rPr>
                <a:t>Z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189"/>
            <p:cNvSpPr/>
            <p:nvPr/>
          </p:nvSpPr>
          <p:spPr>
            <a:xfrm>
              <a:off x="6506640" y="3537360"/>
              <a:ext cx="99000" cy="17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dc0000"/>
                  </a:solidFill>
                  <a:latin typeface="ESRI Geometric Symbols"/>
                </a:rPr>
                <a:t>$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190"/>
            <p:cNvSpPr/>
            <p:nvPr/>
          </p:nvSpPr>
          <p:spPr>
            <a:xfrm>
              <a:off x="6506640" y="3537360"/>
              <a:ext cx="98280" cy="17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ESRI Geometric Symbols"/>
                </a:rPr>
                <a:t>Z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Rectangle 191"/>
            <p:cNvSpPr/>
            <p:nvPr/>
          </p:nvSpPr>
          <p:spPr>
            <a:xfrm>
              <a:off x="5533200" y="4267080"/>
              <a:ext cx="99000" cy="17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dc0000"/>
                  </a:solidFill>
                  <a:latin typeface="ESRI Geometric Symbols"/>
                </a:rPr>
                <a:t>$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Rectangle 192"/>
            <p:cNvSpPr/>
            <p:nvPr/>
          </p:nvSpPr>
          <p:spPr>
            <a:xfrm>
              <a:off x="5533200" y="4267080"/>
              <a:ext cx="98280" cy="17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ESRI Geometric Symbols"/>
                </a:rPr>
                <a:t>Z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ectangle 193"/>
            <p:cNvSpPr/>
            <p:nvPr/>
          </p:nvSpPr>
          <p:spPr>
            <a:xfrm>
              <a:off x="5509440" y="4288320"/>
              <a:ext cx="99000" cy="17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dc0000"/>
                  </a:solidFill>
                  <a:latin typeface="ESRI Geometric Symbols"/>
                </a:rPr>
                <a:t>$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194"/>
            <p:cNvSpPr/>
            <p:nvPr/>
          </p:nvSpPr>
          <p:spPr>
            <a:xfrm>
              <a:off x="5509440" y="4288320"/>
              <a:ext cx="98280" cy="17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ESRI Geometric Symbols"/>
                </a:rPr>
                <a:t>Z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195"/>
            <p:cNvSpPr/>
            <p:nvPr/>
          </p:nvSpPr>
          <p:spPr>
            <a:xfrm>
              <a:off x="6251760" y="3692520"/>
              <a:ext cx="99000" cy="17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dc0000"/>
                  </a:solidFill>
                  <a:latin typeface="ESRI Geometric Symbols"/>
                </a:rPr>
                <a:t>$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196"/>
            <p:cNvSpPr/>
            <p:nvPr/>
          </p:nvSpPr>
          <p:spPr>
            <a:xfrm>
              <a:off x="6251760" y="3692520"/>
              <a:ext cx="98280" cy="17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ESRI Geometric Symbols"/>
                </a:rPr>
                <a:t>Z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197"/>
            <p:cNvSpPr/>
            <p:nvPr/>
          </p:nvSpPr>
          <p:spPr>
            <a:xfrm>
              <a:off x="6246360" y="3678840"/>
              <a:ext cx="99000" cy="17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dc0000"/>
                  </a:solidFill>
                  <a:latin typeface="ESRI Geometric Symbols"/>
                </a:rPr>
                <a:t>$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Rectangle 198"/>
            <p:cNvSpPr/>
            <p:nvPr/>
          </p:nvSpPr>
          <p:spPr>
            <a:xfrm>
              <a:off x="6246360" y="3678840"/>
              <a:ext cx="98280" cy="17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ESRI Geometric Symbols"/>
                </a:rPr>
                <a:t>Z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Rectangle 199"/>
            <p:cNvSpPr/>
            <p:nvPr/>
          </p:nvSpPr>
          <p:spPr>
            <a:xfrm>
              <a:off x="6495480" y="4380120"/>
              <a:ext cx="99000" cy="17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dc0000"/>
                  </a:solidFill>
                  <a:latin typeface="ESRI Geometric Symbols"/>
                </a:rPr>
                <a:t>$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Rectangle 200"/>
            <p:cNvSpPr/>
            <p:nvPr/>
          </p:nvSpPr>
          <p:spPr>
            <a:xfrm>
              <a:off x="6495480" y="4380120"/>
              <a:ext cx="98280" cy="17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ESRI Geometric Symbols"/>
                </a:rPr>
                <a:t>Z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201"/>
            <p:cNvSpPr/>
            <p:nvPr/>
          </p:nvSpPr>
          <p:spPr>
            <a:xfrm>
              <a:off x="6077520" y="4153320"/>
              <a:ext cx="99000" cy="17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dc0000"/>
                  </a:solidFill>
                  <a:latin typeface="ESRI Geometric Symbols"/>
                </a:rPr>
                <a:t>$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202"/>
            <p:cNvSpPr/>
            <p:nvPr/>
          </p:nvSpPr>
          <p:spPr>
            <a:xfrm>
              <a:off x="6077520" y="4153320"/>
              <a:ext cx="98280" cy="17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ESRI Geometric Symbols"/>
                </a:rPr>
                <a:t>Z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203"/>
            <p:cNvSpPr/>
            <p:nvPr/>
          </p:nvSpPr>
          <p:spPr>
            <a:xfrm>
              <a:off x="5898240" y="4267080"/>
              <a:ext cx="99000" cy="17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dc0000"/>
                  </a:solidFill>
                  <a:latin typeface="ESRI Geometric Symbols"/>
                </a:rPr>
                <a:t>$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204"/>
            <p:cNvSpPr/>
            <p:nvPr/>
          </p:nvSpPr>
          <p:spPr>
            <a:xfrm>
              <a:off x="5898240" y="4267080"/>
              <a:ext cx="98280" cy="17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ESRI Geometric Symbols"/>
                </a:rPr>
                <a:t>Z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205"/>
            <p:cNvSpPr/>
            <p:nvPr/>
          </p:nvSpPr>
          <p:spPr>
            <a:xfrm>
              <a:off x="5973480" y="4117680"/>
              <a:ext cx="99000" cy="17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dc0000"/>
                  </a:solidFill>
                  <a:latin typeface="ESRI Geometric Symbols"/>
                </a:rPr>
                <a:t>$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206"/>
            <p:cNvSpPr/>
            <p:nvPr/>
          </p:nvSpPr>
          <p:spPr>
            <a:xfrm>
              <a:off x="5973480" y="4117680"/>
              <a:ext cx="98280" cy="17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ESRI Geometric Symbols"/>
                </a:rPr>
                <a:t>Z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Rectangle 207"/>
            <p:cNvSpPr/>
            <p:nvPr/>
          </p:nvSpPr>
          <p:spPr>
            <a:xfrm>
              <a:off x="6066360" y="4344480"/>
              <a:ext cx="99000" cy="17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dc0000"/>
                  </a:solidFill>
                  <a:latin typeface="ESRI Geometric Symbols"/>
                </a:rPr>
                <a:t>$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Rectangle 208"/>
            <p:cNvSpPr/>
            <p:nvPr/>
          </p:nvSpPr>
          <p:spPr>
            <a:xfrm>
              <a:off x="6066360" y="4344480"/>
              <a:ext cx="98280" cy="17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ESRI Geometric Symbols"/>
                </a:rPr>
                <a:t>Z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Rectangle 209"/>
            <p:cNvSpPr/>
            <p:nvPr/>
          </p:nvSpPr>
          <p:spPr>
            <a:xfrm>
              <a:off x="5515560" y="4323240"/>
              <a:ext cx="68760" cy="11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00"/>
                  </a:solidFill>
                  <a:latin typeface="ESRI Geometric Symbols"/>
                </a:rPr>
                <a:t>#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Rectangle 210"/>
            <p:cNvSpPr/>
            <p:nvPr/>
          </p:nvSpPr>
          <p:spPr>
            <a:xfrm>
              <a:off x="5515560" y="4323240"/>
              <a:ext cx="70920" cy="11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ESRI Geometric Symbols"/>
                </a:rPr>
                <a:t>Y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Rectangle 211"/>
            <p:cNvSpPr/>
            <p:nvPr/>
          </p:nvSpPr>
          <p:spPr>
            <a:xfrm>
              <a:off x="5642640" y="4302000"/>
              <a:ext cx="68760" cy="11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00"/>
                  </a:solidFill>
                  <a:latin typeface="ESRI Geometric Symbols"/>
                </a:rPr>
                <a:t>#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Rectangle 212"/>
            <p:cNvSpPr/>
            <p:nvPr/>
          </p:nvSpPr>
          <p:spPr>
            <a:xfrm>
              <a:off x="5642640" y="4302000"/>
              <a:ext cx="70920" cy="11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ESRI Geometric Symbols"/>
                </a:rPr>
                <a:t>Y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Rectangle 213"/>
            <p:cNvSpPr/>
            <p:nvPr/>
          </p:nvSpPr>
          <p:spPr>
            <a:xfrm>
              <a:off x="6472080" y="3692520"/>
              <a:ext cx="68760" cy="11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00"/>
                  </a:solidFill>
                  <a:latin typeface="ESRI Geometric Symbols"/>
                </a:rPr>
                <a:t>#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214"/>
            <p:cNvSpPr/>
            <p:nvPr/>
          </p:nvSpPr>
          <p:spPr>
            <a:xfrm>
              <a:off x="6472080" y="3692520"/>
              <a:ext cx="70920" cy="11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ESRI Geometric Symbols"/>
                </a:rPr>
                <a:t>Y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Rectangle 215"/>
            <p:cNvSpPr/>
            <p:nvPr/>
          </p:nvSpPr>
          <p:spPr>
            <a:xfrm>
              <a:off x="6489360" y="3656880"/>
              <a:ext cx="68760" cy="11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00"/>
                  </a:solidFill>
                  <a:latin typeface="ESRI Geometric Symbols"/>
                </a:rPr>
                <a:t>#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Rectangle 216"/>
            <p:cNvSpPr/>
            <p:nvPr/>
          </p:nvSpPr>
          <p:spPr>
            <a:xfrm>
              <a:off x="6489360" y="3656880"/>
              <a:ext cx="70920" cy="11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ESRI Geometric Symbols"/>
                </a:rPr>
                <a:t>Y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Rectangle 217"/>
            <p:cNvSpPr/>
            <p:nvPr/>
          </p:nvSpPr>
          <p:spPr>
            <a:xfrm>
              <a:off x="6530400" y="3564720"/>
              <a:ext cx="68760" cy="11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00"/>
                  </a:solidFill>
                  <a:latin typeface="ESRI Geometric Symbols"/>
                </a:rPr>
                <a:t>#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Rectangle 218"/>
            <p:cNvSpPr/>
            <p:nvPr/>
          </p:nvSpPr>
          <p:spPr>
            <a:xfrm>
              <a:off x="6530400" y="3564720"/>
              <a:ext cx="70920" cy="11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ESRI Geometric Symbols"/>
                </a:rPr>
                <a:t>Y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Rectangle 219"/>
            <p:cNvSpPr/>
            <p:nvPr/>
          </p:nvSpPr>
          <p:spPr>
            <a:xfrm>
              <a:off x="6513120" y="3593160"/>
              <a:ext cx="68760" cy="11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00"/>
                  </a:solidFill>
                  <a:latin typeface="ESRI Geometric Symbols"/>
                </a:rPr>
                <a:t>#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Rectangle 220"/>
            <p:cNvSpPr/>
            <p:nvPr/>
          </p:nvSpPr>
          <p:spPr>
            <a:xfrm>
              <a:off x="6513120" y="3593160"/>
              <a:ext cx="70920" cy="11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ESRI Geometric Symbols"/>
                </a:rPr>
                <a:t>Y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Rectangle 221"/>
            <p:cNvSpPr/>
            <p:nvPr/>
          </p:nvSpPr>
          <p:spPr>
            <a:xfrm>
              <a:off x="5550480" y="4302000"/>
              <a:ext cx="68760" cy="11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00"/>
                  </a:solidFill>
                  <a:latin typeface="ESRI Geometric Symbols"/>
                </a:rPr>
                <a:t>#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Rectangle 222"/>
            <p:cNvSpPr/>
            <p:nvPr/>
          </p:nvSpPr>
          <p:spPr>
            <a:xfrm>
              <a:off x="5550480" y="4302000"/>
              <a:ext cx="70920" cy="11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ESRI Geometric Symbols"/>
                </a:rPr>
                <a:t>Y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Rectangle 223"/>
            <p:cNvSpPr/>
            <p:nvPr/>
          </p:nvSpPr>
          <p:spPr>
            <a:xfrm>
              <a:off x="5649120" y="4280760"/>
              <a:ext cx="68760" cy="11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00"/>
                  </a:solidFill>
                  <a:latin typeface="ESRI Geometric Symbols"/>
                </a:rPr>
                <a:t>#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Rectangle 224"/>
            <p:cNvSpPr/>
            <p:nvPr/>
          </p:nvSpPr>
          <p:spPr>
            <a:xfrm>
              <a:off x="5649120" y="4280760"/>
              <a:ext cx="70920" cy="11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ESRI Geometric Symbols"/>
                </a:rPr>
                <a:t>Y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225"/>
            <p:cNvSpPr/>
            <p:nvPr/>
          </p:nvSpPr>
          <p:spPr>
            <a:xfrm>
              <a:off x="4379400" y="2708280"/>
              <a:ext cx="4104720" cy="3159360"/>
            </a:xfrm>
            <a:prstGeom prst="pie">
              <a:avLst/>
            </a:prstGeom>
            <a:noFill/>
            <a:ln w="13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Rectangle 226"/>
            <p:cNvSpPr/>
            <p:nvPr/>
          </p:nvSpPr>
          <p:spPr>
            <a:xfrm>
              <a:off x="7237440" y="5124240"/>
              <a:ext cx="99000" cy="17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dc0000"/>
                  </a:solidFill>
                  <a:latin typeface="ESRI Geometric Symbols"/>
                </a:rPr>
                <a:t>$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Rectangle 227"/>
            <p:cNvSpPr/>
            <p:nvPr/>
          </p:nvSpPr>
          <p:spPr>
            <a:xfrm>
              <a:off x="7237440" y="5124240"/>
              <a:ext cx="98640" cy="17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ESRI Geometric Symbols"/>
                </a:rPr>
                <a:t>Z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Rectangle 228"/>
            <p:cNvSpPr/>
            <p:nvPr/>
          </p:nvSpPr>
          <p:spPr>
            <a:xfrm>
              <a:off x="7428600" y="5159160"/>
              <a:ext cx="78840" cy="14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Rectangle 229"/>
            <p:cNvSpPr/>
            <p:nvPr/>
          </p:nvSpPr>
          <p:spPr>
            <a:xfrm>
              <a:off x="7498440" y="5159160"/>
              <a:ext cx="61560" cy="14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Rectangle 230"/>
            <p:cNvSpPr/>
            <p:nvPr/>
          </p:nvSpPr>
          <p:spPr>
            <a:xfrm>
              <a:off x="7556400" y="5159160"/>
              <a:ext cx="61560" cy="14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Rectangle 231"/>
            <p:cNvSpPr/>
            <p:nvPr/>
          </p:nvSpPr>
          <p:spPr>
            <a:xfrm>
              <a:off x="7620120" y="5159160"/>
              <a:ext cx="61560" cy="14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Rectangle 232"/>
            <p:cNvSpPr/>
            <p:nvPr/>
          </p:nvSpPr>
          <p:spPr>
            <a:xfrm>
              <a:off x="7677720" y="5159160"/>
              <a:ext cx="28440" cy="14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Rectangle 233"/>
            <p:cNvSpPr/>
            <p:nvPr/>
          </p:nvSpPr>
          <p:spPr>
            <a:xfrm>
              <a:off x="7701480" y="5159160"/>
              <a:ext cx="61560" cy="14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Rectangle 234"/>
            <p:cNvSpPr/>
            <p:nvPr/>
          </p:nvSpPr>
          <p:spPr>
            <a:xfrm>
              <a:off x="7759080" y="5159160"/>
              <a:ext cx="61560" cy="14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Rectangle 235"/>
            <p:cNvSpPr/>
            <p:nvPr/>
          </p:nvSpPr>
          <p:spPr>
            <a:xfrm>
              <a:off x="7817400" y="5159160"/>
              <a:ext cx="28440" cy="18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Rectangle 236"/>
            <p:cNvSpPr/>
            <p:nvPr/>
          </p:nvSpPr>
          <p:spPr>
            <a:xfrm>
              <a:off x="7845840" y="5159160"/>
              <a:ext cx="72720" cy="14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Rectangle 237"/>
            <p:cNvSpPr/>
            <p:nvPr/>
          </p:nvSpPr>
          <p:spPr>
            <a:xfrm>
              <a:off x="7916040" y="5159160"/>
              <a:ext cx="28440" cy="14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Rectangle 238"/>
            <p:cNvSpPr/>
            <p:nvPr/>
          </p:nvSpPr>
          <p:spPr>
            <a:xfrm>
              <a:off x="7939080" y="5159160"/>
              <a:ext cx="61560" cy="14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Rectangle 239"/>
            <p:cNvSpPr/>
            <p:nvPr/>
          </p:nvSpPr>
          <p:spPr>
            <a:xfrm>
              <a:off x="7997400" y="5159160"/>
              <a:ext cx="28440" cy="14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Rectangle 240"/>
            <p:cNvSpPr/>
            <p:nvPr/>
          </p:nvSpPr>
          <p:spPr>
            <a:xfrm>
              <a:off x="8025840" y="5159160"/>
              <a:ext cx="56520" cy="14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Rectangle 241"/>
            <p:cNvSpPr/>
            <p:nvPr/>
          </p:nvSpPr>
          <p:spPr>
            <a:xfrm>
              <a:off x="8078040" y="5159160"/>
              <a:ext cx="33480" cy="14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Rectangle 242"/>
            <p:cNvSpPr/>
            <p:nvPr/>
          </p:nvSpPr>
          <p:spPr>
            <a:xfrm>
              <a:off x="8112600" y="5159160"/>
              <a:ext cx="39600" cy="14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Rectangle 243"/>
            <p:cNvSpPr/>
            <p:nvPr/>
          </p:nvSpPr>
          <p:spPr>
            <a:xfrm>
              <a:off x="8147880" y="5159160"/>
              <a:ext cx="28440" cy="14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Rectangle 244"/>
            <p:cNvSpPr/>
            <p:nvPr/>
          </p:nvSpPr>
          <p:spPr>
            <a:xfrm>
              <a:off x="8176680" y="5159160"/>
              <a:ext cx="61560" cy="14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Rectangle 245"/>
            <p:cNvSpPr/>
            <p:nvPr/>
          </p:nvSpPr>
          <p:spPr>
            <a:xfrm>
              <a:off x="8235000" y="5159160"/>
              <a:ext cx="56520" cy="14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Rectangle 246"/>
            <p:cNvSpPr/>
            <p:nvPr/>
          </p:nvSpPr>
          <p:spPr>
            <a:xfrm>
              <a:off x="8286840" y="5159160"/>
              <a:ext cx="56520" cy="14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247"/>
            <p:cNvSpPr/>
            <p:nvPr/>
          </p:nvSpPr>
          <p:spPr>
            <a:xfrm>
              <a:off x="7254720" y="5002920"/>
              <a:ext cx="68760" cy="11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00"/>
                  </a:solidFill>
                  <a:latin typeface="ESRI Geometric Symbols"/>
                </a:rPr>
                <a:t>#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Rectangle 248"/>
            <p:cNvSpPr/>
            <p:nvPr/>
          </p:nvSpPr>
          <p:spPr>
            <a:xfrm>
              <a:off x="7254720" y="5002920"/>
              <a:ext cx="70920" cy="11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ESRI Geometric Symbols"/>
                </a:rPr>
                <a:t>Y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Rectangle 249"/>
            <p:cNvSpPr/>
            <p:nvPr/>
          </p:nvSpPr>
          <p:spPr>
            <a:xfrm>
              <a:off x="7428600" y="4996080"/>
              <a:ext cx="72720" cy="14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Rectangle 250"/>
            <p:cNvSpPr/>
            <p:nvPr/>
          </p:nvSpPr>
          <p:spPr>
            <a:xfrm>
              <a:off x="7492320" y="4996080"/>
              <a:ext cx="61560" cy="14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Rectangle 251"/>
            <p:cNvSpPr/>
            <p:nvPr/>
          </p:nvSpPr>
          <p:spPr>
            <a:xfrm>
              <a:off x="7556400" y="4996080"/>
              <a:ext cx="90000" cy="14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Rectangle 252"/>
            <p:cNvSpPr/>
            <p:nvPr/>
          </p:nvSpPr>
          <p:spPr>
            <a:xfrm>
              <a:off x="7637400" y="4996080"/>
              <a:ext cx="61560" cy="14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Rectangle 253"/>
            <p:cNvSpPr/>
            <p:nvPr/>
          </p:nvSpPr>
          <p:spPr>
            <a:xfrm>
              <a:off x="7695360" y="4996080"/>
              <a:ext cx="28440" cy="14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Rectangle 254"/>
            <p:cNvSpPr/>
            <p:nvPr/>
          </p:nvSpPr>
          <p:spPr>
            <a:xfrm>
              <a:off x="7724160" y="4996080"/>
              <a:ext cx="56520" cy="14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Rectangle 255"/>
            <p:cNvSpPr/>
            <p:nvPr/>
          </p:nvSpPr>
          <p:spPr>
            <a:xfrm>
              <a:off x="7776360" y="4996080"/>
              <a:ext cx="33480" cy="14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Rectangle 256"/>
            <p:cNvSpPr/>
            <p:nvPr/>
          </p:nvSpPr>
          <p:spPr>
            <a:xfrm>
              <a:off x="7805520" y="4996080"/>
              <a:ext cx="56520" cy="14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Rectangle 257"/>
            <p:cNvSpPr/>
            <p:nvPr/>
          </p:nvSpPr>
          <p:spPr>
            <a:xfrm>
              <a:off x="7863840" y="4996080"/>
              <a:ext cx="61560" cy="14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Rectangle 258"/>
            <p:cNvSpPr/>
            <p:nvPr/>
          </p:nvSpPr>
          <p:spPr>
            <a:xfrm>
              <a:off x="7921800" y="4996080"/>
              <a:ext cx="28440" cy="18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Rectangle 259"/>
            <p:cNvSpPr/>
            <p:nvPr/>
          </p:nvSpPr>
          <p:spPr>
            <a:xfrm>
              <a:off x="7944480" y="4996080"/>
              <a:ext cx="72720" cy="14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Rectangle 260"/>
            <p:cNvSpPr/>
            <p:nvPr/>
          </p:nvSpPr>
          <p:spPr>
            <a:xfrm>
              <a:off x="8014680" y="4996080"/>
              <a:ext cx="28440" cy="14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Rectangle 261"/>
            <p:cNvSpPr/>
            <p:nvPr/>
          </p:nvSpPr>
          <p:spPr>
            <a:xfrm>
              <a:off x="8043120" y="4996080"/>
              <a:ext cx="61560" cy="14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Rectangle 262"/>
            <p:cNvSpPr/>
            <p:nvPr/>
          </p:nvSpPr>
          <p:spPr>
            <a:xfrm>
              <a:off x="8101440" y="4996080"/>
              <a:ext cx="28440" cy="14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Rectangle 263"/>
            <p:cNvSpPr/>
            <p:nvPr/>
          </p:nvSpPr>
          <p:spPr>
            <a:xfrm>
              <a:off x="8124480" y="4996080"/>
              <a:ext cx="56520" cy="14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Rectangle 264"/>
            <p:cNvSpPr/>
            <p:nvPr/>
          </p:nvSpPr>
          <p:spPr>
            <a:xfrm>
              <a:off x="8176680" y="4996080"/>
              <a:ext cx="33480" cy="14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Rectangle 265"/>
            <p:cNvSpPr/>
            <p:nvPr/>
          </p:nvSpPr>
          <p:spPr>
            <a:xfrm>
              <a:off x="8211240" y="4996080"/>
              <a:ext cx="39600" cy="14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Rectangle 266"/>
            <p:cNvSpPr/>
            <p:nvPr/>
          </p:nvSpPr>
          <p:spPr>
            <a:xfrm>
              <a:off x="8246160" y="4996080"/>
              <a:ext cx="28440" cy="14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Rectangle 267"/>
            <p:cNvSpPr/>
            <p:nvPr/>
          </p:nvSpPr>
          <p:spPr>
            <a:xfrm>
              <a:off x="8274960" y="4996080"/>
              <a:ext cx="61560" cy="14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Rectangle 268"/>
            <p:cNvSpPr/>
            <p:nvPr/>
          </p:nvSpPr>
          <p:spPr>
            <a:xfrm>
              <a:off x="8333280" y="4996080"/>
              <a:ext cx="56520" cy="14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Rectangle 269"/>
            <p:cNvSpPr/>
            <p:nvPr/>
          </p:nvSpPr>
          <p:spPr>
            <a:xfrm>
              <a:off x="8385480" y="4996080"/>
              <a:ext cx="56520" cy="14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Rectangle 270"/>
            <p:cNvSpPr/>
            <p:nvPr/>
          </p:nvSpPr>
          <p:spPr>
            <a:xfrm>
              <a:off x="7197120" y="4869000"/>
              <a:ext cx="185400" cy="120240"/>
            </a:xfrm>
            <a:prstGeom prst="rect">
              <a:avLst/>
            </a:prstGeom>
            <a:noFill/>
            <a:ln w="13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Rectangle 271"/>
            <p:cNvSpPr/>
            <p:nvPr/>
          </p:nvSpPr>
          <p:spPr>
            <a:xfrm>
              <a:off x="7428600" y="4854240"/>
              <a:ext cx="72720" cy="14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Rectangle 272"/>
            <p:cNvSpPr/>
            <p:nvPr/>
          </p:nvSpPr>
          <p:spPr>
            <a:xfrm>
              <a:off x="7492320" y="4854240"/>
              <a:ext cx="56520" cy="14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Rectangle 273"/>
            <p:cNvSpPr/>
            <p:nvPr/>
          </p:nvSpPr>
          <p:spPr>
            <a:xfrm>
              <a:off x="7550640" y="4854240"/>
              <a:ext cx="28440" cy="14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Rectangle 274"/>
            <p:cNvSpPr/>
            <p:nvPr/>
          </p:nvSpPr>
          <p:spPr>
            <a:xfrm>
              <a:off x="7573680" y="4854240"/>
              <a:ext cx="39600" cy="14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Rectangle 275"/>
            <p:cNvSpPr/>
            <p:nvPr/>
          </p:nvSpPr>
          <p:spPr>
            <a:xfrm>
              <a:off x="7614360" y="4854240"/>
              <a:ext cx="61560" cy="14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Rectangle 276"/>
            <p:cNvSpPr/>
            <p:nvPr/>
          </p:nvSpPr>
          <p:spPr>
            <a:xfrm>
              <a:off x="7672320" y="4854240"/>
              <a:ext cx="61560" cy="14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Rectangle 277"/>
            <p:cNvSpPr/>
            <p:nvPr/>
          </p:nvSpPr>
          <p:spPr>
            <a:xfrm>
              <a:off x="7730640" y="4854240"/>
              <a:ext cx="28440" cy="14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Rectangle 278"/>
            <p:cNvSpPr/>
            <p:nvPr/>
          </p:nvSpPr>
          <p:spPr>
            <a:xfrm>
              <a:off x="7753680" y="4854240"/>
              <a:ext cx="28440" cy="18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Rectangle 279"/>
            <p:cNvSpPr/>
            <p:nvPr/>
          </p:nvSpPr>
          <p:spPr>
            <a:xfrm>
              <a:off x="4379400" y="6363360"/>
              <a:ext cx="811080" cy="35280"/>
            </a:xfrm>
            <a:prstGeom prst="rect">
              <a:avLst/>
            </a:prstGeom>
            <a:solidFill>
              <a:srgbClr val="0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Rectangle 280"/>
            <p:cNvSpPr/>
            <p:nvPr/>
          </p:nvSpPr>
          <p:spPr>
            <a:xfrm>
              <a:off x="4379400" y="6399000"/>
              <a:ext cx="811080" cy="3492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Rectangle 281"/>
            <p:cNvSpPr/>
            <p:nvPr/>
          </p:nvSpPr>
          <p:spPr>
            <a:xfrm>
              <a:off x="5190840" y="6363360"/>
              <a:ext cx="811440" cy="352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Rectangle 282"/>
            <p:cNvSpPr/>
            <p:nvPr/>
          </p:nvSpPr>
          <p:spPr>
            <a:xfrm>
              <a:off x="5190840" y="6399000"/>
              <a:ext cx="811440" cy="34920"/>
            </a:xfrm>
            <a:prstGeom prst="rect">
              <a:avLst/>
            </a:prstGeom>
            <a:solidFill>
              <a:srgbClr val="0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Rectangle 283"/>
            <p:cNvSpPr/>
            <p:nvPr/>
          </p:nvSpPr>
          <p:spPr>
            <a:xfrm>
              <a:off x="6002640" y="6363360"/>
              <a:ext cx="811800" cy="35280"/>
            </a:xfrm>
            <a:prstGeom prst="rect">
              <a:avLst/>
            </a:prstGeom>
            <a:solidFill>
              <a:srgbClr val="0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Rectangle 284"/>
            <p:cNvSpPr/>
            <p:nvPr/>
          </p:nvSpPr>
          <p:spPr>
            <a:xfrm>
              <a:off x="6002640" y="6399000"/>
              <a:ext cx="811800" cy="3492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Rectangle 285"/>
            <p:cNvSpPr/>
            <p:nvPr/>
          </p:nvSpPr>
          <p:spPr>
            <a:xfrm>
              <a:off x="6814440" y="6363360"/>
              <a:ext cx="811080" cy="352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Rectangle 286"/>
            <p:cNvSpPr/>
            <p:nvPr/>
          </p:nvSpPr>
          <p:spPr>
            <a:xfrm>
              <a:off x="6814440" y="6399000"/>
              <a:ext cx="811080" cy="34920"/>
            </a:xfrm>
            <a:prstGeom prst="rect">
              <a:avLst/>
            </a:prstGeom>
            <a:solidFill>
              <a:srgbClr val="0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Rectangle 287"/>
            <p:cNvSpPr/>
            <p:nvPr/>
          </p:nvSpPr>
          <p:spPr>
            <a:xfrm>
              <a:off x="7625880" y="6363360"/>
              <a:ext cx="806040" cy="35280"/>
            </a:xfrm>
            <a:prstGeom prst="rect">
              <a:avLst/>
            </a:prstGeom>
            <a:solidFill>
              <a:srgbClr val="0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Rectangle 288"/>
            <p:cNvSpPr/>
            <p:nvPr/>
          </p:nvSpPr>
          <p:spPr>
            <a:xfrm>
              <a:off x="7625880" y="6399000"/>
              <a:ext cx="806040" cy="3492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Rectangle 289"/>
            <p:cNvSpPr/>
            <p:nvPr/>
          </p:nvSpPr>
          <p:spPr>
            <a:xfrm>
              <a:off x="4356000" y="6257160"/>
              <a:ext cx="43560" cy="11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Rectangle 290"/>
            <p:cNvSpPr/>
            <p:nvPr/>
          </p:nvSpPr>
          <p:spPr>
            <a:xfrm>
              <a:off x="5150160" y="6257160"/>
              <a:ext cx="43560" cy="11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Rectangle 291"/>
            <p:cNvSpPr/>
            <p:nvPr/>
          </p:nvSpPr>
          <p:spPr>
            <a:xfrm>
              <a:off x="5185080" y="6257160"/>
              <a:ext cx="43560" cy="11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Rectangle 292"/>
            <p:cNvSpPr/>
            <p:nvPr/>
          </p:nvSpPr>
          <p:spPr>
            <a:xfrm>
              <a:off x="5962320" y="6257160"/>
              <a:ext cx="43560" cy="11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Rectangle 293"/>
            <p:cNvSpPr/>
            <p:nvPr/>
          </p:nvSpPr>
          <p:spPr>
            <a:xfrm>
              <a:off x="5996880" y="6257160"/>
              <a:ext cx="43560" cy="11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Rectangle 294"/>
            <p:cNvSpPr/>
            <p:nvPr/>
          </p:nvSpPr>
          <p:spPr>
            <a:xfrm>
              <a:off x="6773400" y="6257160"/>
              <a:ext cx="43560" cy="11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Rectangle 295"/>
            <p:cNvSpPr/>
            <p:nvPr/>
          </p:nvSpPr>
          <p:spPr>
            <a:xfrm>
              <a:off x="6808320" y="6257160"/>
              <a:ext cx="43560" cy="11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Rectangle 296"/>
            <p:cNvSpPr/>
            <p:nvPr/>
          </p:nvSpPr>
          <p:spPr>
            <a:xfrm>
              <a:off x="7585560" y="6257160"/>
              <a:ext cx="43560" cy="11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Rectangle 297"/>
            <p:cNvSpPr/>
            <p:nvPr/>
          </p:nvSpPr>
          <p:spPr>
            <a:xfrm>
              <a:off x="7620120" y="6257160"/>
              <a:ext cx="43560" cy="11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Rectangle 298"/>
            <p:cNvSpPr/>
            <p:nvPr/>
          </p:nvSpPr>
          <p:spPr>
            <a:xfrm>
              <a:off x="8397360" y="6257160"/>
              <a:ext cx="43560" cy="11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Rectangle 299"/>
            <p:cNvSpPr/>
            <p:nvPr/>
          </p:nvSpPr>
          <p:spPr>
            <a:xfrm>
              <a:off x="8431920" y="6257160"/>
              <a:ext cx="43560" cy="11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Rectangle 300"/>
            <p:cNvSpPr/>
            <p:nvPr/>
          </p:nvSpPr>
          <p:spPr>
            <a:xfrm>
              <a:off x="8524440" y="6257160"/>
              <a:ext cx="56880" cy="11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Rectangle 301"/>
            <p:cNvSpPr/>
            <p:nvPr/>
          </p:nvSpPr>
          <p:spPr>
            <a:xfrm>
              <a:off x="8570880" y="6257160"/>
              <a:ext cx="21600" cy="11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Rectangle 302"/>
            <p:cNvSpPr/>
            <p:nvPr/>
          </p:nvSpPr>
          <p:spPr>
            <a:xfrm>
              <a:off x="8593920" y="6257160"/>
              <a:ext cx="21600" cy="11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Rectangle 303"/>
            <p:cNvSpPr/>
            <p:nvPr/>
          </p:nvSpPr>
          <p:spPr>
            <a:xfrm>
              <a:off x="8611200" y="6257160"/>
              <a:ext cx="47880" cy="11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Rectangle 304"/>
            <p:cNvSpPr/>
            <p:nvPr/>
          </p:nvSpPr>
          <p:spPr>
            <a:xfrm>
              <a:off x="8652240" y="6257160"/>
              <a:ext cx="69840" cy="11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Rectangle 305"/>
            <p:cNvSpPr/>
            <p:nvPr/>
          </p:nvSpPr>
          <p:spPr>
            <a:xfrm>
              <a:off x="8715960" y="6257160"/>
              <a:ext cx="43560" cy="11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Rectangle 306"/>
            <p:cNvSpPr/>
            <p:nvPr/>
          </p:nvSpPr>
          <p:spPr>
            <a:xfrm>
              <a:off x="8756280" y="6257160"/>
              <a:ext cx="26280" cy="11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Rectangle 307"/>
            <p:cNvSpPr/>
            <p:nvPr/>
          </p:nvSpPr>
          <p:spPr>
            <a:xfrm>
              <a:off x="8779320" y="6257160"/>
              <a:ext cx="43560" cy="11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Rectangle 308"/>
            <p:cNvSpPr/>
            <p:nvPr/>
          </p:nvSpPr>
          <p:spPr>
            <a:xfrm>
              <a:off x="8820360" y="6257160"/>
              <a:ext cx="30600" cy="11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Rectangle 309"/>
            <p:cNvSpPr/>
            <p:nvPr/>
          </p:nvSpPr>
          <p:spPr>
            <a:xfrm>
              <a:off x="8849520" y="6257160"/>
              <a:ext cx="43560" cy="11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Text Box 310"/>
            <p:cNvSpPr/>
            <p:nvPr/>
          </p:nvSpPr>
          <p:spPr>
            <a:xfrm>
              <a:off x="7416360" y="4685400"/>
              <a:ext cx="1465920" cy="657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 Narrow"/>
                </a:rPr>
                <a:t>Nairobi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 Narrow"/>
                </a:rPr>
                <a:t>Completed Biolatrine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 Narrow"/>
                </a:rPr>
                <a:t>Ongoing Biolatrine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0" name="Line 311"/>
          <p:cNvSpPr/>
          <p:nvPr/>
        </p:nvSpPr>
        <p:spPr>
          <a:xfrm flipV="1">
            <a:off x="1835280" y="3068280"/>
            <a:ext cx="3816360" cy="86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312"/>
          <p:cNvSpPr/>
          <p:nvPr/>
        </p:nvSpPr>
        <p:spPr>
          <a:xfrm>
            <a:off x="1835280" y="3933720"/>
            <a:ext cx="3097080" cy="115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313"/>
          <p:cNvSpPr/>
          <p:nvPr/>
        </p:nvSpPr>
        <p:spPr>
          <a:xfrm>
            <a:off x="971640" y="3573360"/>
            <a:ext cx="1296720" cy="1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Black"/>
              </a:rPr>
              <a:t>Kisumu -Nyalend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314"/>
          <p:cNvSpPr/>
          <p:nvPr/>
        </p:nvSpPr>
        <p:spPr>
          <a:xfrm>
            <a:off x="2340000" y="3860640"/>
            <a:ext cx="1871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Black"/>
              </a:rPr>
              <a:t>(Mathare, Westlands, Kibera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Black"/>
              </a:rPr>
              <a:t>Mukuru, Korogocho villages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99640" y="476280"/>
            <a:ext cx="727236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The front view of Gatwekera Tosha Bio-Cent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Picture 3" descr="IMAG0006"/>
          <p:cNvPicPr/>
          <p:nvPr/>
        </p:nvPicPr>
        <p:blipFill>
          <a:blip r:embed="rId1"/>
          <a:stretch/>
        </p:blipFill>
        <p:spPr>
          <a:xfrm>
            <a:off x="228600" y="1752480"/>
            <a:ext cx="4648320" cy="5105520"/>
          </a:xfrm>
          <a:prstGeom prst="rect">
            <a:avLst/>
          </a:prstGeom>
          <a:ln w="0">
            <a:noFill/>
          </a:ln>
        </p:spPr>
      </p:pic>
      <p:sp>
        <p:nvSpPr>
          <p:cNvPr id="268" name="Line 4"/>
          <p:cNvSpPr/>
          <p:nvPr/>
        </p:nvSpPr>
        <p:spPr>
          <a:xfrm flipH="1">
            <a:off x="4038480" y="2057400"/>
            <a:ext cx="990720" cy="304920"/>
          </a:xfrm>
          <a:prstGeom prst="line">
            <a:avLst/>
          </a:prstGeom>
          <a:ln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5"/>
          <p:cNvSpPr/>
          <p:nvPr/>
        </p:nvSpPr>
        <p:spPr>
          <a:xfrm>
            <a:off x="5109840" y="1523880"/>
            <a:ext cx="34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Open Hall: Operating as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afete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6"/>
          <p:cNvSpPr/>
          <p:nvPr/>
        </p:nvSpPr>
        <p:spPr>
          <a:xfrm flipH="1">
            <a:off x="3886200" y="3886200"/>
            <a:ext cx="1295280" cy="0"/>
          </a:xfrm>
          <a:prstGeom prst="line">
            <a:avLst/>
          </a:prstGeom>
          <a:ln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7"/>
          <p:cNvSpPr/>
          <p:nvPr/>
        </p:nvSpPr>
        <p:spPr>
          <a:xfrm>
            <a:off x="5213520" y="3505320"/>
            <a:ext cx="3030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BO’s office and Rental off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8"/>
          <p:cNvSpPr/>
          <p:nvPr/>
        </p:nvSpPr>
        <p:spPr>
          <a:xfrm flipH="1">
            <a:off x="3962160" y="5486400"/>
            <a:ext cx="1447560" cy="0"/>
          </a:xfrm>
          <a:prstGeom prst="line">
            <a:avLst/>
          </a:prstGeom>
          <a:ln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9"/>
          <p:cNvSpPr/>
          <p:nvPr/>
        </p:nvSpPr>
        <p:spPr>
          <a:xfrm>
            <a:off x="5445360" y="5181480"/>
            <a:ext cx="312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oilets and bathrooms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2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2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2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2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rnessing Biogas from Human Was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6" descr="PA192557"/>
          <p:cNvPicPr/>
          <p:nvPr/>
        </p:nvPicPr>
        <p:blipFill>
          <a:blip r:embed="rId2"/>
          <a:stretch/>
        </p:blipFill>
        <p:spPr>
          <a:xfrm>
            <a:off x="714240" y="1643040"/>
            <a:ext cx="7643880" cy="4033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ries of Community Sess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1" descr="DSC00124"/>
          <p:cNvPicPr/>
          <p:nvPr/>
        </p:nvPicPr>
        <p:blipFill>
          <a:blip r:embed="rId2"/>
          <a:stretch/>
        </p:blipFill>
        <p:spPr>
          <a:xfrm>
            <a:off x="571680" y="1643040"/>
            <a:ext cx="7929360" cy="4214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ter Storage Tan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3" descr="Picture1"/>
          <p:cNvPicPr/>
          <p:nvPr/>
        </p:nvPicPr>
        <p:blipFill>
          <a:blip r:embed="rId2"/>
          <a:stretch/>
        </p:blipFill>
        <p:spPr>
          <a:xfrm>
            <a:off x="642960" y="1571760"/>
            <a:ext cx="7358040" cy="42861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39640" y="476280"/>
            <a:ext cx="8229600" cy="2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EY INNOVATIONS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68360" y="62028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066680"/>
                <a:tab algn="ctr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066680"/>
                <a:tab algn="ctr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066680"/>
                <a:tab algn="ctr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9999"/>
              </a:buClr>
              <a:buFont typeface="Wingdings" charset="2"/>
              <a:buChar char=""/>
              <a:tabLst>
                <a:tab algn="l" pos="1066680"/>
                <a:tab algn="ctr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Community-led advocacy on the right to water and sanitation (alternative budgets, petitions, coalitions and international partnerships with agencies such as COH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066680"/>
                <a:tab algn="ctr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9999"/>
              </a:buClr>
              <a:buFont typeface="Wingdings" charset="2"/>
              <a:buChar char=""/>
              <a:tabLst>
                <a:tab algn="l" pos="1066680"/>
                <a:tab algn="ctr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Demonstrating construction governance in which communities take the lead in planning, designing, costing, procuring and constructi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066680"/>
                <a:tab algn="ctr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9999"/>
              </a:buClr>
              <a:buFont typeface="Wingdings" charset="2"/>
              <a:buChar char=""/>
              <a:tabLst>
                <a:tab algn="l" pos="1066680"/>
                <a:tab algn="ctr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Using anaerobic technology that converts human waste into bio-gas and contributes to environmental sustainability by reducing carbon emission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066680"/>
                <a:tab algn="ctr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9999"/>
              </a:buClr>
              <a:buFont typeface="Wingdings" charset="2"/>
              <a:buChar char=""/>
              <a:tabLst>
                <a:tab algn="l" pos="1066680"/>
                <a:tab algn="ctr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Community members holding monthly review meetings and  accountability se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066680"/>
                <a:tab algn="ctr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9999"/>
              </a:buClr>
              <a:buFont typeface="Wingdings" charset="2"/>
              <a:buChar char=""/>
              <a:tabLst>
                <a:tab algn="l" pos="1066680"/>
                <a:tab algn="ctr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Demonstrating successful partnerships among NGOs, local authority, water providers, international agencies, private sector and communiti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066680"/>
                <a:tab algn="ctr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9999"/>
              </a:buClr>
              <a:buFont typeface="Wingdings" charset="2"/>
              <a:buChar char=""/>
              <a:tabLst>
                <a:tab algn="l" pos="1066680"/>
                <a:tab algn="ctr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Enhancing community ownership through promoting shareholding  in urban water and sanitation services to enable members earn dividends and improve local economic developmen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066680"/>
                <a:tab algn="ctr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1066680"/>
                <a:tab algn="ctr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/>
          </p:nvPr>
        </p:nvSpPr>
        <p:spPr>
          <a:xfrm>
            <a:off x="2050560" y="1915920"/>
            <a:ext cx="5040360" cy="26650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it our websit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umande.or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ankyou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Picture 3" descr="http://upload.wikimedia.org/wikipedia/commons/thumb/e/eb/Nairobi_UhuruPark_Panorama_2010.jpg/1400px-Nairobi_UhuruPark_Panorama_2010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8600" y="914400"/>
            <a:ext cx="8686800" cy="5715000"/>
          </a:xfrm>
          <a:prstGeom prst="rect">
            <a:avLst/>
          </a:prstGeom>
          <a:ln w="0">
            <a:noFill/>
          </a:ln>
        </p:spPr>
      </p:pic>
      <p:sp>
        <p:nvSpPr>
          <p:cNvPr id="235" name="Rectangle 1"/>
          <p:cNvSpPr/>
          <p:nvPr/>
        </p:nvSpPr>
        <p:spPr>
          <a:xfrm>
            <a:off x="1143000" y="154800"/>
            <a:ext cx="7010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b0f0"/>
                </a:solidFill>
                <a:latin typeface="Monotype Corsiva"/>
                <a:ea typeface="Calibri"/>
              </a:rPr>
              <a:t>The City  of Concept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800" spc="-1" strike="noStrike">
              <a:solidFill>
                <a:srgbClr val="00b050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3" descr="http://upload.wikimedia.org/wikipedia/commons/2/21/Giraffe_-_Skyline_-_Nairobi_-_Park.jpg"/>
          <p:cNvPicPr/>
          <p:nvPr/>
        </p:nvPicPr>
        <p:blipFill>
          <a:blip r:embed="rId2"/>
          <a:stretch/>
        </p:blipFill>
        <p:spPr>
          <a:xfrm>
            <a:off x="685800" y="1295280"/>
            <a:ext cx="8077320" cy="4267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The City of Contem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5" descr="G:\Paulo Backup\Desktop\13th October 2009\Picha\DSC03921.JPG"/>
          <p:cNvPicPr/>
          <p:nvPr/>
        </p:nvPicPr>
        <p:blipFill>
          <a:blip r:embed="rId2"/>
          <a:stretch/>
        </p:blipFill>
        <p:spPr>
          <a:xfrm>
            <a:off x="228600" y="1523880"/>
            <a:ext cx="8610480" cy="50292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23" descr="IMAG0005"/>
          <p:cNvPicPr/>
          <p:nvPr/>
        </p:nvPicPr>
        <p:blipFill>
          <a:blip r:embed="rId1"/>
          <a:stretch/>
        </p:blipFill>
        <p:spPr>
          <a:xfrm>
            <a:off x="395280" y="1052640"/>
            <a:ext cx="6962760" cy="4876560"/>
          </a:xfrm>
          <a:prstGeom prst="rect">
            <a:avLst/>
          </a:prstGeom>
          <a:ln w="0">
            <a:noFill/>
          </a:ln>
        </p:spPr>
      </p:pic>
      <p:sp>
        <p:nvSpPr>
          <p:cNvPr id="243" name="Text Box 9"/>
          <p:cNvSpPr/>
          <p:nvPr/>
        </p:nvSpPr>
        <p:spPr>
          <a:xfrm>
            <a:off x="611280" y="333360"/>
            <a:ext cx="2746440" cy="3988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A Sanitation Crisi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8" descr=""/>
          <p:cNvPicPr/>
          <p:nvPr/>
        </p:nvPicPr>
        <p:blipFill>
          <a:blip r:embed="rId1"/>
          <a:stretch/>
        </p:blipFill>
        <p:spPr>
          <a:xfrm>
            <a:off x="684360" y="3716280"/>
            <a:ext cx="3240000" cy="252108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13" descr="IMAG0013"/>
          <p:cNvPicPr/>
          <p:nvPr/>
        </p:nvPicPr>
        <p:blipFill>
          <a:blip r:embed="rId2"/>
          <a:stretch/>
        </p:blipFill>
        <p:spPr>
          <a:xfrm>
            <a:off x="684360" y="907920"/>
            <a:ext cx="3166920" cy="2449800"/>
          </a:xfrm>
          <a:prstGeom prst="rect">
            <a:avLst/>
          </a:prstGeom>
          <a:ln w="0">
            <a:noFill/>
          </a:ln>
        </p:spPr>
      </p:pic>
      <p:sp>
        <p:nvSpPr>
          <p:cNvPr id="246" name="Rectangle 7"/>
          <p:cNvSpPr/>
          <p:nvPr/>
        </p:nvSpPr>
        <p:spPr>
          <a:xfrm>
            <a:off x="4067280" y="836640"/>
            <a:ext cx="4787640" cy="21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9999"/>
                </a:solidFill>
                <a:latin typeface="Arial"/>
              </a:rPr>
              <a:t>Households buy water from water kiosks at prices 4 to 5 times higher than tariffs charged by Nairobi Water and Sewerage Compan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9999"/>
                </a:solidFill>
                <a:latin typeface="Arial"/>
              </a:rPr>
              <a:t>Dilapidated pipes cause wastage and expose water to contamin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essive Re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Arial"/>
              </a:rPr>
              <a:t>Our rights-based approach seeks to focus on the obligation of state and non-state actors to: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esp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Protec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50"/>
                </a:solidFill>
                <a:latin typeface="Arial"/>
              </a:rPr>
              <a:t>Ful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Arial"/>
              </a:rPr>
              <a:t>The Right to safe, affordable, adequate water and bio-sanitation servic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nya’s New Constitu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mulgated on 27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ugust 2010 after over 20 years of concerted citizen advoca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Arial"/>
              </a:rPr>
              <a:t>Article 43:- `Every Person has the right to…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Arial"/>
              </a:rPr>
              <a:t>b) to accessible  &amp; adequate housing and to reasonable standards of sanitation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Arial"/>
              </a:rPr>
              <a:t>d)  to clean and safe water in adequate quantities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Group 25"/>
          <p:cNvGrpSpPr/>
          <p:nvPr/>
        </p:nvGrpSpPr>
        <p:grpSpPr>
          <a:xfrm>
            <a:off x="2843280" y="692280"/>
            <a:ext cx="5905080" cy="5946480"/>
            <a:chOff x="2843280" y="692280"/>
            <a:chExt cx="5905080" cy="5946480"/>
          </a:xfrm>
        </p:grpSpPr>
        <p:pic>
          <p:nvPicPr>
            <p:cNvPr id="252" name="Picture 10" descr="IMAG0032"/>
            <p:cNvPicPr/>
            <p:nvPr/>
          </p:nvPicPr>
          <p:blipFill>
            <a:blip r:embed="rId1">
              <a:lum bright="-24000"/>
            </a:blip>
            <a:srcRect l="13335" t="0" r="20002" b="14843"/>
            <a:stretch/>
          </p:blipFill>
          <p:spPr>
            <a:xfrm>
              <a:off x="2913480" y="692280"/>
              <a:ext cx="2640600" cy="169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3" name="Picture 11" descr="IMAG0008"/>
            <p:cNvPicPr/>
            <p:nvPr/>
          </p:nvPicPr>
          <p:blipFill>
            <a:blip r:embed="rId2"/>
            <a:stretch/>
          </p:blipFill>
          <p:spPr>
            <a:xfrm>
              <a:off x="6179400" y="692280"/>
              <a:ext cx="2544480" cy="169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4" name="Picture 12" descr="IMAG0004"/>
            <p:cNvPicPr/>
            <p:nvPr/>
          </p:nvPicPr>
          <p:blipFill>
            <a:blip r:embed="rId3"/>
            <a:stretch/>
          </p:blipFill>
          <p:spPr>
            <a:xfrm>
              <a:off x="2843280" y="2737080"/>
              <a:ext cx="2571840" cy="1578240"/>
            </a:xfrm>
            <a:prstGeom prst="rect">
              <a:avLst/>
            </a:prstGeom>
            <a:ln w="76320">
              <a:solidFill>
                <a:srgbClr val="000000"/>
              </a:solidFill>
              <a:miter/>
            </a:ln>
          </p:spPr>
        </p:pic>
        <p:pic>
          <p:nvPicPr>
            <p:cNvPr id="255" name="Picture 13" descr="IMAG0006"/>
            <p:cNvPicPr/>
            <p:nvPr/>
          </p:nvPicPr>
          <p:blipFill>
            <a:blip r:embed="rId4"/>
            <a:stretch/>
          </p:blipFill>
          <p:spPr>
            <a:xfrm>
              <a:off x="2865960" y="4595040"/>
              <a:ext cx="2709720" cy="181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6" name="Picture 14" descr="DSC00512"/>
            <p:cNvPicPr/>
            <p:nvPr/>
          </p:nvPicPr>
          <p:blipFill>
            <a:blip r:embed="rId5"/>
            <a:stretch/>
          </p:blipFill>
          <p:spPr>
            <a:xfrm>
              <a:off x="5900760" y="4665600"/>
              <a:ext cx="2778840" cy="175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7" name="Rectangle 17"/>
            <p:cNvSpPr/>
            <p:nvPr/>
          </p:nvSpPr>
          <p:spPr>
            <a:xfrm>
              <a:off x="6025680" y="5232960"/>
              <a:ext cx="784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3300"/>
                  </a:solidFill>
                  <a:latin typeface="Arial"/>
                </a:rPr>
                <a:t>The Flam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8" name="Picture 18" descr="Unep 4"/>
            <p:cNvPicPr/>
            <p:nvPr/>
          </p:nvPicPr>
          <p:blipFill>
            <a:blip r:embed="rId6"/>
            <a:stretch/>
          </p:blipFill>
          <p:spPr>
            <a:xfrm>
              <a:off x="6248520" y="2737080"/>
              <a:ext cx="2499840" cy="158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9" name="TextBox 12"/>
            <p:cNvSpPr/>
            <p:nvPr/>
          </p:nvSpPr>
          <p:spPr>
            <a:xfrm>
              <a:off x="2865960" y="2449800"/>
              <a:ext cx="2881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Arial"/>
                </a:rPr>
                <a:t>Excavation Process by the community Member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TextBox 13"/>
            <p:cNvSpPr/>
            <p:nvPr/>
          </p:nvSpPr>
          <p:spPr>
            <a:xfrm>
              <a:off x="6588720" y="2449800"/>
              <a:ext cx="12052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Arial"/>
                </a:rPr>
                <a:t>Dome construc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TextBox 14"/>
            <p:cNvSpPr/>
            <p:nvPr/>
          </p:nvSpPr>
          <p:spPr>
            <a:xfrm>
              <a:off x="3141720" y="4361760"/>
              <a:ext cx="1308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Arial"/>
                </a:rPr>
                <a:t>A complete Dom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TextBox 15"/>
            <p:cNvSpPr/>
            <p:nvPr/>
          </p:nvSpPr>
          <p:spPr>
            <a:xfrm>
              <a:off x="6380280" y="4361760"/>
              <a:ext cx="2207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Arial"/>
                </a:rPr>
                <a:t>Construction of  the Superstructur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TextBox 16"/>
            <p:cNvSpPr/>
            <p:nvPr/>
          </p:nvSpPr>
          <p:spPr>
            <a:xfrm>
              <a:off x="3077640" y="6392520"/>
              <a:ext cx="1450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Arial"/>
                </a:rPr>
                <a:t>A complete Bio-Cent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TextBox 17"/>
            <p:cNvSpPr/>
            <p:nvPr/>
          </p:nvSpPr>
          <p:spPr>
            <a:xfrm>
              <a:off x="6381720" y="6392520"/>
              <a:ext cx="1352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Arial"/>
                </a:rPr>
                <a:t>Burning of  Bio - Ga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5" name="Rectangle 39"/>
          <p:cNvSpPr/>
          <p:nvPr/>
        </p:nvSpPr>
        <p:spPr>
          <a:xfrm>
            <a:off x="179280" y="476280"/>
            <a:ext cx="244800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struction and Effective Use of Bio-Cent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Community Members and artisans constructing a bio-sanitation facility – one of the 40 such bio-centres in Nairobi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4T07:46:14Z</dcterms:created>
  <dc:creator>umande</dc:creator>
  <dc:description/>
  <dc:language>en-US</dc:language>
  <cp:lastModifiedBy>csd</cp:lastModifiedBy>
  <dcterms:modified xsi:type="dcterms:W3CDTF">2010-09-14T08:47:40Z</dcterms:modified>
  <cp:revision>15</cp:revision>
  <dc:subject/>
  <dc:title>Slide 1</dc:title>
</cp:coreProperties>
</file>