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move the slide</a:t>
            </a:r>
            <a:endParaRPr b="0" lang="en-US" sz="4400" spc="-1" strike="noStrike">
              <a:solidFill>
                <a:srgbClr val="323232"/>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A622-91DA-48F0-9AE9-3675651BEC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6B67-AD4A-4E44-9712-A6225477300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6E393-A265-48FF-BAA5-E629AC48E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20F2-F710-474A-9DE6-BF60F4F12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D6383-36BE-49A7-A838-BF08F46CF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F30DC-0209-4B33-B41C-B820EBC31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85149-BA6C-43D7-85B9-67E1746AD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12C23-E09A-43FE-8251-E55076F89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EE36F-DCF0-4EE7-94C8-78CD51518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4EAC2-51B5-4829-ADF5-F87E278D2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C48E5-50C2-447D-A92F-DE8732AAF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CBDFC-0230-4E4F-9968-CF4D12850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7786B-FE45-4B42-9D18-327570088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2C51-2924-437A-8673-D836D1615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BE8E3-40BB-40B4-9148-A6FA12212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D78BF-D157-4DA4-BD92-6AD163DD2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75ACD-5A0B-4B30-8A7C-0027C1BC7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9FB99-FA1A-4AB3-86BE-3761E2CD9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9DFD8-A5A5-4795-B234-AA2F3E6D0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0C229C-004D-45EC-A806-F0738069BF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715ADD-8968-47D9-AE66-216906A1B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531230-CF08-4CF3-A6E0-D456ACFF1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CAAC76-5B78-47B3-896D-68D7DC86F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A77913-F361-4092-BDBA-EA18E883B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7191E-37EC-43D5-B48A-574FD7CFB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A8D1E8-7CFE-4382-82A4-C7C4834B0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D2DC4F-9AFE-4060-8B56-A0B3EA931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7DC05D-5085-423A-9D9F-3F4764E31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346067-4DC5-4401-A60E-C5DDF52C7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035985-DA76-45B5-8C32-2FEE0F5B8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450EB5-5440-404A-92C7-CA64885F46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AB4B676-AE74-4C76-A5A3-69673BB48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220239-C6A2-4073-AB66-D90E965EB9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BB9084-455D-45FE-8E70-F30C2A432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975AEA-E2D0-4EE1-8E49-682B8532F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DA271-2F9C-44C8-89EE-32A1250C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2CF052-04A1-467F-92C4-9532B4152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ED7FC5-9A4C-4B80-8080-5C12D91AE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871A05-316E-4270-A9CF-8B6A196E3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C24BE8-7798-45F5-8001-1EB2C5F67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46F3A3-2676-44B8-8F27-9896269E9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ECE93C-8BE5-40FB-B772-917E26CCF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181C4D-C877-46F8-B3CD-461759A19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4E79E3D-598A-4709-AF41-3F6991B9C5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88BDEFB-1E92-4429-BF9B-142CEF7EA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DB1D37-7393-49EA-9E8A-09A9E56CF1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82DF-B0B0-4DEE-B62D-1B4C1502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551535-C5D3-4341-8811-96DD4E20C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05B1832-18CF-4337-B6B0-09217E9AE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5EB5BA-E025-486E-A145-2775C7B91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C4749D-6E38-42C4-A674-2E8424ED6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115F9E-2CC9-44A3-9BC4-89AB38BF6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82A17D-B762-4631-AFE2-98842ECA3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88D63F-9834-40DE-B0E8-1D5BD2F61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483187-171C-46F3-9E45-068F55B51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4097EA-A7C7-493C-9572-3E37F5407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C0B0CD6-A1CE-4060-9646-16248E96F5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B31B-4F09-47A4-A4BA-BAC9AEC3E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E9D0D8F-78F4-4FAC-B2C8-D837EEB504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21473B-8A5F-4F51-BAF5-4D52356545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C11A80-E82D-4583-96B9-4BCF23AB1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285142-C098-40A5-B202-5744437EB4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33096-8B2C-4908-9578-7633DCD44D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A1B377-A14F-4119-A58D-C81AFDE12E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820549-18D5-4841-96B3-E2EFB5F6E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1D659E-6ED4-402D-BCCE-5D6DCD5B5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E7212-AC50-4555-AB6C-C25201923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46226-1E3B-4F8E-8BAB-922EAB8F10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2327-FACA-4987-B4D9-A2CC3FD1F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6B66F-8032-4B2F-8290-95480E186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0830DA-D441-45D7-BC8B-4BE25ACD15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19FE86-EA8D-4F53-AF4A-28D1AC3E5D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53DCF36-B8C9-4FB3-A699-D495F815DF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7AE6C6-766E-4724-8FFA-6B65A4A261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52F7846-6256-472F-B101-12C583EFD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F9F9E0F-6E18-4300-813B-FD82352572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E807E8-401D-421D-B6F7-671375140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08AD6B-234D-454E-BFD4-A5A0849D7D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4C9B8F-7FD1-4D1F-8C23-23D48C2AF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F747-0780-4E20-80D8-442279F96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3A5F1D-CA97-4EAC-B86D-D187F6671E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C999A1-C7CF-4588-BFA3-9766F34AC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2DB32D-587A-4B7A-BAEB-10B2A09BC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7B9363A-104F-44AF-A022-B7F575778A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3402FBA-A6BF-452E-8A30-8EB6565AFE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997CB7-7BE7-4FD8-9207-D1EF6C1684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B2307B-E0E6-4397-8030-8F3C1AC87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A038AF-CF03-4C0F-9280-3B8B701CE2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A2862-2E2B-4C3C-ABA7-F4B84E7A67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62ED6-848E-493A-B77A-9D6BA57D2D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37D0-AD14-41A1-8895-D330556B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1B112F-EBAC-4474-9EC7-F5BDDAD41D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16916-C91E-4AEB-AB11-B3F15B328D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B1FD3F-40A9-404D-A610-A8B21677D9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92BAB-1E62-443A-9ACC-B910817A1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89E23B-C8AA-4080-95C5-8960E7DFA1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86E9E6-24DE-48FF-BA3D-B8B2EE6DBA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FC048D-51BE-4459-8F0B-139A8FB64BC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5FCD-AF5A-48C6-8EC8-DED04E8E56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1105-822F-4AB4-96F4-A0B6EEE537FB}"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C5A7-8299-4328-83BE-2AB4082E585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FB09-D44D-43DA-A085-DE6706546F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1888-2439-42DE-93B1-390494C137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E211-AC79-40C0-BE26-F2BE73D6229E}"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A500-6EB5-49FA-98A6-B8D898D887BD}"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43C2-A065-4C71-A2E6-0303F41B45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228600"/>
            <a:ext cx="81532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323232"/>
                </a:solidFill>
                <a:latin typeface="Tw Cen MT"/>
              </a:rPr>
              <a:t>New Horizon Association for Social Development</a:t>
            </a:r>
            <a:br>
              <a:rPr sz="4000"/>
            </a:br>
            <a:endParaRPr b="0" lang="en-US" sz="4000" spc="-1" strike="noStrike">
              <a:solidFill>
                <a:srgbClr val="323232"/>
              </a:solidFill>
              <a:latin typeface="Tw Cen MT"/>
            </a:endParaRPr>
          </a:p>
        </p:txBody>
      </p:sp>
      <p:pic>
        <p:nvPicPr>
          <p:cNvPr id="358" name="Picture 2" descr="C:\Users\Tatjana\Desktop\2[1].jpg"/>
          <p:cNvPicPr/>
          <p:nvPr/>
        </p:nvPicPr>
        <p:blipFill>
          <a:blip r:embed="rId1"/>
          <a:stretch/>
        </p:blipFill>
        <p:spPr>
          <a:xfrm>
            <a:off x="2039760" y="2133720"/>
            <a:ext cx="510552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Sub grants:</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pport participating CDAs develop projects based on a rights based &amp; participatory approach </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pport participating CDAs establish partnerships with local government council and relevant Ministries </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rengthen ties between local decision-makers and target communities through promoting cooperation</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7 local CDAs focus on the Right to Housing and Health</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jects consisted of placing and upgrading water and sewage pipes in 270 homes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stalling water tabs in 210 home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mpact since 2004:</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7 CDAs in target areas work on enhancing the rights of their populations to access safe water and sanitation</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ver 80% of community members are engaged in their local CDA as volunteers </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 protocol between the CDAs and local government council has been signed to work jointly on gradually upgrading homes and providing the local population of Old Cairo with access to safe water and sanitation </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DAs continue raising funds from donor agencies (GTZ, WHO, etc…) </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hart 4" descr=""/>
          <p:cNvPicPr/>
          <p:nvPr/>
        </p:nvPicPr>
        <p:blipFill>
          <a:blip r:embed="rId1"/>
          <a:stretch/>
        </p:blipFill>
        <p:spPr>
          <a:xfrm>
            <a:off x="1066680" y="762120"/>
            <a:ext cx="769644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272520"/>
            <a:ext cx="807732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Recommendations </a:t>
            </a:r>
            <a:endParaRPr b="0" lang="en-US" sz="4400" spc="-1" strike="noStrike">
              <a:solidFill>
                <a:srgbClr val="323232"/>
              </a:solidFill>
              <a:latin typeface="Tw Cen MT"/>
            </a:endParaRPr>
          </a:p>
        </p:txBody>
      </p:sp>
      <p:sp>
        <p:nvSpPr>
          <p:cNvPr id="382" name=""/>
          <p:cNvSpPr txBox="1"/>
          <p:nvPr/>
        </p:nvSpPr>
        <p:spPr>
          <a:xfrm>
            <a:off x="2362320" y="1752120"/>
            <a:ext cx="6400800" cy="441972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UN and international agencies should focus on providing support to building capacities of civil society to take a rights based approach to development in Egypt</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ncourage pilots that demonstrate good practice on grass root level</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bby for greater involvement of national governments to cooperate with Civil Society </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bby for governments to full fill their human rights obligations and responsibilities </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83" name="PlaceHolder 2"/>
          <p:cNvSpPr>
            <a:spLocks noGrp="1"/>
          </p:cNvSpPr>
          <p:nvPr>
            <p:ph/>
          </p:nvPr>
        </p:nvSpPr>
        <p:spPr>
          <a:xfrm>
            <a:off x="609120" y="1752120"/>
            <a:ext cx="1600200" cy="4343400"/>
          </a:xfrm>
          <a:prstGeom prst="rect">
            <a:avLst/>
          </a:prstGeom>
          <a:solidFill>
            <a:srgbClr val="9f2936"/>
          </a:solidFill>
          <a:ln cap="sq" w="50760">
            <a:solidFill>
              <a:srgbClr val="9f2936"/>
            </a:solidFill>
            <a:miter/>
          </a:ln>
        </p:spPr>
        <p:txBody>
          <a:bodyPr lIns="115200" rIns="115200" tIns="72000" bIns="720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232"/>
                </a:solidFill>
                <a:latin typeface="Tw Cen MT"/>
              </a:rPr>
              <a:t>Institutional purpose</a:t>
            </a:r>
            <a:br>
              <a:rPr sz="4000"/>
            </a:br>
            <a:endParaRPr b="0" lang="en-US" sz="40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fontScale="93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Mission: </a:t>
            </a:r>
            <a:r>
              <a:rPr b="0" lang="en-US" sz="2900" spc="-1" strike="noStrike">
                <a:solidFill>
                  <a:srgbClr val="000000"/>
                </a:solidFill>
                <a:latin typeface="Tw Cen MT"/>
              </a:rPr>
              <a:t>To advance sustainable community based structures that enable the most marginalized and neglected communities to secure their livelihoods and improve their quality of life</a:t>
            </a: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nstitutional GOAL: </a:t>
            </a:r>
            <a:r>
              <a:rPr b="0" lang="en-US" sz="2900" spc="-1" strike="noStrike">
                <a:solidFill>
                  <a:srgbClr val="000000"/>
                </a:solidFill>
                <a:latin typeface="Tw Cen MT"/>
              </a:rPr>
              <a:t>To propel socio- economic justice and awareness towards sustainable development among Egyptians from varies social groupings. </a:t>
            </a:r>
            <a:endParaRPr b="0" lang="en-US" sz="2900" spc="-1" strike="noStrike">
              <a:solidFill>
                <a:srgbClr val="000000"/>
              </a:solidFill>
              <a:latin typeface="Tw Cen MT"/>
            </a:endParaRPr>
          </a:p>
          <a:p>
            <a:pPr>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232"/>
                </a:solidFill>
                <a:latin typeface="Tw Cen MT"/>
              </a:rPr>
              <a:t>OUR 3- HOLD APPROACH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s bas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cipatory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Holistic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232"/>
                </a:solidFill>
                <a:latin typeface="Tw Cen MT"/>
              </a:rPr>
              <a:t>From Charity to Development </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ower community members through mobilization and capacity building </a:t>
            </a:r>
            <a:endParaRPr b="0" lang="en-US" sz="29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pel change in attitude among target communities</a:t>
            </a:r>
            <a:endParaRPr b="0" lang="en-US" sz="29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monstrate replicable pilots for sustainable development initiative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a:t>
            </a:r>
            <a:endParaRPr b="0" lang="en-US" sz="4000" spc="-1" strike="noStrike">
              <a:solidFill>
                <a:srgbClr val="323232"/>
              </a:solidFill>
              <a:latin typeface="Tw Cen MT"/>
            </a:endParaRPr>
          </a:p>
        </p:txBody>
      </p:sp>
      <p:sp>
        <p:nvSpPr>
          <p:cNvPr id="366" name=""/>
          <p:cNvSpPr txBox="1"/>
          <p:nvPr/>
        </p:nvSpPr>
        <p:spPr>
          <a:xfrm>
            <a:off x="612720" y="1600200"/>
            <a:ext cx="8153280" cy="51055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rget region: Old Cairo</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tal Population:   ca. 1.1 milli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roject Target areas &amp; populati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b El Kerala: 50,0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in El Sira: 15,000 to  20,0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 Fawajer: 10,0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aten El Bakra: 7,5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Chart 4" descr=""/>
          <p:cNvPicPr/>
          <p:nvPr/>
        </p:nvPicPr>
        <p:blipFill>
          <a:blip r:embed="rId1"/>
          <a:stretch/>
        </p:blipFill>
        <p:spPr>
          <a:xfrm>
            <a:off x="1066680" y="762120"/>
            <a:ext cx="7696440" cy="51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cipatory Rapid Appraisal (PRA) with target communities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pacity building of 15 Community based Associations (CDAs)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b-grants provision to community committees ( local CDA representatives, natural community leaders, local government officials and religious leader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Development Priorities:</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ss to basic Health</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ss to appropriate Housing (safe environment)</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ucation </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hild Right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Capacity Building:</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stitutional capacity building ( managerial &amp; technical)</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raining and adopting on institutional level a rights-based approach</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raining and adopting on institutional level a participatory approach </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raining community leaders on communication skills and networking </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troducing the concept of volunteerism </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1:44:52Z</dcterms:created>
  <dc:creator>Tatjana</dc:creator>
  <dc:description/>
  <dc:language>en-US</dc:language>
  <cp:lastModifiedBy>Zapata</cp:lastModifiedBy>
  <dcterms:modified xsi:type="dcterms:W3CDTF">2010-11-05T11:24:13Z</dcterms:modified>
  <cp:revision>19</cp:revision>
  <dc:subject/>
  <dc:title>New Horizon Association for Social Development</dc:title>
</cp:coreProperties>
</file>