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move the slide</a:t>
            </a:r>
            <a:endParaRPr b="0" lang="en-US" sz="4400" spc="-1" strike="noStrike">
              <a:solidFill>
                <a:srgbClr val="323232"/>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FD4F-A5A8-4ABA-8DD1-7026EAA3785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9459-C038-4370-8870-740AF01202C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6BA99-A5E3-4A97-A1C6-7E5825B6A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46785-62AB-4239-9CAB-E657EA4E4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6F066-0794-4469-85E2-B8574FFDD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3C9B7-F958-4ECE-A1C9-CB13B5DCF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51CCD-E8F4-4AB6-9AFB-E0190F91A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2E5E57-3887-4EFE-847D-6B1FC0B42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20B4F-5624-42E8-B016-F6B092638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4FD75-8862-4176-94AB-BFF914DD8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1D754-38BA-40BF-B28F-634BA5635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58916-9E7D-42DE-8D20-DA4391B51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46B70-D861-4640-BF3F-B3160B6EE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D9D88-B793-4AE3-A326-008B6A14E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1CACA-03F2-4EC4-BDBB-08FEFD117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2C1F0-F531-44C9-9ABD-60C3165D4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27DCD-6ADA-4E99-94D7-1A308E671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E8750-5178-4FE4-9ABE-214BB91FC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86874-6F75-4A34-9A1C-3272BA48E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8A3EE2-EF86-4EE2-BDF5-2E7E06A0A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382304-8BDF-4DE5-B098-F56901193D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7431D0-1228-447E-99F9-D71786FE0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FC174C-6ED4-488C-837A-44F41191A9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779D1F6-C75D-4148-A5EA-43ED089EAE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D3A5A-6937-4E00-A349-03E600BBA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1D50A96-B50F-4DFB-B3E9-0012D9B4C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8D5825-FE8E-415D-8437-780FD48DA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4B6F98-F655-4418-9702-1AD5128B2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DAE60F-1C27-493C-8C09-1ACE9F20D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AAF304-3E82-4C36-9847-F42B6E0F7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CA5563-9253-41C6-A6B5-2F86C85805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0BCAA51-03D9-4BFE-9E6E-E14E9FA3AE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8459F5-6F56-4ADB-A08F-5C5CFD8BC4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31C2194-1F05-4651-B4B7-3D23FC313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1B655B-834D-4567-9B6A-ED78E599C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09F97-6A1B-43C4-9CFE-CDF67EA8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3C123FC-5F45-41FB-821C-483063194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E248F0-F403-4E80-A3B8-FE7A2A5AA4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3DD251-4919-40E3-A638-A2AF32AED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2ACDC1E-E803-4CF0-BC99-C4A361E32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405DD1-5418-442C-AF2D-DDF9D447E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29557C-54B5-4539-B743-50031A471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11AB679-2FF5-4CF5-9125-C73136A281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1E37891-CDC8-428B-9FB6-ACAEA6BF1A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69AAC44-4885-4D32-A2CD-6E40F5DE37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B293802-A8D7-43F5-B597-4063DF4A00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61DDF-AAEC-49E7-9ED4-C9EBA6DE0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0349BD-9E08-4811-BCE2-82E080F388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B27049-6A7F-46DF-8708-DFB2257E8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9D7567-F04E-4E5A-A89F-5D47DE4746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3D6138-E0B3-4102-A8B2-1F1ACF4A4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2E4A2E4-21AD-4AC5-B981-8BBC5C29D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F67678-10F8-4CA3-8532-0B5A44DD7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827624-5BDC-409E-9E21-A3476689A4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DC2F62-7AEC-46BF-BB62-61930F076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E9A0A2-FF71-4635-ABEC-14C1996E5C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A50D0D-D696-4A11-BB40-58271D7962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05EF6-574B-4EFF-B006-A448ACFE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FB582AD-89EC-4C18-B850-4C80E33F35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510858-2F1B-4741-891B-603BEA805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418B4-D5B9-44FD-B654-D6CAE0C08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10762-7D16-4F3E-BB65-0E6D3CFD4F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568E2-8A36-4AF8-93C4-207C4C7B99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69E512-6127-4A2B-884D-ACDA1E896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AC492-2697-4E82-9D77-D8ACEAC3E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83F895-A7E8-4C43-9884-25CA13E91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5C69E0-88C4-4050-9394-1AEECA02B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91C0B-392D-4576-9EBD-4A5314870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E203-6E34-400D-9DC3-38E846737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1638FA-F06D-4F6A-9BF9-B80EC5C132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01DE9-0655-4A44-9A9C-9DBA173A50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EFCABF-3455-4B9F-93BB-405BEF269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CE5519E-3F04-4E27-BA91-58190161A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711406-4AAB-44A5-916F-0A586BE8DF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2628DC-4859-4522-907F-F8B7433DA6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A0F9241-77D5-4141-B1D4-916C313EBD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C13388-0E7E-4421-A05B-DE4403ED0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3DB6BF2-2714-4A37-A858-F3734F11C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8A2BB3-E3AE-4539-AF69-AD04454C4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5AED-BD58-464E-B735-B54D16096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F0EA30E-E9A6-452D-BDB7-73F0C745A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3F03AC-A61C-407D-9E8C-18BB72A78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3E82D9-4A55-4333-BA80-1BC3A82BA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86039D4-2698-4976-84EB-ABE45F14E3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095C1DC-4759-4E7C-B67E-4E3E1018F6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8C1B53-D13B-4D0A-855D-EB4725EFA4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97F39A-C2B2-4484-BC15-D40F732D75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D6E1AB-F49C-47C0-9AC4-6005BDB95A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59C944-DA7E-451F-90D6-B69A6C39EF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FD35BA-1D3D-470A-9517-4C6D7F3A3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1AB62-3D4A-426C-B730-D046C354E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21EF27-8CF0-4EC1-9DFA-C9722CC895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C91BE-AE5E-42A4-BAC8-7B94C1BA0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F6122-E5F8-4DED-986B-8635B13DC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08AA75-FEEB-4624-943D-862E117B7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2B6C65-2590-4904-A4DC-483B57DB24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8030DC-4561-42F8-B84B-1471CEB861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7763C1-7988-4FBF-848D-38522E17E1D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37A3-5361-4525-A968-9DFA7C78294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5A47-DFA0-4BA0-808C-48D29E6F51B8}"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F89D-2C1E-4BB3-A80B-00BD13F3F694}"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70A2-D442-4EBA-B9CF-5EBE44BEC2B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2B4B-8294-4E0C-AE16-ABDAFF844D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F41B-8E72-45E4-B5F7-F3C4A0291CF3}"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5B39-E0D3-4830-A489-EFE54EE5334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EECE-BE2F-49D7-AD91-E91CFDCF8CA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228600"/>
            <a:ext cx="81532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323232"/>
                </a:solidFill>
                <a:latin typeface="Tw Cen MT"/>
              </a:rPr>
              <a:t>New Horizon Association for Social Development</a:t>
            </a:r>
            <a:br>
              <a:rPr sz="4000"/>
            </a:br>
            <a:endParaRPr b="0" lang="en-US" sz="4000" spc="-1" strike="noStrike">
              <a:solidFill>
                <a:srgbClr val="323232"/>
              </a:solidFill>
              <a:latin typeface="Tw Cen MT"/>
            </a:endParaRPr>
          </a:p>
        </p:txBody>
      </p:sp>
      <p:pic>
        <p:nvPicPr>
          <p:cNvPr id="358" name="Picture 2" descr="C:\Users\Tatjana\Desktop\2[1].jpg"/>
          <p:cNvPicPr/>
          <p:nvPr/>
        </p:nvPicPr>
        <p:blipFill>
          <a:blip r:embed="rId1"/>
          <a:stretch/>
        </p:blipFill>
        <p:spPr>
          <a:xfrm>
            <a:off x="2039760" y="2133720"/>
            <a:ext cx="510552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Sub grants:</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 participating CDAs develop projects based on a rights based &amp; participatory approach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 participating CDAs establish partnerships with local government council and relevant Ministries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trengthen ties between local decision-makers and target communities through promoting cooperation</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7 local CDAs focus on the Right to Housing and Health</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jects consisted of placing and upgrading water and sewage pipes in 270 home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stalling water tabs in 210 home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mpact since 2004:</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7 CDAs in target areas work on enhancing the rights of their populations to access safe water and sanitation</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ver 80% of community members are engaged in their local CDA as volunteers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a protocol between the CDAs and local government council has been signed to work jointly on gradually upgrading homes and providing the local population of Old Cairo with access to safe water and sanitation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DAs continue raising funds from donor agencies (GTZ, WHO, etc…) </a:t>
            </a:r>
            <a:endParaRPr b="0" lang="en-US" sz="2700" spc="-1" strike="noStrike">
              <a:solidFill>
                <a:srgbClr val="000000"/>
              </a:solidFill>
              <a:latin typeface="Tw Cen MT"/>
            </a:endParaRPr>
          </a:p>
          <a:p>
            <a:pPr>
              <a:lnSpc>
                <a:spcPct val="80000"/>
              </a:lnSpc>
              <a:spcBef>
                <a:spcPts val="700"/>
              </a:spcBef>
              <a:buClr>
                <a:srgbClr val="9f2936"/>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hart 4" descr=""/>
          <p:cNvPicPr/>
          <p:nvPr/>
        </p:nvPicPr>
        <p:blipFill>
          <a:blip r:embed="rId1"/>
          <a:stretch/>
        </p:blipFill>
        <p:spPr>
          <a:xfrm>
            <a:off x="1066680" y="762120"/>
            <a:ext cx="769644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272520"/>
            <a:ext cx="807732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Recommendations </a:t>
            </a:r>
            <a:endParaRPr b="0" lang="en-US" sz="4400" spc="-1" strike="noStrike">
              <a:solidFill>
                <a:srgbClr val="323232"/>
              </a:solidFill>
              <a:latin typeface="Tw Cen MT"/>
            </a:endParaRPr>
          </a:p>
        </p:txBody>
      </p:sp>
      <p:sp>
        <p:nvSpPr>
          <p:cNvPr id="382" name=""/>
          <p:cNvSpPr txBox="1"/>
          <p:nvPr/>
        </p:nvSpPr>
        <p:spPr>
          <a:xfrm>
            <a:off x="2362320" y="1752120"/>
            <a:ext cx="6400800" cy="441972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UN and international agencies should focus on providing support to building capacities of civil society to take a rights based approach to development in Egypt</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urage pilots that demonstrate good practice on grass root level</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bby for greater involvement of national governments to cooperate with Civil Society </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Lobby for governments to full fill their human rights obligations and responsibilities </a:t>
            </a:r>
            <a:endParaRPr b="0" lang="en-US" sz="2700" spc="-1" strike="noStrike">
              <a:solidFill>
                <a:srgbClr val="000000"/>
              </a:solidFill>
              <a:latin typeface="Tw Cen MT"/>
            </a:endParaRPr>
          </a:p>
          <a:p>
            <a:pPr marL="302760" indent="-3027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383" name="PlaceHolder 2"/>
          <p:cNvSpPr>
            <a:spLocks noGrp="1"/>
          </p:cNvSpPr>
          <p:nvPr>
            <p:ph/>
          </p:nvPr>
        </p:nvSpPr>
        <p:spPr>
          <a:xfrm>
            <a:off x="609120" y="1752120"/>
            <a:ext cx="1600200" cy="4343400"/>
          </a:xfrm>
          <a:prstGeom prst="rect">
            <a:avLst/>
          </a:prstGeom>
          <a:solidFill>
            <a:srgbClr val="9f2936"/>
          </a:solidFill>
          <a:ln cap="sq" w="50760">
            <a:solidFill>
              <a:srgbClr val="9f2936"/>
            </a:solidFill>
            <a:miter/>
          </a:ln>
        </p:spPr>
        <p:txBody>
          <a:bodyPr lIns="115200" rIns="115200" tIns="72000" bIns="720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232"/>
                </a:solidFill>
                <a:latin typeface="Tw Cen MT"/>
              </a:rPr>
              <a:t>Institutional purpose</a:t>
            </a:r>
            <a:br>
              <a:rPr sz="4000"/>
            </a:br>
            <a:endParaRPr b="0" lang="en-US" sz="4000" spc="-1" strike="noStrike">
              <a:solidFill>
                <a:srgbClr val="323232"/>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fontScale="93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Mission: </a:t>
            </a:r>
            <a:r>
              <a:rPr b="0" lang="en-US" sz="2900" spc="-1" strike="noStrike">
                <a:solidFill>
                  <a:srgbClr val="000000"/>
                </a:solidFill>
                <a:latin typeface="Tw Cen MT"/>
              </a:rPr>
              <a:t>To advance sustainable community based structures that enable the most marginalized and neglected communities to secure their livelihoods and improve their quality of life</a:t>
            </a:r>
            <a:endParaRPr b="0" lang="en-US" sz="29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nstitutional GOAL: </a:t>
            </a:r>
            <a:r>
              <a:rPr b="0" lang="en-US" sz="2900" spc="-1" strike="noStrike">
                <a:solidFill>
                  <a:srgbClr val="000000"/>
                </a:solidFill>
                <a:latin typeface="Tw Cen MT"/>
              </a:rPr>
              <a:t>To propel socio- economic justice and awareness towards sustainable development among Egyptians from varies social groupings. </a:t>
            </a:r>
            <a:endParaRPr b="0" lang="en-US" sz="2900" spc="-1" strike="noStrike">
              <a:solidFill>
                <a:srgbClr val="000000"/>
              </a:solidFill>
              <a:latin typeface="Tw Cen MT"/>
            </a:endParaRPr>
          </a:p>
          <a:p>
            <a:pPr>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232"/>
                </a:solidFill>
                <a:latin typeface="Tw Cen MT"/>
              </a:rPr>
              <a:t>OUR 3- HOLD APPROACH </a:t>
            </a:r>
            <a:endParaRPr b="0" lang="en-US" sz="4400" spc="-1" strike="noStrike">
              <a:solidFill>
                <a:srgbClr val="323232"/>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hts bas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cipatory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Holistic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232"/>
                </a:solidFill>
                <a:latin typeface="Tw Cen MT"/>
              </a:rPr>
              <a:t>From Charity to Development </a:t>
            </a:r>
            <a:endParaRPr b="0" lang="en-US" sz="4400" spc="-1" strike="noStrike">
              <a:solidFill>
                <a:srgbClr val="323232"/>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ower community members through mobilization and capacity building </a:t>
            </a:r>
            <a:endParaRPr b="0" lang="en-US" sz="29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pel change in attitude among target communities</a:t>
            </a:r>
            <a:endParaRPr b="0" lang="en-US" sz="2900" spc="-1" strike="noStrike">
              <a:solidFill>
                <a:srgbClr val="000000"/>
              </a:solidFill>
              <a:latin typeface="Tw Cen MT"/>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monstrate replicable pilots for sustainable development initiative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a:t>
            </a:r>
            <a:endParaRPr b="0" lang="en-US" sz="4000" spc="-1" strike="noStrike">
              <a:solidFill>
                <a:srgbClr val="323232"/>
              </a:solidFill>
              <a:latin typeface="Tw Cen MT"/>
            </a:endParaRPr>
          </a:p>
        </p:txBody>
      </p:sp>
      <p:sp>
        <p:nvSpPr>
          <p:cNvPr id="366" name=""/>
          <p:cNvSpPr txBox="1"/>
          <p:nvPr/>
        </p:nvSpPr>
        <p:spPr>
          <a:xfrm>
            <a:off x="612720" y="1600200"/>
            <a:ext cx="8153280" cy="51055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rget region: Old Cairo</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tal Population:   ca. 1.1 mill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roject Target areas &amp; population: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sb El Kerala: 5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in El Sira: 15,000 to  2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l Fawajer: 10,0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aten El Bakra: 7,500 inhabitant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Chart 4" descr=""/>
          <p:cNvPicPr/>
          <p:nvPr/>
        </p:nvPicPr>
        <p:blipFill>
          <a:blip r:embed="rId1"/>
          <a:stretch/>
        </p:blipFill>
        <p:spPr>
          <a:xfrm>
            <a:off x="1066680" y="762120"/>
            <a:ext cx="7696440" cy="518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icipatory Rapid Appraisal (PRA) with target communitie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pacity building of 15 Community based Associations (CDAs) </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grants provision to community committees ( local CDA representatives, natural community leaders, local government officials and religious leaders)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Development Priorities:</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ss to basic Health</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ccess to appropriate Housing (safe environment)</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 </a:t>
            </a:r>
            <a:endParaRPr b="0" lang="en-US" sz="29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hild Right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CASE EXAMPLES: </a:t>
            </a:r>
            <a:r>
              <a:rPr b="1" lang="en-US" sz="4000" spc="-1" strike="noStrike">
                <a:solidFill>
                  <a:srgbClr val="323232"/>
                </a:solidFill>
                <a:latin typeface="Tw Cen MT"/>
              </a:rPr>
              <a:t>Water &amp; Sanitation </a:t>
            </a:r>
            <a:endParaRPr b="0" lang="en-US" sz="4000" spc="-1" strike="noStrike">
              <a:solidFill>
                <a:srgbClr val="323232"/>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w Cen MT"/>
              </a:rPr>
              <a:t>Capacity Building:</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stitutional capacity building ( managerial &amp; technical)</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and adopting on institutional level a rights-based approach</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and adopting on institutional level a participatory approach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Training community leaders on communication skills and networking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troducing the concept of volunteerism </a:t>
            </a: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1:44:52Z</dcterms:created>
  <dc:creator>Tatjana</dc:creator>
  <dc:description/>
  <dc:language>en-US</dc:language>
  <cp:lastModifiedBy>Zapata</cp:lastModifiedBy>
  <dcterms:modified xsi:type="dcterms:W3CDTF">2010-11-05T11:24:13Z</dcterms:modified>
  <cp:revision>19</cp:revision>
  <dc:subject/>
  <dc:title>New Horizon Association for Social Development</dc:title>
</cp:coreProperties>
</file>