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7"/>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8"/>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9"/>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10"/>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1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1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1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AutoShape 1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AutoShape 1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AutoShape 16"/>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AutoShape 17"/>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AutoShape 18"/>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AutoShape 19"/>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AutoShape 20"/>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AutoShape 2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AutoShape 2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AutoShape 2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AutoShape 2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AutoShape 2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AutoShape 26"/>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AutoShape 27"/>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AutoShape 28"/>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AutoShape 29"/>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AutoShape 30"/>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AutoShape 3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AutoShape 3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AutoShape 3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AutoShape 3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AutoShape 35"/>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sldImg"/>
          </p:nvPr>
        </p:nvSpPr>
        <p:spPr>
          <a:xfrm>
            <a:off x="1106640" y="812880"/>
            <a:ext cx="5287680" cy="3968640"/>
          </a:xfrm>
          <a:prstGeom prst="rect">
            <a:avLst/>
          </a:prstGeom>
          <a:noFill/>
          <a:ln w="0">
            <a:noFill/>
          </a:ln>
        </p:spPr>
        <p:txBody>
          <a:bodyPr lIns="90000" rIns="90000" tIns="46800" bIns="46800" anchor="t">
            <a:noAutofit/>
          </a:bodyPr>
          <a:p>
            <a:pPr algn="ct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5640" y="5078160"/>
            <a:ext cx="5991120" cy="4754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 name="PlaceHolder 3"/>
          <p:cNvSpPr>
            <a:spLocks noGrp="1"/>
          </p:cNvSpPr>
          <p:nvPr>
            <p:ph type="hdr"/>
          </p:nvPr>
        </p:nvSpPr>
        <p:spPr>
          <a:xfrm>
            <a:off x="0" y="0"/>
            <a:ext cx="3224160" cy="4968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4"/>
          <p:cNvSpPr>
            <a:spLocks noGrp="1"/>
          </p:cNvSpPr>
          <p:nvPr>
            <p:ph type="dt" idx="4"/>
          </p:nvPr>
        </p:nvSpPr>
        <p:spPr>
          <a:xfrm>
            <a:off x="4278240" y="0"/>
            <a:ext cx="3224160" cy="4968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5"/>
          <p:cNvSpPr>
            <a:spLocks noGrp="1"/>
          </p:cNvSpPr>
          <p:nvPr>
            <p:ph type="ftr" idx="5"/>
          </p:nvPr>
        </p:nvSpPr>
        <p:spPr>
          <a:xfrm>
            <a:off x="0" y="10155240"/>
            <a:ext cx="3224160" cy="496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6"/>
          <p:cNvSpPr>
            <a:spLocks noGrp="1"/>
          </p:cNvSpPr>
          <p:nvPr>
            <p:ph type="sldNum" idx="6"/>
          </p:nvPr>
        </p:nvSpPr>
        <p:spPr>
          <a:xfrm>
            <a:off x="4278240" y="10155240"/>
            <a:ext cx="3224160" cy="49680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5ED56E-FEA3-495E-A64C-4CC7D5D9843E}"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FE7498-B59E-4C2D-A4AE-6E1EC7377F85}"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2"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CB83D1-AC07-45BE-8F58-EA6C1EE518DC}"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6"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57B0CC-2C65-40D9-88D7-2B7E2AF551F0}"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9"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BA5387-328B-4942-91B5-D4841DD79AB8}"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5"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28F832-70CC-4C22-A9AB-81098A9E7B3D}"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28"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8B54FD-27B3-4C26-A714-DA2E94A79052}"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1"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0F09DF-A258-422D-BF9F-BE4903572CEA}"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4"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5"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004BD99-DC51-42DA-931C-7A9031B3C3CC}"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37"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654A99-E1D2-45CE-B5B2-04237D7FB1D8}"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0"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1"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1"/>
          <p:cNvSpPr/>
          <p:nvPr/>
        </p:nvSpPr>
        <p:spPr>
          <a:xfrm>
            <a:off x="4278240" y="10155240"/>
            <a:ext cx="322416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BD262F-AEA8-44F3-A047-768A8D4913C6}"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143" name="Text Box 1"/>
          <p:cNvSpPr/>
          <p:nvPr/>
        </p:nvSpPr>
        <p:spPr>
          <a:xfrm>
            <a:off x="1106640" y="812880"/>
            <a:ext cx="5344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PlaceHolder 1"/>
          <p:cNvSpPr>
            <a:spLocks noGrp="1"/>
          </p:cNvSpPr>
          <p:nvPr>
            <p:ph type="body"/>
          </p:nvPr>
        </p:nvSpPr>
        <p:spPr>
          <a:xfrm>
            <a:off x="755280" y="5078160"/>
            <a:ext cx="5992920" cy="4755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C1DAB-34EE-48E7-A28A-1241A246D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154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4560"/>
            <a:ext cx="90154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02FCA-60F5-4327-8857-EBE24B73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2244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2244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EBAD3-6AA4-42AB-BCC6-36D1A1E98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51040" y="176832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99160" y="176832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456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51040" y="435456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99160" y="4354560"/>
            <a:ext cx="29026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3BF4A-A051-45EF-9292-6D1E77E98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15480" cy="4951440"/>
          </a:xfrm>
          <a:prstGeom prst="rect">
            <a:avLst/>
          </a:prstGeom>
          <a:noFill/>
          <a:ln w="0">
            <a:noFill/>
          </a:ln>
        </p:spPr>
        <p:txBody>
          <a:bodyPr lIns="0" rIns="0" tIns="0" bIns="0" anchor="ctr">
            <a:noAutofit/>
          </a:bodyPr>
          <a:p>
            <a:pPr indent="0" algn="ctr">
              <a:lnSpc>
                <a:spcPct val="41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E601C-6BBD-4123-84EF-F5204EDEA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1548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04AE8-D1FE-45CC-9E2C-7D4BF4E0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2244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C975F-A99E-4BED-BD11-27AB2D27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30C2E-BB9F-4448-9889-DD181D2D0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15480" cy="5645160"/>
          </a:xfrm>
          <a:prstGeom prst="rect">
            <a:avLst/>
          </a:prstGeom>
          <a:noFill/>
          <a:ln w="0">
            <a:noFill/>
          </a:ln>
        </p:spPr>
        <p:txBody>
          <a:bodyPr lIns="0" rIns="0" tIns="0" bIns="0" anchor="ctr">
            <a:noAutofit/>
          </a:bodyPr>
          <a:p>
            <a:pPr algn="ctr">
              <a:lnSpc>
                <a:spcPct val="41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C1D45-991D-421F-BEA2-7B3AFD951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2244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3C81-336E-4220-A31B-0B1FFECB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399200" cy="495144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2244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22440" y="435456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37CFA-153D-493D-A9C0-5195F31CF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22440" y="1768320"/>
            <a:ext cx="439920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4560"/>
            <a:ext cx="9015480" cy="2361600"/>
          </a:xfrm>
          <a:prstGeom prst="rect">
            <a:avLst/>
          </a:prstGeom>
          <a:noFill/>
          <a:ln w="0">
            <a:noFill/>
          </a:ln>
        </p:spPr>
        <p:txBody>
          <a:bodyPr lIns="0" rIns="0" tIns="0" bIns="0" anchor="t">
            <a:normAutofit/>
          </a:bodyPr>
          <a:p>
            <a:pPr indent="0">
              <a:lnSpc>
                <a:spcPct val="41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0E67-BFBA-4A99-B4A3-CB8AAE714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15480" cy="1217520"/>
          </a:xfrm>
          <a:prstGeom prst="rect">
            <a:avLst/>
          </a:prstGeom>
          <a:noFill/>
          <a:ln w="0">
            <a:noFill/>
          </a:ln>
        </p:spPr>
        <p:txBody>
          <a:bodyPr lIns="0" rIns="0" tIns="0" bIns="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15480" cy="4951440"/>
          </a:xfrm>
          <a:prstGeom prst="rect">
            <a:avLst/>
          </a:prstGeom>
          <a:noFill/>
          <a:ln w="0">
            <a:noFill/>
          </a:ln>
        </p:spPr>
        <p:txBody>
          <a:bodyPr lIns="0" rIns="0" tIns="0" bIns="0" anchor="t">
            <a:normAutofit/>
          </a:bodyPr>
          <a:p>
            <a:pPr marL="343080" indent="-34308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41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290680" cy="4842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080"/>
            <a:ext cx="3138480" cy="4842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080"/>
            <a:ext cx="2291040" cy="48420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98C1E4-03B8-4538-BBD7-DEB2F46FB5DA}" type="slidenum">
              <a:rPr b="0" lang="en-GB"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63" descr="mapafondo"/>
          <p:cNvPicPr/>
          <p:nvPr/>
        </p:nvPicPr>
        <p:blipFill>
          <a:blip r:embed="rId1"/>
          <a:stretch/>
        </p:blipFill>
        <p:spPr>
          <a:xfrm>
            <a:off x="3390840" y="0"/>
            <a:ext cx="7292880" cy="6091200"/>
          </a:xfrm>
          <a:prstGeom prst="rect">
            <a:avLst/>
          </a:prstGeom>
          <a:ln w="0">
            <a:noFill/>
          </a:ln>
        </p:spPr>
      </p:pic>
      <p:sp>
        <p:nvSpPr>
          <p:cNvPr id="84" name="4 CuadroTexto"/>
          <p:cNvSpPr/>
          <p:nvPr/>
        </p:nvSpPr>
        <p:spPr>
          <a:xfrm>
            <a:off x="468360" y="65160"/>
            <a:ext cx="72151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Participación por parte de la Sociedad Civil Nicaragüense</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Examen Periódico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Universal (EPU) del</a:t>
            </a:r>
            <a:endParaRPr b="0" lang="en-US" sz="3200" spc="-1" strike="noStrike">
              <a:solidFill>
                <a:srgbClr val="ffffff"/>
              </a:solidFill>
              <a:latin typeface="Arial"/>
            </a:endParaRPr>
          </a:p>
        </p:txBody>
      </p:sp>
      <p:pic>
        <p:nvPicPr>
          <p:cNvPr id="85" name="7 Imagen" descr="logo_cucul_2009 - final.gif"/>
          <p:cNvPicPr/>
          <p:nvPr/>
        </p:nvPicPr>
        <p:blipFill>
          <a:blip r:embed="rId2"/>
          <a:stretch/>
        </p:blipFill>
        <p:spPr>
          <a:xfrm>
            <a:off x="33480" y="6208560"/>
            <a:ext cx="1220760" cy="1330560"/>
          </a:xfrm>
          <a:prstGeom prst="rect">
            <a:avLst/>
          </a:prstGeom>
          <a:ln w="0">
            <a:noFill/>
          </a:ln>
        </p:spPr>
      </p:pic>
      <p:pic>
        <p:nvPicPr>
          <p:cNvPr id="86" name="9 Imagen" descr="innovasocial_Ingenieria-sin-fronteras-profesiones1.png"/>
          <p:cNvPicPr/>
          <p:nvPr/>
        </p:nvPicPr>
        <p:blipFill>
          <a:blip r:embed="rId3"/>
          <a:stretch/>
        </p:blipFill>
        <p:spPr>
          <a:xfrm>
            <a:off x="3325680" y="6494400"/>
            <a:ext cx="2587680" cy="1065240"/>
          </a:xfrm>
          <a:prstGeom prst="rect">
            <a:avLst/>
          </a:prstGeom>
          <a:ln w="0">
            <a:noFill/>
          </a:ln>
        </p:spPr>
      </p:pic>
      <p:sp>
        <p:nvSpPr>
          <p:cNvPr id="87" name="4 CuadroTexto"/>
          <p:cNvSpPr/>
          <p:nvPr/>
        </p:nvSpPr>
        <p:spPr>
          <a:xfrm>
            <a:off x="968400" y="3502080"/>
            <a:ext cx="72151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Consejo de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Naciones Unidas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sobre la Situación </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de los Derechos Humanos</a:t>
            </a:r>
            <a:endParaRPr b="0" lang="en-US" sz="32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0000cc"/>
                </a:solidFill>
                <a:latin typeface="Arial"/>
              </a:rPr>
              <a:t>en Nicaragua.</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1"/>
          <p:cNvSpPr/>
          <p:nvPr/>
        </p:nvSpPr>
        <p:spPr>
          <a:xfrm>
            <a:off x="1150920" y="619920"/>
            <a:ext cx="8929800" cy="5579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La práctica permite hacer seguimiento de este compromiso adquirido en Naciones Unidas por el gobierno nicaragüense hacia la siguiente sesión del EPU.</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Por otra parte, permitirá que las organizaciones de la sociedad civil de Nicaragua, desarrollen procesos de incidencia para el cumplimiento de la recomendación vinculada al Derecho Humano de Acceso al</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Agua Potable y Saneamiento.</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Es preciso sin embargo resaltar que los espacios que surgen en el marco de las NNUU adolecen aún de mecanismos más ágiles y efectivos para garantizar una participación real de las organizaciones de la sociedad civil. Es preciso facilitar la integración de dichos actores en los procesos. En cualquier caso, se trata de un espacio que debe aprovecharse por las organizaciones sociales para defender y denunciar la vulneración de los derechos humanos.</a:t>
            </a:r>
            <a:endParaRPr b="0" lang="en-US" sz="2000" spc="-1" strike="noStrike">
              <a:solidFill>
                <a:srgbClr val="ffffff"/>
              </a:solidFill>
              <a:latin typeface="Arial"/>
            </a:endParaRPr>
          </a:p>
        </p:txBody>
      </p:sp>
      <p:sp>
        <p:nvSpPr>
          <p:cNvPr id="117" name="1 CuadroTexto"/>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800" spc="-1" strike="noStrike">
                <a:solidFill>
                  <a:srgbClr val="0000cc"/>
                </a:solidFill>
                <a:latin typeface="Arial"/>
                <a:ea typeface="Arial"/>
              </a:rPr>
              <a:t>Sostenibilidad y Desafíos</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0" name="Picture 63" descr="mapafondo"/>
          <p:cNvPicPr/>
          <p:nvPr/>
        </p:nvPicPr>
        <p:blipFill>
          <a:blip r:embed="rId1"/>
          <a:stretch/>
        </p:blipFill>
        <p:spPr>
          <a:xfrm>
            <a:off x="1182600" y="0"/>
            <a:ext cx="7293240" cy="6091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3 CuadroTexto"/>
          <p:cNvSpPr/>
          <p:nvPr/>
        </p:nvSpPr>
        <p:spPr>
          <a:xfrm>
            <a:off x="754200" y="112680"/>
            <a:ext cx="907236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El proceso de elaboración del EPU en Nicaragua no fue un proceso abierto por lo que personas y organizaciones de Sociedad Civil con experiencia en los diferentes temas no pudieron participar y aportar.</a:t>
            </a:r>
            <a:endParaRPr b="0" lang="en-US" sz="2000" spc="-1" strike="noStrike">
              <a:solidFill>
                <a:srgbClr val="ffffff"/>
              </a:solidFill>
              <a:latin typeface="Arial"/>
            </a:endParaRPr>
          </a:p>
        </p:txBody>
      </p:sp>
      <p:pic>
        <p:nvPicPr>
          <p:cNvPr id="91" name="7 Imagen" descr="EPU Nicaragua.JPG"/>
          <p:cNvPicPr/>
          <p:nvPr/>
        </p:nvPicPr>
        <p:blipFill>
          <a:blip r:embed="rId1">
            <a:lum bright="18000"/>
          </a:blip>
          <a:stretch/>
        </p:blipFill>
        <p:spPr>
          <a:xfrm>
            <a:off x="968400" y="1335240"/>
            <a:ext cx="6500880" cy="5159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1 CuadroTexto"/>
          <p:cNvSpPr/>
          <p:nvPr/>
        </p:nvSpPr>
        <p:spPr>
          <a:xfrm>
            <a:off x="0" y="0"/>
            <a:ext cx="10080720" cy="57348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3100" spc="-1" strike="noStrike">
                <a:solidFill>
                  <a:srgbClr val="0000cc"/>
                </a:solidFill>
                <a:latin typeface="Arial"/>
                <a:ea typeface="Arial"/>
              </a:rPr>
              <a:t>Metodología</a:t>
            </a:r>
            <a:endParaRPr b="0" lang="en-US" sz="3100" spc="-1" strike="noStrike">
              <a:solidFill>
                <a:srgbClr val="ffffff"/>
              </a:solidFill>
              <a:latin typeface="Arial"/>
            </a:endParaRPr>
          </a:p>
        </p:txBody>
      </p:sp>
      <p:sp>
        <p:nvSpPr>
          <p:cNvPr id="93" name="2 CuadroTexto"/>
          <p:cNvSpPr/>
          <p:nvPr/>
        </p:nvSpPr>
        <p:spPr>
          <a:xfrm>
            <a:off x="896760" y="527040"/>
            <a:ext cx="9183960" cy="613620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ea typeface="Arial"/>
              </a:rPr>
              <a:t>Finalidad: </a:t>
            </a:r>
            <a:r>
              <a:rPr b="0" lang="es-ES" sz="2000" spc="-1" strike="noStrike">
                <a:solidFill>
                  <a:srgbClr val="0000cc"/>
                </a:solidFill>
                <a:latin typeface="Arial"/>
              </a:rPr>
              <a:t>Aprovechar los canales de NNUU para la promoción y defensa del derecho humano al Agua Potable y Saneamiento en Nicaragua</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Público objetivo al que se dirige:</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Estados, y entes gubernamentales con competencias en la materia</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Organizaciones que trabajen en el sector.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En el marco del proceso de Examen Periódico Universal del Consejo de Naciones Unidas de 2010 sobre Nicaragua, el gobierno del país presentó un Informe sobre Derechos Humanos. En el mismo hay muy poca información sobre el nivel de cumplimiento del Derecho Humano al Agua Potable y Saneamiento en Nicaragua.</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000" spc="-1" strike="noStrike">
                <a:solidFill>
                  <a:srgbClr val="0000cc"/>
                </a:solidFill>
                <a:latin typeface="Arial"/>
              </a:rPr>
              <a:t>Ante esto, desde un equipo de trabajo formado por diversas organizaciones de la sociedad civil nicaragüense, apoyadas por una ONG española, se acompañó la preparación de un documento para ser presentado ante las Naciones Unidas.   Posteriormente se elaboraron una serie de recomendaciones que fueron presentadas a través de la delegación española en las sesiones de Ginebr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96" name="Picture 6" descr=""/>
          <p:cNvPicPr/>
          <p:nvPr/>
        </p:nvPicPr>
        <p:blipFill>
          <a:blip r:embed="rId1">
            <a:lum contrast="-2000"/>
          </a:blip>
          <a:stretch/>
        </p:blipFill>
        <p:spPr>
          <a:xfrm>
            <a:off x="2540160" y="0"/>
            <a:ext cx="4500360" cy="7559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1"/>
          <p:cNvSpPr/>
          <p:nvPr/>
        </p:nvSpPr>
        <p:spPr>
          <a:xfrm>
            <a:off x="1039680" y="93240"/>
            <a:ext cx="8929800" cy="61916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Times New Roman"/>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recomienda con urgencia al Estado de Nicaragua garantizar el Derecho al Agua y Saneamiento para toda su población, especialmente la que vive en zonas rurales, así como los núcleos de población más vulnerable, en el sentido de lo establecido en la Observación General Nº 15 del CDESC, así como las Directrices de la Subcomisión del año 2006. </a:t>
            </a:r>
            <a:endParaRPr b="0" lang="en-US" sz="2000" spc="-1" strike="noStrike">
              <a:solidFill>
                <a:srgbClr val="ffffff"/>
              </a:solidFill>
              <a:latin typeface="Arial"/>
            </a:endParaRPr>
          </a:p>
          <a:p>
            <a:pPr algn="just">
              <a:buClr>
                <a:srgbClr val="000000"/>
              </a:buClr>
              <a:buFont typeface="Times New Roman"/>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En este sentido se recomienda e insta al Gobierno para que : </a:t>
            </a:r>
            <a:endParaRPr b="0" lang="en-US" sz="2000" spc="-1" strike="noStrike">
              <a:solidFill>
                <a:srgbClr val="ffffff"/>
              </a:solidFill>
              <a:latin typeface="Arial"/>
            </a:endParaRPr>
          </a:p>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Prioricen los servicios de agua y saneamiento dentro de sus procesos políticos y presupuestarios. </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analice la legislación y las políticas para reconocer e implementar el derecho al agua y saneamiento.</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Desarrolle un plan de acción para la implementación del derecho, estableciendo unos estándares de disponibilidad, calidad y accesibilidad tanto física como económica, que además, contemple la situación de personas más vulnerables y contemple también un enfoque de género. </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1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extiendan los servicios de agua y saneamiento a todos aquellos lugares que carecen de los mismo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Rectangle 1"/>
          <p:cNvSpPr/>
          <p:nvPr/>
        </p:nvSpPr>
        <p:spPr>
          <a:xfrm>
            <a:off x="1039680" y="202680"/>
            <a:ext cx="8929800" cy="6192360"/>
          </a:xfrm>
          <a:prstGeom prst="rect">
            <a:avLst/>
          </a:prstGeom>
          <a:noFill/>
          <a:ln w="0">
            <a:noFill/>
          </a:ln>
        </p:spPr>
        <p:style>
          <a:lnRef idx="0"/>
          <a:fillRef idx="0"/>
          <a:effectRef idx="0"/>
          <a:fontRef idx="minor"/>
        </p:style>
        <p:txBody>
          <a:bodyPr lIns="90000" rIns="90000" tIns="46800" bIns="46800" anchor="ctr">
            <a:spAutoFit/>
          </a:bodyPr>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mejoren las condiciones de asequibilidad de los servicios de agua y saneamiento.</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desarrollen actividades de promoción y capacitación en materia de saneamiento e higiene.</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garantice una adecuada eliminación de residuos.</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promueva el derecho de personas y grupos a tener acceso a la información y a la participación en los procesos de toma de decisiones en materia de agua y saneamiento.</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minimice  la contaminación de los recursos de agua.</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garantice que todas las entidades que presten servicios de agua y saneamiento cumplan los estándares establecidos. </a:t>
            </a: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a:p>
            <a:pPr algn="just">
              <a:buClr>
                <a:srgbClr val="2d2db9"/>
              </a:buClr>
              <a:buFont typeface="Arial"/>
              <a:buChar char="•"/>
              <a:tabLst>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r>
              <a:rPr b="1" lang="es-NI" sz="2000" spc="-1" strike="noStrike">
                <a:solidFill>
                  <a:srgbClr val="2d2db9"/>
                </a:solidFill>
                <a:latin typeface="Arial"/>
                <a:ea typeface="Calibri"/>
              </a:rPr>
              <a:t>Se asista a los individuos y hogares vulnerables y marginados para garantizar su derecho al agua y saneamiento.  </a:t>
            </a:r>
            <a:endParaRPr b="0" lang="en-US" sz="2000" spc="-1" strike="noStrike">
              <a:solidFill>
                <a:srgbClr val="ffffff"/>
              </a:solidFill>
              <a:latin typeface="Arial"/>
            </a:endParaRPr>
          </a:p>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Rectangle 1"/>
          <p:cNvSpPr/>
          <p:nvPr/>
        </p:nvSpPr>
        <p:spPr>
          <a:xfrm>
            <a:off x="968400" y="522000"/>
            <a:ext cx="9144000" cy="5791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Estas demandas se consolidaron en una recomendación sobre el derecho al agua y saneamiento, que fue apoyada y presentada por la Delegación española ante el Consejo de las NNUU:</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a:t>
            </a:r>
            <a:r>
              <a:rPr b="1" i="1" lang="es-ES" sz="2000" spc="-1" strike="noStrike">
                <a:solidFill>
                  <a:srgbClr val="0000cc"/>
                </a:solidFill>
                <a:latin typeface="Arial"/>
              </a:rPr>
              <a:t>Se recomienda con urgencia al Estado de Nicaragua garantizar el derecho al agua potable y saneamiento para toda su población, especialmente la que vive en zonas rurales, así como los núcleos</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de población más vulnerable, en el sentido de lo establecido en la Observación General Nº 15 del CDESC así como las Directrices de la Subcomisión del año 2006.</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Para ello debe extender los servicios de agua potable y saneamiento a todos aquellos lugares que carecen de los mismos, priorizando estos servicios dentro de sus procesos políticos y presupuestarios y</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planificando acciones para la implementación del derecho a nivel municipal, regional y nacional, garantizando estándares de disponibilidad, calidad y accesibilidad tanto física como económica, sin</a:t>
            </a:r>
            <a:endParaRPr b="0" lang="en-US" sz="20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discriminación y con especial atención de colectivos vulnerables”.</a:t>
            </a:r>
            <a:endParaRPr b="0" lang="en-US" sz="2000" spc="-1" strike="noStrike">
              <a:solidFill>
                <a:srgbClr val="ffffff"/>
              </a:solidFill>
              <a:latin typeface="Arial"/>
            </a:endParaRPr>
          </a:p>
        </p:txBody>
      </p:sp>
      <p:sp>
        <p:nvSpPr>
          <p:cNvPr id="106" name="1 CuadroTexto"/>
          <p:cNvSpPr/>
          <p:nvPr/>
        </p:nvSpPr>
        <p:spPr>
          <a:xfrm>
            <a:off x="0" y="0"/>
            <a:ext cx="10080720" cy="57348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3100" spc="-1" strike="noStrike">
                <a:solidFill>
                  <a:srgbClr val="0000cc"/>
                </a:solidFill>
                <a:latin typeface="Arial"/>
                <a:ea typeface="Arial"/>
              </a:rPr>
              <a:t>Impacto</a:t>
            </a:r>
            <a:endParaRPr b="0" lang="en-US" sz="31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Rectangle 1"/>
          <p:cNvSpPr/>
          <p:nvPr/>
        </p:nvSpPr>
        <p:spPr>
          <a:xfrm>
            <a:off x="1150920" y="230760"/>
            <a:ext cx="8929800" cy="4848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Asimismo es preciso que los sistemas de monitoreo y rendición de cuentas sobre la situación de estos servicios incorporen mejoras sustanciales, facilitando el involucramiento de la población para</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garantizar el cumplimiento del derecho en condiciones de equidad”.</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La oficina del EPU en Ginebra preparó un documento que contiene una lista de todas las recomendaciones formuladas durante el diálogo interactivo, incluidos las rechazadas, y las respuestas preliminares dadas por el Estado examinado en el informe del Grupo de Trabajo.</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De las recomendaciones presentadas al Gobierno de la República de Nicaragua, 68 fueron aceptadas y 42 están pendientes (ya sea de aceptación, denegación o no tener una posición clara).</a:t>
            </a: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2519280" y="144360"/>
            <a:ext cx="5400720" cy="4683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Text Box 2"/>
          <p:cNvSpPr/>
          <p:nvPr/>
        </p:nvSpPr>
        <p:spPr>
          <a:xfrm>
            <a:off x="4140360" y="1260360"/>
            <a:ext cx="18072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Rectangle 1"/>
          <p:cNvSpPr/>
          <p:nvPr/>
        </p:nvSpPr>
        <p:spPr>
          <a:xfrm>
            <a:off x="1150920" y="151920"/>
            <a:ext cx="8929800" cy="344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cc"/>
                </a:solidFill>
                <a:latin typeface="Arial"/>
              </a:rPr>
              <a:t>La recomendación Nº 54 (en una versión consolidada), relacionada al Derecho Humano de Acceso al Agua Potable y Saneamiento fue aceptada por la República de Nicaragua y el reto sería darle seguimiento a su implementación: </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a:p>
            <a:pPr>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000" spc="-1" strike="noStrike">
                <a:solidFill>
                  <a:srgbClr val="0000cc"/>
                </a:solidFill>
                <a:latin typeface="Arial"/>
              </a:rPr>
              <a:t>Acogiendo con beneplácito el reconocimiento del acceso al agua potable como un derecho inalienable de todos los seres humanos, continúan los esfuerzos en materia de control y rendición de cuentas, que garantiza los estándares mínimos de disponibilidad, calidad y accesibilidad </a:t>
            </a:r>
            <a:r>
              <a:rPr b="1" lang="es-ES" sz="2000" spc="-1" strike="noStrike">
                <a:solidFill>
                  <a:srgbClr val="0000cc"/>
                </a:solidFill>
                <a:latin typeface="Arial"/>
              </a:rPr>
              <a:t>(Recomendación de España).</a:t>
            </a:r>
            <a:endParaRPr b="0" lang="en-US" sz="2000" spc="-1" strike="noStrike">
              <a:solidFill>
                <a:srgbClr val="ffffff"/>
              </a:solidFill>
              <a:latin typeface="Arial"/>
            </a:endParaRPr>
          </a:p>
        </p:txBody>
      </p:sp>
      <p:pic>
        <p:nvPicPr>
          <p:cNvPr id="113" name="5 Imagen" descr="Lavado d emanos.JPG"/>
          <p:cNvPicPr/>
          <p:nvPr/>
        </p:nvPicPr>
        <p:blipFill>
          <a:blip r:embed="rId1"/>
          <a:stretch/>
        </p:blipFill>
        <p:spPr>
          <a:xfrm>
            <a:off x="2111400" y="3708360"/>
            <a:ext cx="5280120" cy="297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A CUCULMECA-COSUDE</dc:creator>
  <dc:description/>
  <dc:language>en-US</dc:language>
  <cp:lastModifiedBy>Usuario</cp:lastModifiedBy>
  <dcterms:modified xsi:type="dcterms:W3CDTF">2010-09-13T12:41:55Z</dcterms:modified>
  <cp:revision>110</cp:revision>
  <dc:subject/>
  <dc:title>Diapositiva 1</dc:title>
</cp:coreProperties>
</file>