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A646A-41BA-4419-BAB2-3F4B816D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5680" y="1326960"/>
            <a:ext cx="847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36280" y="1832040"/>
            <a:ext cx="707724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36280" y="4225320"/>
            <a:ext cx="707724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1B7D0-657D-4F63-A7D8-105D7A5A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5680" y="1326960"/>
            <a:ext cx="847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36280" y="1832040"/>
            <a:ext cx="345348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62920" y="1832040"/>
            <a:ext cx="345348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36280" y="4225320"/>
            <a:ext cx="345348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62920" y="4225320"/>
            <a:ext cx="345348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E30F-C803-4A7E-A807-812BEFA4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55680" y="1326960"/>
            <a:ext cx="847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36280" y="1832040"/>
            <a:ext cx="227880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29560" y="1832040"/>
            <a:ext cx="227880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2480" y="1832040"/>
            <a:ext cx="227880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736280" y="4225320"/>
            <a:ext cx="227880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129560" y="4225320"/>
            <a:ext cx="227880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2480" y="4225320"/>
            <a:ext cx="227880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D6CDC-9288-4082-9AC5-27A49014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5680" y="1326960"/>
            <a:ext cx="847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736280" y="1832040"/>
            <a:ext cx="707724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798C4-277E-4B6A-8B97-18E91557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5680" y="1326960"/>
            <a:ext cx="847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36280" y="1832040"/>
            <a:ext cx="70772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796B6-0C37-4787-B804-57FF0B3F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5680" y="1326960"/>
            <a:ext cx="847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36280" y="1832040"/>
            <a:ext cx="345348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62920" y="1832040"/>
            <a:ext cx="345348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6C4C-F721-46A0-A7BC-21DBF3B1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5680" y="1326960"/>
            <a:ext cx="847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F757C-6FC3-4A17-BFD3-A87739BC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55680" y="1371240"/>
            <a:ext cx="8470800" cy="20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0B581-6D02-4700-9C71-816FEECD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5680" y="1326960"/>
            <a:ext cx="847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36280" y="1832040"/>
            <a:ext cx="345348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62920" y="1832040"/>
            <a:ext cx="345348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36280" y="4225320"/>
            <a:ext cx="345348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17E0C-BAD1-4439-B151-06BB05B3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5680" y="1326960"/>
            <a:ext cx="847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36280" y="1832040"/>
            <a:ext cx="345348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62920" y="1832040"/>
            <a:ext cx="345348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62920" y="4225320"/>
            <a:ext cx="345348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1B487-C6AB-4F19-AA0F-05F39A2B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5680" y="1326960"/>
            <a:ext cx="847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36280" y="1832040"/>
            <a:ext cx="345348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62920" y="1832040"/>
            <a:ext cx="345348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36280" y="4225320"/>
            <a:ext cx="7077240" cy="21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D2BDE-55A4-4193-8AB2-84545050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547640" cy="11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0" y="1932120"/>
              <a:ext cx="1547640" cy="49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0" y="1413000"/>
              <a:ext cx="9144000" cy="360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4"/>
            <a:stretch/>
          </p:blipFill>
          <p:spPr>
            <a:xfrm>
              <a:off x="257040" y="177840"/>
              <a:ext cx="2640240" cy="90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1736280" y="1832040"/>
            <a:ext cx="70772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 algn="just">
              <a:spcBef>
                <a:spcPts val="550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 algn="just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 algn="just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355680" y="1371240"/>
            <a:ext cx="8470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908760" y="651528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05DE-B1E1-4DC0-98A2-8AE96A0398A1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514600" y="6515280"/>
            <a:ext cx="41148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330120" y="650232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47640" cy="11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932120"/>
              <a:ext cx="1547640" cy="49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1413000"/>
              <a:ext cx="9144000" cy="360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257040" y="177840"/>
              <a:ext cx="2640240" cy="90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826920" y="1359000"/>
            <a:ext cx="7401240" cy="4851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9040" y="1498680"/>
            <a:ext cx="8445600" cy="39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0000"/>
                </a:solidFill>
                <a:latin typeface="Arial"/>
              </a:rPr>
              <a:t>Portuguese Cooperation Experiences in Water and San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cc"/>
                </a:solidFill>
                <a:latin typeface="Arial"/>
              </a:rPr>
              <a:t>Consultation with Bilateral Development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0000cc"/>
                </a:solidFill>
                <a:latin typeface="Arial"/>
              </a:rPr>
              <a:t>Lisbon, 20-21 May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1371240"/>
            <a:ext cx="8470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Levels of Intervention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– Bilateral Co-operat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7320" y="1933560"/>
            <a:ext cx="82962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522360" indent="0" algn="just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In this regard we have chosen two projects to be presented here, which even though they are not water and sanitation projects </a:t>
            </a:r>
            <a:r>
              <a:rPr b="0" i="1" lang="pt-PT" sz="2000" spc="-1" strike="noStrike">
                <a:solidFill>
                  <a:srgbClr val="0000ff"/>
                </a:solidFill>
                <a:latin typeface="Arial"/>
              </a:rPr>
              <a:t>de per si, </a:t>
            </a: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integrate water and sanitation components.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522360" indent="0" algn="just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522360" indent="-65160" algn="just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Project “Health for All” in S. Tomé and Príncipe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522360" indent="0" algn="just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522360" indent="-65160" algn="just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Rural Development Programme in the Coastal Zone” in Mozambiqu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07FEF-1E30-4D16-A8CC-F160734423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5680" y="1371240"/>
            <a:ext cx="8470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Project “Health for All” in S. Tomé and Príncip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2840" y="2022120"/>
            <a:ext cx="8410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ff"/>
                </a:solidFill>
                <a:latin typeface="Arial"/>
              </a:rPr>
              <a:t>Main objective: promote quality in the health care system management and provision.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ff"/>
                </a:solidFill>
                <a:latin typeface="Arial"/>
              </a:rPr>
              <a:t>Duration: 4 year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ff"/>
                </a:solidFill>
                <a:latin typeface="Arial"/>
              </a:rPr>
              <a:t>Financing entity: IPAD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ff"/>
                </a:solidFill>
                <a:latin typeface="Arial"/>
              </a:rPr>
              <a:t>Implementing entity: NGO IMVF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ff"/>
                </a:solidFill>
                <a:latin typeface="Arial"/>
              </a:rPr>
              <a:t>Local partner: Ministry of Health of S.Tomé and Princip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ff"/>
                </a:solidFill>
                <a:latin typeface="Arial"/>
              </a:rPr>
              <a:t>Beneficiaries: whole population of S. Tomé islands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18C7-EF84-4FE2-9138-03F879DACFC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680" y="1371240"/>
            <a:ext cx="8470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Project “Health for All” in S. Tomé and Príncip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69960" y="1832040"/>
            <a:ext cx="814392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ff"/>
                </a:solidFill>
                <a:latin typeface="Arial"/>
              </a:rPr>
              <a:t>Within this project it is of utmost importance to reduce the incidence of communicable deseases.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ff"/>
                </a:solidFill>
                <a:latin typeface="Arial"/>
              </a:rPr>
              <a:t>Bearing this in mind the project has an important component regarding drinking water supply and sanitation that includes the following actions: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Awareness and education;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Local committees for management and supervision of the system in each district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Protection of the water-spring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Building drinking water supply system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Building sanitation systems</a:t>
            </a: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30A89-8B8A-4F58-AC95-8B375F0AD91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5680" y="1371240"/>
            <a:ext cx="8470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Rural Development Programme in the Coastal Zone” in Mozambiqu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44040" y="2301480"/>
            <a:ext cx="81694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Main objective: Socio economic development of the rural community of Cabo Delgado, through the improvement of health care, basic education, food security and family income.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Duration: 20 years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Co-Financing entity: IPAD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Implementing entity: Aga Khan Foundatio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Beneficiaries: whole population Cabo Delgado Provinc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B1ABF-5618-49F0-BEF0-9DFC6A4F580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5680" y="1371240"/>
            <a:ext cx="8470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Rural Development Programme in the Coastal Zone” in Mozambiqu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6200" y="2136600"/>
            <a:ext cx="83473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ff"/>
                </a:solidFill>
                <a:latin typeface="Arial"/>
              </a:rPr>
              <a:t>Within this programme water and sanitation infra-structures are directly associated to the other main components, such as education, health, agriculture and habitat.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ff"/>
                </a:solidFill>
                <a:latin typeface="Arial"/>
              </a:rPr>
              <a:t>It also includes promotion of good pratices on hygiene and sanitation.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ff"/>
                </a:solidFill>
                <a:latin typeface="Arial"/>
              </a:rPr>
              <a:t>Community management of water supply.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ff"/>
                </a:solidFill>
                <a:latin typeface="Arial"/>
              </a:rPr>
              <a:t>Special attention is also given to gender issues and cultural aspects.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EF96F-374C-4331-9D93-5392D0701F8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47640" cy="11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0" y="1932120"/>
              <a:ext cx="1547640" cy="49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0" y="1413000"/>
              <a:ext cx="9144000" cy="360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257040" y="177840"/>
              <a:ext cx="2640240" cy="90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8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712800" y="1333440"/>
            <a:ext cx="7400880" cy="4851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333440" y="2768760"/>
            <a:ext cx="6477120" cy="24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cc"/>
                </a:solidFill>
                <a:latin typeface="Arial"/>
              </a:rPr>
              <a:t>www.ipad.mne.gov.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5680" y="1371240"/>
            <a:ext cx="8470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 Portuguese Co-operation System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6240" y="1832040"/>
            <a:ext cx="80802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39480" indent="-3394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ff"/>
                </a:solidFill>
                <a:latin typeface="Arial"/>
              </a:rPr>
              <a:t>The Ministry for Foreign Affairs is responsible for Portuguese foreign policy, including Development Cooperation Policy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394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39480" indent="-3394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ff"/>
                </a:solidFill>
                <a:latin typeface="Arial"/>
              </a:rPr>
              <a:t>The Secretariat State for Foreign Affairs and Co-operation  establishes the political guidance for Portuguese development Co-operation (bilateral and multilateral levels). 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3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39480" indent="-3394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ff"/>
                </a:solidFill>
                <a:latin typeface="Arial"/>
              </a:rPr>
              <a:t>Highly descentralized implementation system: sectoral ministries universities, local administration and NGO’s. 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3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marL="339480" indent="-3394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ff"/>
                </a:solidFill>
                <a:latin typeface="Arial"/>
              </a:rPr>
              <a:t>A Strategic Vision for Portuguese Development Co-operation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D1C3C-B0D3-4027-B548-11EE8ACBE12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2680" y="1384200"/>
            <a:ext cx="84711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PAD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6600" y="1577880"/>
            <a:ext cx="8080200" cy="45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ff"/>
                </a:solidFill>
                <a:latin typeface="Arial"/>
                <a:ea typeface="宋体"/>
              </a:rPr>
              <a:t>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ff"/>
                </a:solidFill>
                <a:latin typeface="Arial"/>
                <a:ea typeface="宋体"/>
              </a:rPr>
              <a:t>Supervise, guide and coordinate co-operation policy and public development ai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ff"/>
                </a:solidFill>
                <a:latin typeface="Arial"/>
                <a:ea typeface="宋体"/>
              </a:rPr>
              <a:t>Main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ff"/>
                </a:solidFill>
                <a:latin typeface="Arial"/>
                <a:ea typeface="宋体"/>
              </a:rPr>
              <a:t>Planning and programming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ff"/>
                </a:solidFill>
                <a:latin typeface="Arial"/>
                <a:ea typeface="宋体"/>
              </a:rPr>
              <a:t>Financing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ff"/>
                </a:solidFill>
                <a:latin typeface="Arial"/>
                <a:ea typeface="宋体"/>
              </a:rPr>
              <a:t>Monitoring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1375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ff"/>
                </a:solidFill>
                <a:latin typeface="Arial"/>
                <a:ea typeface="宋体"/>
              </a:rPr>
              <a:t>Evaluatio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93F01-7DB1-456E-B239-216ED177D34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5680" y="1371240"/>
            <a:ext cx="8470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Strategic  Framework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6840" y="2189160"/>
            <a:ext cx="8435880" cy="35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ff"/>
                </a:solidFill>
                <a:latin typeface="Arial"/>
              </a:rPr>
              <a:t>I. Main guiding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50080" indent="-212040" algn="just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Contribute achievement MD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0080" indent="-212040" algn="just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Reinforcement human security particularly in “Fragile States” or post-conflict situation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0080" indent="-212040" algn="just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Promote Portuguese language, as an instrument of education and train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0080" indent="-212040" algn="just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Promote economic development while ensuring social and environmental sustainability, as well as human rights protec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0080" indent="-212040" algn="just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Participate in international debate, in support of the principle of international convergence around common objectiv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B5D88-6329-42A5-B508-C2272C26DBB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44600" y="1333440"/>
            <a:ext cx="84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Strategic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4520" y="2811600"/>
            <a:ext cx="415620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ff"/>
                </a:solidFill>
                <a:latin typeface="Arial"/>
              </a:rPr>
              <a:t>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34720" indent="-116280" algn="just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Partner countries’ nee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4720" indent="-116280" algn="just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Lack of financial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resources</a:t>
            </a: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4720" indent="-116280" algn="just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International commitmen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34720" indent="-116280" algn="just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35360" y="2787480"/>
            <a:ext cx="420696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ff"/>
                </a:solidFill>
                <a:latin typeface="Arial"/>
              </a:rPr>
              <a:t>Opportun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45160" indent="-121680" algn="just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Identification of our added val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99320" indent="-130320" algn="just"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ff"/>
                </a:solidFill>
                <a:latin typeface="Arial"/>
              </a:rPr>
              <a:t>Language (education and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99320" indent="-130320" algn="just"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ff"/>
                </a:solidFill>
                <a:latin typeface="Arial"/>
              </a:rPr>
              <a:t>Common History (Legal and Public Administ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45160" indent="-121680"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60" y="5232240"/>
            <a:ext cx="863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97160" y="5397480"/>
            <a:ext cx="7556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Turn added values into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ff"/>
                </a:solidFill>
                <a:latin typeface="Arial"/>
              </a:rPr>
              <a:t>Concentrate financial and technic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3324000">
            <a:off x="2844360" y="4610160"/>
            <a:ext cx="660600" cy="431640"/>
          </a:xfrm>
          <a:prstGeom prst="rightArrow">
            <a:avLst>
              <a:gd name="adj1" fmla="val 50000"/>
              <a:gd name="adj2" fmla="val 3826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7731000">
            <a:off x="4776480" y="4623840"/>
            <a:ext cx="660240" cy="432000"/>
          </a:xfrm>
          <a:prstGeom prst="rightArrow">
            <a:avLst>
              <a:gd name="adj1" fmla="val 50000"/>
              <a:gd name="adj2" fmla="val 3820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DDFD9-E7F3-4E30-A4D1-4AC9B939F88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5680" y="1371240"/>
            <a:ext cx="8470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Strategic Framework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6840" y="1960560"/>
            <a:ext cx="8435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ff"/>
                </a:solidFill>
                <a:latin typeface="Arial"/>
              </a:rPr>
              <a:t>II. Portuguese Cooperation Prior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2680" y="2608200"/>
            <a:ext cx="432108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ff"/>
                </a:solidFill>
                <a:latin typeface="Arial"/>
              </a:rPr>
              <a:t>Geografic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ff"/>
                </a:solidFill>
                <a:latin typeface="Arial"/>
                <a:ea typeface="宋体"/>
              </a:rPr>
              <a:t>Concentrate and strengthen our relations with countries which have special historical, linguistic and cultural ties with Portug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97560" y="2610000"/>
            <a:ext cx="4321080" cy="16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ff"/>
                </a:solidFill>
                <a:latin typeface="Arial"/>
              </a:rPr>
              <a:t>Sectoral P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ff"/>
                </a:solidFill>
                <a:latin typeface="Arial"/>
                <a:ea typeface="宋体"/>
              </a:rPr>
              <a:t>In line with Portuguese added values (language, culture and administrative and legal frame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6000" y="4819680"/>
            <a:ext cx="432108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marL="161640" indent="-161640" algn="just">
              <a:lnSpc>
                <a:spcPct val="120000"/>
              </a:lnSpc>
              <a:spcBef>
                <a:spcPts val="938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ff"/>
                </a:solidFill>
                <a:latin typeface="Arial"/>
              </a:rPr>
              <a:t>PALOP e Timor-Leste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 algn="just">
              <a:lnSpc>
                <a:spcPct val="120000"/>
              </a:lnSpc>
              <a:spcBef>
                <a:spcPts val="938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ff"/>
                </a:solidFill>
                <a:latin typeface="Arial"/>
              </a:rPr>
              <a:t>Promote CPLP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 algn="just">
              <a:lnSpc>
                <a:spcPct val="120000"/>
              </a:lnSpc>
              <a:spcBef>
                <a:spcPts val="938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ff"/>
                </a:solidFill>
                <a:latin typeface="Arial"/>
              </a:rPr>
              <a:t>Promote coperation between developing countries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 algn="just">
              <a:lnSpc>
                <a:spcPct val="120000"/>
              </a:lnSpc>
              <a:spcBef>
                <a:spcPts val="938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ff"/>
                </a:solidFill>
                <a:latin typeface="Arial"/>
              </a:rPr>
              <a:t>Other Countries: Marrocos, Senegal, South Africa and Indonesia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64240" y="4681440"/>
            <a:ext cx="432108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marL="150840" indent="-150840" algn="just">
              <a:lnSpc>
                <a:spcPct val="120000"/>
              </a:lnSpc>
              <a:spcBef>
                <a:spcPts val="938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ff"/>
                </a:solidFill>
                <a:latin typeface="Arial"/>
              </a:rPr>
              <a:t>Good Governance, Participation and Democrac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 algn="just">
              <a:lnSpc>
                <a:spcPct val="120000"/>
              </a:lnSpc>
              <a:spcBef>
                <a:spcPts val="938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ff"/>
                </a:solidFill>
                <a:latin typeface="Arial"/>
              </a:rPr>
              <a:t>Sustainable Development and Fight against Poverty</a:t>
            </a:r>
            <a:r>
              <a:rPr b="0" lang="pt-PT" sz="1500" spc="-1" strike="noStrike">
                <a:solidFill>
                  <a:srgbClr val="0000ff"/>
                </a:solidFill>
                <a:latin typeface="Arial"/>
              </a:rPr>
              <a:t> [Education, Health, Rural Development, Environment and Sustainable management of natural resources]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 algn="just">
              <a:lnSpc>
                <a:spcPct val="120000"/>
              </a:lnSpc>
              <a:spcBef>
                <a:spcPts val="938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ff"/>
                </a:solidFill>
                <a:latin typeface="Arial"/>
              </a:rPr>
              <a:t>Development Education, including in Portug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F231-7C69-4909-B37E-2EB0C00A2D7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9000" y="1392120"/>
            <a:ext cx="899172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Levels of Interven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9440" y="1967040"/>
            <a:ext cx="7721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87320" indent="-431640">
              <a:spcBef>
                <a:spcPts val="1800"/>
              </a:spcBef>
              <a:buClr>
                <a:srgbClr val="ff33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Bi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7320" indent="-431640">
              <a:spcBef>
                <a:spcPts val="1800"/>
              </a:spcBef>
              <a:buClr>
                <a:srgbClr val="ff33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Multi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00040" y="3130560"/>
            <a:ext cx="74930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57644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57644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F5866-7CA6-45BC-96F7-FCAB61CCCD3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44600" y="1346040"/>
            <a:ext cx="84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Levels of Intervention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– Bilateral Co-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6000" y="2209680"/>
            <a:ext cx="8750160" cy="431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5680" y="1841400"/>
            <a:ext cx="35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D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31640" y="4614840"/>
            <a:ext cx="2692440" cy="1587600"/>
            <a:chOff x="431640" y="4614840"/>
            <a:chExt cx="2692440" cy="1587600"/>
          </a:xfrm>
        </p:grpSpPr>
        <p:sp>
          <p:nvSpPr>
            <p:cNvPr id="79" name=""/>
            <p:cNvSpPr/>
            <p:nvPr/>
          </p:nvSpPr>
          <p:spPr>
            <a:xfrm>
              <a:off x="431640" y="4614840"/>
              <a:ext cx="2692440" cy="1587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0560" y="4729320"/>
              <a:ext cx="248940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ff"/>
                  </a:solidFill>
                  <a:latin typeface="Arial"/>
                </a:rPr>
                <a:t>Ministry of Foreign Affai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ff"/>
                  </a:solidFill>
                  <a:latin typeface="Arial"/>
                </a:rPr>
                <a:t>Sectoral Ministr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365640" y="2984400"/>
            <a:ext cx="2666880" cy="0"/>
          </a:xfrm>
          <a:prstGeom prst="line">
            <a:avLst/>
          </a:prstGeom>
          <a:ln w="12708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52960" y="5754600"/>
            <a:ext cx="2806560" cy="12960"/>
          </a:xfrm>
          <a:prstGeom prst="line">
            <a:avLst/>
          </a:prstGeom>
          <a:ln w="12708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460520" y="4076640"/>
            <a:ext cx="736560" cy="482760"/>
          </a:xfrm>
          <a:prstGeom prst="line">
            <a:avLst/>
          </a:prstGeom>
          <a:ln w="9360">
            <a:solidFill>
              <a:srgbClr val="8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53280" y="4078440"/>
            <a:ext cx="698400" cy="457200"/>
          </a:xfrm>
          <a:prstGeom prst="line">
            <a:avLst/>
          </a:prstGeom>
          <a:ln w="9360">
            <a:solidFill>
              <a:srgbClr val="8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149880" y="2319480"/>
            <a:ext cx="2692440" cy="1587240"/>
            <a:chOff x="6149880" y="2319480"/>
            <a:chExt cx="2692440" cy="1587240"/>
          </a:xfrm>
        </p:grpSpPr>
        <p:sp>
          <p:nvSpPr>
            <p:cNvPr id="86" name=""/>
            <p:cNvSpPr/>
            <p:nvPr/>
          </p:nvSpPr>
          <p:spPr>
            <a:xfrm>
              <a:off x="6149880" y="2319480"/>
              <a:ext cx="2692440" cy="1587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593040" y="2820960"/>
              <a:ext cx="1866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pt-PT" sz="1800" spc="-1" strike="noStrike">
                  <a:solidFill>
                    <a:srgbClr val="0000ff"/>
                  </a:solidFill>
                  <a:latin typeface="Arial"/>
                </a:rPr>
                <a:t>The Strategic Vi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pt-PT" sz="1800" spc="-1" strike="noStrike">
                  <a:solidFill>
                    <a:srgbClr val="0000ff"/>
                  </a:solidFill>
                  <a:latin typeface="Arial"/>
                </a:rPr>
                <a:t>[PT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156120" y="3321720"/>
            <a:ext cx="2973240" cy="2195640"/>
            <a:chOff x="3156120" y="3321720"/>
            <a:chExt cx="2973240" cy="2195640"/>
          </a:xfrm>
        </p:grpSpPr>
        <p:sp>
          <p:nvSpPr>
            <p:cNvPr id="89" name=""/>
            <p:cNvSpPr/>
            <p:nvPr/>
          </p:nvSpPr>
          <p:spPr>
            <a:xfrm>
              <a:off x="3390840" y="4038480"/>
              <a:ext cx="2540160" cy="9781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30520" y="4013280"/>
              <a:ext cx="2222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ff"/>
                  </a:solidFill>
                  <a:latin typeface="Arial"/>
                </a:rPr>
                <a:t>Indicative Co-operation Programmes [PIC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707000">
              <a:off x="3165120" y="3539880"/>
              <a:ext cx="990720" cy="290520"/>
            </a:xfrm>
            <a:custGeom>
              <a:avLst/>
              <a:gdLst>
                <a:gd name="textAreaLeft" fmla="*/ 173160 w 990720"/>
                <a:gd name="textAreaRight" fmla="*/ 718200 w 990720"/>
                <a:gd name="textAreaTop" fmla="*/ 38880 h 290520"/>
                <a:gd name="textAreaBottom" fmla="*/ 251640 h 29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00000">
              <a:off x="5189400" y="5095800"/>
              <a:ext cx="828720" cy="379440"/>
            </a:xfrm>
            <a:custGeom>
              <a:avLst/>
              <a:gdLst>
                <a:gd name="textAreaLeft" fmla="*/ 145080 w 828720"/>
                <a:gd name="textAreaRight" fmla="*/ 600840 w 828720"/>
                <a:gd name="textAreaTop" fmla="*/ 50760 h 379440"/>
                <a:gd name="textAreaBottom" fmla="*/ 328680 h 37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21462600">
              <a:off x="3171960" y="5136840"/>
              <a:ext cx="927000" cy="361800"/>
            </a:xfrm>
            <a:custGeom>
              <a:avLst/>
              <a:gdLst>
                <a:gd name="textAreaLeft" fmla="*/ 162000 w 927000"/>
                <a:gd name="textAreaRight" fmla="*/ 672120 w 927000"/>
                <a:gd name="textAreaTop" fmla="*/ 48240 h 361800"/>
                <a:gd name="textAreaBottom" fmla="*/ 313560 h 3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9693600">
              <a:off x="5160240" y="3469680"/>
              <a:ext cx="927000" cy="415800"/>
            </a:xfrm>
            <a:custGeom>
              <a:avLst/>
              <a:gdLst>
                <a:gd name="textAreaLeft" fmla="*/ 162000 w 927000"/>
                <a:gd name="textAreaRight" fmla="*/ 672120 w 927000"/>
                <a:gd name="textAreaTop" fmla="*/ 55440 h 415800"/>
                <a:gd name="textAreaBottom" fmla="*/ 360360 h 41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46040" y="2317680"/>
            <a:ext cx="2692440" cy="1587600"/>
            <a:chOff x="446040" y="2317680"/>
            <a:chExt cx="2692440" cy="1587600"/>
          </a:xfrm>
        </p:grpSpPr>
        <p:sp>
          <p:nvSpPr>
            <p:cNvPr id="96" name=""/>
            <p:cNvSpPr/>
            <p:nvPr/>
          </p:nvSpPr>
          <p:spPr>
            <a:xfrm>
              <a:off x="446040" y="2317680"/>
              <a:ext cx="2692440" cy="1587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0240" y="2622600"/>
              <a:ext cx="222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ff"/>
                  </a:solidFill>
                  <a:latin typeface="Arial"/>
                </a:rPr>
                <a:t>Partner Countries’ National Strateg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135840" y="4591080"/>
            <a:ext cx="2692080" cy="1587600"/>
            <a:chOff x="6135840" y="4591080"/>
            <a:chExt cx="2692080" cy="1587600"/>
          </a:xfrm>
        </p:grpSpPr>
        <p:sp>
          <p:nvSpPr>
            <p:cNvPr id="99" name=""/>
            <p:cNvSpPr/>
            <p:nvPr/>
          </p:nvSpPr>
          <p:spPr>
            <a:xfrm>
              <a:off x="6135840" y="4591080"/>
              <a:ext cx="2692080" cy="1587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4480" y="4842000"/>
              <a:ext cx="18669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ff"/>
                  </a:solidFill>
                  <a:latin typeface="Arial"/>
                </a:rPr>
                <a:t>IP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ff"/>
                  </a:solidFill>
                  <a:latin typeface="Arial"/>
                </a:rPr>
                <a:t>Sectoral  Ministr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FF080-23D6-4B21-A4A6-77B23D8B53CD}" type="slidenum">
              <a:t>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8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1371240"/>
            <a:ext cx="8470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Levels of Intervention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– Bilateral Co-operat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1120" y="1832040"/>
            <a:ext cx="771228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 algn="just"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ff"/>
                </a:solidFill>
                <a:latin typeface="Arial"/>
              </a:rPr>
              <a:t>Human Rights are a strategic principal embedded in the Portuguese Co-operation Policy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ff"/>
                </a:solidFill>
                <a:latin typeface="Arial"/>
              </a:rPr>
              <a:t>Nevertheless …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ff"/>
                </a:solidFill>
                <a:latin typeface="Arial"/>
              </a:rPr>
              <a:t>HR are not a specific criteria that justifies IPAD’s financial contribution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ff"/>
                </a:solidFill>
                <a:latin typeface="Arial"/>
              </a:rPr>
              <a:t>Most of the criteria included in the questionaire that was submited to us have to do with the quality standards of any Programme or Project (efficiency, relevance, impact and sustainability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ff"/>
                </a:solidFill>
                <a:latin typeface="Arial"/>
              </a:rPr>
              <a:t>These are taken into account whithin IPAD’s appraisal process for financial support;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27CC7-E770-435F-8CD3-6DC75E732AD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16:28:08Z</dcterms:created>
  <dc:creator>margaridalages</dc:creator>
  <dc:description/>
  <dc:language>en-US</dc:language>
  <cp:lastModifiedBy>ligiafigueiredo</cp:lastModifiedBy>
  <dcterms:modified xsi:type="dcterms:W3CDTF">2010-05-20T11:07:45Z</dcterms:modified>
  <cp:revision>313</cp:revision>
  <dc:subject/>
  <dc:title>Apresentação do PowerPoint</dc:title>
</cp:coreProperties>
</file>