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DDFA-397F-46A8-827C-9A9D96AF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36280" y="422532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54AC-7C2D-4310-89A5-BAC3D8A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6292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B671-6BD1-4FDB-A0AD-1D80C1A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2956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248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3628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2956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248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4343-A2FE-40FE-9BDC-A7318AC8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603F-404D-4350-B56B-0D26F32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DA9C-B706-4233-885C-F29C73F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0D68-76D2-46EE-BB22-B0B36836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777D-2DD0-49C7-9A94-A325251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5680" y="1371240"/>
            <a:ext cx="84708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F8C4-F599-4E12-937D-0F1D3F6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3703-81E7-4386-8236-7BAFF3F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6292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759F-3301-4E4D-89C2-976CE0F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4368-F911-42CA-9514-596789B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 algn="just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 algn="just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908760" y="651528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DB59-1DB5-4443-80A3-923318EAEEB4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600" y="6515280"/>
            <a:ext cx="4114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30120" y="650232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26920" y="1359000"/>
            <a:ext cx="7401240" cy="485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1498680"/>
            <a:ext cx="84456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Arial"/>
              </a:rPr>
              <a:t>Portuguese Cooperation Experiences in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Consultation with Bilateral Develop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Lisbon, 20-21 Ma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933560"/>
            <a:ext cx="8296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 this regard we have chosen two projects to be presented here, which even though they are not water and sanitation projects </a:t>
            </a:r>
            <a:r>
              <a:rPr b="0" i="1" lang="pt-PT" sz="2000" spc="-1" strike="noStrike">
                <a:solidFill>
                  <a:srgbClr val="0000ff"/>
                </a:solidFill>
                <a:latin typeface="Arial"/>
              </a:rPr>
              <a:t>de per si, 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tegrate water and sanitation components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-6516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ject “Health for All” in S. Tomé and Príncip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-6516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Rural Development Programme in the Coastal Zone” in Mozambiqu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CC6D-D2AD-4F62-B516-3FBE18716C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roject “Health for All” in S. Tomé and Prínci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2840" y="2022120"/>
            <a:ext cx="8410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Main objective: promote quality in the health care system management and provision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Duration: 4 year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Financing entity: IPA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Implementing entity: NGO IMV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Local partner: Ministry of Health of S.Tomé and Princip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Beneficiaries: whole population of S. Tomé island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B930-047C-4CCF-9FDA-EEE68BF922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roject “Health for All” in S. Tomé and Prínci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9960" y="1832040"/>
            <a:ext cx="81439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Within this project it is of utmost importance to reduce the incidence of communicable deseases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Bearing this in mind the project has an important component regarding drinking water supply and sanitation that includes the following action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Awareness and education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Local committees for management and supervision of the system in each distric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tection of the water-spring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uilding drinking water supply system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uilding sanitation systems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5240-2A3F-49C2-8FF9-C9B25EFC9F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Rural Development Programme in the Coastal Zone” in Mozambiqu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4040" y="2301480"/>
            <a:ext cx="81694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Main objective: Socio economic development of the rural community of Cabo Delgado, through the improvement of health care, basic education, food security and family income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Duration: 20 year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-Financing entity: IPAD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mplementing entity: Aga Khan Foundat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eneficiaries: whole population Cabo Delgado Provinc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EDAF-7A32-43AF-99E8-BBDFADED9A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Rural Development Programme in the Coastal Zone” in Mozambiqu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2136600"/>
            <a:ext cx="8347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Within this programme water and sanitation infra-structures are directly associated to the other main components, such as education, health, agriculture and habitat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It also includes promotion of good pratices on hygiene and sanitation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Community management of water supply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Special attention is also given to gender issues and cultural aspects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6DB0-7794-4E11-9586-31DC2C4A5E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12800" y="1333440"/>
            <a:ext cx="7400880" cy="485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33440" y="2768760"/>
            <a:ext cx="647712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cc"/>
                </a:solidFill>
                <a:latin typeface="Arial"/>
              </a:rPr>
              <a:t>www.ipad.mne.gov.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Portuguese Co-operation Syste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240" y="1832040"/>
            <a:ext cx="80802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The Ministry for Foreign Affairs is responsible for Portuguese foreign policy, including Development Cooperation Polic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The Secretariat State for Foreign Affairs and Co-operation  establishes the political guidance for Portuguese development Co-operation (bilateral and multilateral levels)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Highly descentralized implementation system: sectoral ministries universities, local administration and NGO’s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A Strategic Vision for Portuguese Development Co-oper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60A6-A884-4A07-9729-CF43A8BD74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1384200"/>
            <a:ext cx="8471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PA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600" y="1577880"/>
            <a:ext cx="80802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Supervise, guide and coordinate co-operation policy and public development a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  <a:ea typeface="宋体"/>
              </a:rPr>
              <a:t>Main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Planning and programm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Financ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Monitor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Evalu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10AC-906B-45B6-AC0D-1F8C876720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 Framework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6840" y="2189160"/>
            <a:ext cx="84358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I. Main guiding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ntribute achievement M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Reinforcement human security particularly in “Fragile States” or post-conflict situ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mote Portuguese language, as an instrument of education and trai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mote economic development while ensuring social and environmental sustainability, as well as human rights prote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articipate in international debate, in support of the principle of international convergence around common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2E8F-980A-4AEB-A52F-F6B41348AB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4600" y="1333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20" y="2811600"/>
            <a:ext cx="4156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artner countries’ nee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Lack of financial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sources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ternational commit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35360" y="2787480"/>
            <a:ext cx="42069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1216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dentification of our added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9320" indent="-13032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Language (education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99320" indent="-13032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Common History (Legal and Public Admini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12168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60" y="5232240"/>
            <a:ext cx="86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7160" y="5397480"/>
            <a:ext cx="755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Turn added values into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ncentrate financial and techni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3324000">
            <a:off x="2844360" y="4610160"/>
            <a:ext cx="660600" cy="431640"/>
          </a:xfrm>
          <a:prstGeom prst="rightArrow">
            <a:avLst>
              <a:gd name="adj1" fmla="val 50000"/>
              <a:gd name="adj2" fmla="val 382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731000">
            <a:off x="4776480" y="4623840"/>
            <a:ext cx="660240" cy="432000"/>
          </a:xfrm>
          <a:prstGeom prst="rightArrow">
            <a:avLst>
              <a:gd name="adj1" fmla="val 50000"/>
              <a:gd name="adj2" fmla="val 3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599D-982D-427E-A621-EFAC02A775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Framework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1960560"/>
            <a:ext cx="8435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II. Portuguese Cooperation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680" y="260820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Arial"/>
              </a:rPr>
              <a:t>Geografic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  <a:ea typeface="宋体"/>
              </a:rPr>
              <a:t>Concentrate and strengthen our relations with countries which have special historical, linguistic and cultural ties with Portug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97560" y="2610000"/>
            <a:ext cx="43210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Arial"/>
              </a:rPr>
              <a:t>Sectoral P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  <a:ea typeface="宋体"/>
              </a:rPr>
              <a:t>In line with Portuguese added values (language, culture and administrative and legal fra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481968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ALOP e Timor-Lest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romote CPLP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romote coperation between developing countries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Other Countries: Marrocos, Senegal, South Africa and Indonesi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64240" y="468144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Good Governance, Participation and Democra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ff"/>
                </a:solidFill>
                <a:latin typeface="Arial"/>
              </a:rPr>
              <a:t>Sustainable Development and Fight against Poverty</a:t>
            </a: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 [Education, Health, Rural Development, Environment and Sustainable management of natural resources]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Development Education, including in Portug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3616-891B-4A19-B392-C9E9A346FC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9000" y="1392120"/>
            <a:ext cx="89917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9440" y="1967040"/>
            <a:ext cx="7721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431640">
              <a:spcBef>
                <a:spcPts val="1800"/>
              </a:spcBef>
              <a:buClr>
                <a:srgbClr val="ff33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7320" indent="-431640">
              <a:spcBef>
                <a:spcPts val="1800"/>
              </a:spcBef>
              <a:buClr>
                <a:srgbClr val="ff33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ult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0040" y="3130560"/>
            <a:ext cx="7493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57644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7644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5286-CF9B-42A4-9142-10D9BF39ED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44600" y="13460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2209680"/>
            <a:ext cx="8750160" cy="43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5680" y="18414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31640" y="4614840"/>
            <a:ext cx="2692440" cy="1587600"/>
            <a:chOff x="431640" y="4614840"/>
            <a:chExt cx="2692440" cy="1587600"/>
          </a:xfrm>
        </p:grpSpPr>
        <p:sp>
          <p:nvSpPr>
            <p:cNvPr id="79" name=""/>
            <p:cNvSpPr/>
            <p:nvPr/>
          </p:nvSpPr>
          <p:spPr>
            <a:xfrm>
              <a:off x="431640" y="4614840"/>
              <a:ext cx="269244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0560" y="4729320"/>
              <a:ext cx="2489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Ministry of Foreign Affai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Sectoral Mini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365640" y="2984400"/>
            <a:ext cx="2666880" cy="0"/>
          </a:xfrm>
          <a:prstGeom prst="line">
            <a:avLst/>
          </a:prstGeom>
          <a:ln w="127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2960" y="5754600"/>
            <a:ext cx="2806560" cy="12960"/>
          </a:xfrm>
          <a:prstGeom prst="line">
            <a:avLst/>
          </a:prstGeom>
          <a:ln w="127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460520" y="4076640"/>
            <a:ext cx="736560" cy="48276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53280" y="4078440"/>
            <a:ext cx="698400" cy="45720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149880" y="2319480"/>
            <a:ext cx="2692440" cy="1587240"/>
            <a:chOff x="6149880" y="2319480"/>
            <a:chExt cx="2692440" cy="1587240"/>
          </a:xfrm>
        </p:grpSpPr>
        <p:sp>
          <p:nvSpPr>
            <p:cNvPr id="86" name=""/>
            <p:cNvSpPr/>
            <p:nvPr/>
          </p:nvSpPr>
          <p:spPr>
            <a:xfrm>
              <a:off x="6149880" y="2319480"/>
              <a:ext cx="2692440" cy="1587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93040" y="2820960"/>
              <a:ext cx="1866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The Strategic 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[PT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156120" y="3321720"/>
            <a:ext cx="2973240" cy="2195640"/>
            <a:chOff x="3156120" y="3321720"/>
            <a:chExt cx="2973240" cy="2195640"/>
          </a:xfrm>
        </p:grpSpPr>
        <p:sp>
          <p:nvSpPr>
            <p:cNvPr id="89" name=""/>
            <p:cNvSpPr/>
            <p:nvPr/>
          </p:nvSpPr>
          <p:spPr>
            <a:xfrm>
              <a:off x="3390840" y="4038480"/>
              <a:ext cx="2540160" cy="978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0520" y="4013280"/>
              <a:ext cx="222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Indicative Co-operation Programmes [PIC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707000">
              <a:off x="3165120" y="3539880"/>
              <a:ext cx="990720" cy="29052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38880 h 290520"/>
                <a:gd name="textAreaBottom" fmla="*/ 25164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5189400" y="5095800"/>
              <a:ext cx="828720" cy="379440"/>
            </a:xfrm>
            <a:custGeom>
              <a:avLst/>
              <a:gdLst>
                <a:gd name="textAreaLeft" fmla="*/ 145080 w 828720"/>
                <a:gd name="textAreaRight" fmla="*/ 600840 w 828720"/>
                <a:gd name="textAreaTop" fmla="*/ 50760 h 379440"/>
                <a:gd name="textAreaBottom" fmla="*/ 328680 h 3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462600">
              <a:off x="3171960" y="5136840"/>
              <a:ext cx="927000" cy="361800"/>
            </a:xfrm>
            <a:custGeom>
              <a:avLst/>
              <a:gdLst>
                <a:gd name="textAreaLeft" fmla="*/ 162000 w 927000"/>
                <a:gd name="textAreaRight" fmla="*/ 672120 w 927000"/>
                <a:gd name="textAreaTop" fmla="*/ 48240 h 361800"/>
                <a:gd name="textAreaBottom" fmla="*/ 31356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9693600">
              <a:off x="5160240" y="3469680"/>
              <a:ext cx="927000" cy="415800"/>
            </a:xfrm>
            <a:custGeom>
              <a:avLst/>
              <a:gdLst>
                <a:gd name="textAreaLeft" fmla="*/ 162000 w 927000"/>
                <a:gd name="textAreaRight" fmla="*/ 672120 w 927000"/>
                <a:gd name="textAreaTop" fmla="*/ 55440 h 415800"/>
                <a:gd name="textAreaBottom" fmla="*/ 360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46040" y="2317680"/>
            <a:ext cx="2692440" cy="1587600"/>
            <a:chOff x="446040" y="2317680"/>
            <a:chExt cx="2692440" cy="1587600"/>
          </a:xfrm>
        </p:grpSpPr>
        <p:sp>
          <p:nvSpPr>
            <p:cNvPr id="96" name=""/>
            <p:cNvSpPr/>
            <p:nvPr/>
          </p:nvSpPr>
          <p:spPr>
            <a:xfrm>
              <a:off x="446040" y="2317680"/>
              <a:ext cx="269244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0240" y="2622600"/>
              <a:ext cx="22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Partner Countries’ National Strate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135840" y="4591080"/>
            <a:ext cx="2692080" cy="1587600"/>
            <a:chOff x="6135840" y="4591080"/>
            <a:chExt cx="2692080" cy="1587600"/>
          </a:xfrm>
        </p:grpSpPr>
        <p:sp>
          <p:nvSpPr>
            <p:cNvPr id="99" name=""/>
            <p:cNvSpPr/>
            <p:nvPr/>
          </p:nvSpPr>
          <p:spPr>
            <a:xfrm>
              <a:off x="6135840" y="4591080"/>
              <a:ext cx="269208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4480" y="4842000"/>
              <a:ext cx="1866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I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Sectoral  Mini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3A03-DD3C-4413-BBE8-404891BC05FE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1120" y="1832040"/>
            <a:ext cx="77122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Human Rights are a strategic principal embedded in the Portuguese Co-operation Policy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Nevertheless …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HR are not a specific criteria that justifies IPAD’s financial contribution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Most of the criteria included in the questionaire that was submited to us have to do with the quality standards of any Programme or Project (efficiency, relevance, impact and sustainability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These are taken into account whithin IPAD’s appraisal process for financial support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5AC3-BEB9-444F-B401-A320DAD5BE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28:08Z</dcterms:created>
  <dc:creator>margaridalages</dc:creator>
  <dc:description/>
  <dc:language>en-US</dc:language>
  <cp:lastModifiedBy>ligiafigueiredo</cp:lastModifiedBy>
  <dcterms:modified xsi:type="dcterms:W3CDTF">2010-05-20T11:07:45Z</dcterms:modified>
  <cp:revision>313</cp:revision>
  <dc:subject/>
  <dc:title>Apresentação do PowerPoint</dc:title>
</cp:coreProperties>
</file>