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4B0E-25E7-45C2-9146-598DF2AF43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F448-4233-40A1-A76E-0F707B9872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58E0097-4A16-4257-A8FF-A256BD4FE66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591F-9FF4-491A-8515-7910431F9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26560" y="390528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5215-0354-413F-B82D-404A2FDBA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390528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6240" y="390528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196B-6800-49AB-8257-567D67ABC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1960" y="119700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7360" y="119700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26560" y="390528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1960" y="390528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7360" y="3905280"/>
            <a:ext cx="257616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0BF1-D199-457D-A1E2-B54D9865CC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1392-95D0-494B-9CC4-1D7F9C992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CF6C-5939-4E20-8FA0-346F4F777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8016-57B2-41DC-93CB-8B0F14D17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2393-766C-4510-8636-527A26630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-27360"/>
            <a:ext cx="806436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72A0-3965-4887-B071-CBC8DD6E9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6560" y="390528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0B0D-B091-4BB6-9AA9-95BAF5DE2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6240" y="390528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EDC9-F27C-492B-A02B-CE986CE0D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6240" y="1197000"/>
            <a:ext cx="39042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26560" y="390528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3C01-D15E-41EE-A265-104CCC6D4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119700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F1447E-BBBB-49FD-A482-C102E605FA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042560" y="6400800"/>
            <a:ext cx="493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2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808080"/>
                </a:solidFill>
                <a:latin typeface="Times New Roman"/>
              </a:rPr>
              <a:t>Compteurs à pré-pai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920" y="5842080"/>
            <a:ext cx="10810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58920" y="2133720"/>
            <a:ext cx="756108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« Gcin’amanzi » : Soweto water suppl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Combining the implementation of the right to water with efficient water use through pre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12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7E75-DC76-43EC-8BEC-260D667B61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« Gcin’amanzi » : Soweto water supply projec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765000"/>
            <a:ext cx="77756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Situation before project (2005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162 000 households/ 1 M.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90% of connections billed on a lump sum basis (20 m3/month vs 61 m3/mois consumption),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wastage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, deteriorated networks, very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high losses and UFW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 (&gt;8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Revenue collection  : 25% , non payment was a political act under apart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Regional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water stress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: high marginal cost of w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« Gcin’amanzi » (conservation de l’eau)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Free installation of prepayment water meters, application of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Free Basic Water Supply</a:t>
            </a: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, Subsidized tariffs, cancellation of customer debts, renewal of public and privat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Main risks : i) social acceptance (good), ii) leg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A687-6EF3-4E85-9A0E-00BB975FCD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336699"/>
                </a:solidFill>
                <a:latin typeface="Arial"/>
              </a:rPr>
              <a:t>Lesira-Teq Metering - Overview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05264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=&gt; Jobourg Water was comforted by a judgment of Constitutional Court but this lead to :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Evolution JW strategy and technology : from prepayment to intelligent water meters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Customer has option of Prepayment, Post paid, Flat rate, or Conventional mod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Customer can change between modes after completing relevant applic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Changing between modes (once authorised) is done at vending point using User Tag and Hand Held Vending Unit (HHVU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Free Basic Water (FBW) and Emergency Water (EW) can be available in all mod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336699"/>
                </a:solidFill>
                <a:latin typeface="Arial"/>
              </a:rPr>
              <a:t>Meter can be locked at any tim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F430-D767-44F7-B90E-2134982FB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336699"/>
                </a:solidFill>
                <a:latin typeface="Arial"/>
              </a:rPr>
              <a:t>1. Prepayment mo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63360" y="1197000"/>
            <a:ext cx="8001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Customer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buys credit in advance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from vending point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When credit is finished,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meter goes to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restricted flow of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40l/h. More credit must be purchased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Customer receives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Free Basic Water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(FBW) of 9 000 litres once per month or 300 liters per day (50 l. per person per day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Emergency Water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(EW) is available up to four times per year (1 000 litres per occasion) but only when there is no credit and FBW is finished</a:t>
            </a:r>
            <a:r>
              <a:rPr b="0" lang="en-ZA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9A72-8B4F-4B40-B8D8-A6FA574D5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336699"/>
                </a:solidFill>
                <a:latin typeface="Arial"/>
              </a:rPr>
              <a:t>2. “Post paid” mo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94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When FBW is finished, water will continue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The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user/client chooses his assigned negative credit limit in litres or Rand value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This amount can be consumed over a number of months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The meter shows the “Debt” water total in volume and in Rand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Full flow will be maintained until the negative credit limit is reached. 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Then the meter will turn into a restricted flow mode of 40l/h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(optional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Customer receives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Free Basic Water</a:t>
            </a:r>
            <a:r>
              <a:rPr b="0" lang="en-ZA" sz="2200" spc="-1" strike="noStrike">
                <a:solidFill>
                  <a:srgbClr val="336699"/>
                </a:solidFill>
                <a:latin typeface="Arial"/>
              </a:rPr>
              <a:t> (FBW) of 9 000 litres once per month or 300 litres per day and </a:t>
            </a:r>
            <a:r>
              <a:rPr b="1" lang="en-ZA" sz="2200" spc="-1" strike="noStrike">
                <a:solidFill>
                  <a:srgbClr val="336699"/>
                </a:solidFill>
                <a:latin typeface="Arial"/>
              </a:rPr>
              <a:t>Emergency water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153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8BD2-FB1D-497F-BCD9-D119360E4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064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336699"/>
                </a:solidFill>
                <a:latin typeface="Arial"/>
              </a:rPr>
              <a:t>Lesira-Teq Metering - Overview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60" name="Picture 17" descr="SolidCaptureImage310719452"/>
          <p:cNvPicPr/>
          <p:nvPr/>
        </p:nvPicPr>
        <p:blipFill>
          <a:blip r:embed="rId1"/>
          <a:stretch/>
        </p:blipFill>
        <p:spPr>
          <a:xfrm>
            <a:off x="1042920" y="1557360"/>
            <a:ext cx="7993080" cy="42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E31E-9D48-434B-BDFA-86DBEAF6FD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1:15:52Z</dcterms:created>
  <dc:creator>FORNAGE</dc:creator>
  <dc:description/>
  <dc:language>en-US</dc:language>
  <cp:lastModifiedBy>ROTBARDTA</cp:lastModifiedBy>
  <cp:lastPrinted>2005-05-13T15:16:40Z</cp:lastPrinted>
  <dcterms:modified xsi:type="dcterms:W3CDTF">2010-05-20T14:55:19Z</dcterms:modified>
  <cp:revision>791</cp:revision>
  <dc:subject/>
  <dc:title>Présentation PowerPoint</dc:title>
</cp:coreProperties>
</file>