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06ED-C486-47C5-8DAD-D98FFA8ED9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E842-C8F8-4BDC-882F-B64715FADF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31AB782-B848-48CA-B2EA-FB49C6965AE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01BF-B8AD-4FE2-B010-3C7FFC435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6560" y="390528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06F5-5C7D-4D4D-BA10-7FFEE5945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119700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390528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6240" y="390528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5DE7-C00E-4DC0-BFC1-80D9949DE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25761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1960" y="1197000"/>
            <a:ext cx="25761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7360" y="1197000"/>
            <a:ext cx="25761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6560" y="3905280"/>
            <a:ext cx="25761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1960" y="3905280"/>
            <a:ext cx="25761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7360" y="3905280"/>
            <a:ext cx="25761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9475-3BCE-4B75-9161-561C7EBA76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80010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96E4-70EC-4D09-B3ED-5D90F659B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800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400A-FFAB-4995-873F-A220E6507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3904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6240" y="1197000"/>
            <a:ext cx="3904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3B8E-5915-412F-9180-0DDEEA0EF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59A4-4963-4B03-8F08-C3AFD7542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1280" y="-27360"/>
            <a:ext cx="806436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42DE-1E1F-4DC2-92FB-97CA95433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6240" y="1197000"/>
            <a:ext cx="3904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6560" y="390528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B83C-E978-4A48-B644-5957FD3D9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3904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6240" y="119700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6240" y="390528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19D8-F2A4-4BCF-A40D-BA1F170C1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6240" y="119700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6560" y="390528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A7CD-609E-4D84-8B76-572A33F3B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1197000"/>
            <a:ext cx="800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1692B0-36E4-4DF8-B31E-B5A1B86FAA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042560" y="6400800"/>
            <a:ext cx="493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2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808080"/>
                </a:solidFill>
                <a:latin typeface="Times New Roman"/>
              </a:rPr>
              <a:t>Compteurs à pré-pai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4920" y="5842080"/>
            <a:ext cx="10810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58920" y="2133720"/>
            <a:ext cx="7561080" cy="31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« Gcin’amanzi » : Soweto water supply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Combining the implementation of the right to water with efficient water use through pre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-12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A3D9-21E0-4DD0-9841-BFD8EDE50B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« Gcin’amanzi » : Soweto water supply projec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765000"/>
            <a:ext cx="777564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Situation before project (2005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162 000 households/ 1 M. 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90% of connections billed on a lump sum basis (20 m3/month vs 61 m3/mois consumption),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wastage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, deteriorated networks, very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high losses and UFW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 (&gt;8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Revenue collection  : 25% , non payment was a political act under apart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Regional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water stress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: high marginal cost of wa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« Gcin’amanzi » (conservation de l’eau)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Free installation of prepayment water meters, application of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Free Basic Water Supply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, Subsidized tariffs, cancellation of customer debts, renewal of public and privat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Main risks : i) social acceptance (good), ii) leg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1626-4D65-4BD2-98B5-7AF43F46A3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336699"/>
                </a:solidFill>
                <a:latin typeface="Arial"/>
              </a:rPr>
              <a:t>Lesira-Teq Metering - Overview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052640"/>
            <a:ext cx="8001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=&gt; Jobourg Water was comforted by a judgment of Constitutional Court but this lead to :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Evolution JW strategy and technology : from prepayment to intelligent water meter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336699"/>
                </a:solidFill>
                <a:latin typeface="Arial"/>
              </a:rPr>
              <a:t>Customer has option of Prepayment, Post paid, Flat rate, or Conventional mod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336699"/>
                </a:solidFill>
                <a:latin typeface="Arial"/>
              </a:rPr>
              <a:t>Customer can change between modes after completing relevant applic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336699"/>
                </a:solidFill>
                <a:latin typeface="Arial"/>
              </a:rPr>
              <a:t>Changing between modes (once authorised) is done at vending point using User Tag and Hand Held Vending Unit (HHVU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336699"/>
                </a:solidFill>
                <a:latin typeface="Arial"/>
              </a:rPr>
              <a:t>Free Basic Water (FBW) and Emergency Water (EW) can be available in all mod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336699"/>
                </a:solidFill>
                <a:latin typeface="Arial"/>
              </a:rPr>
              <a:t>Meter can be locked at any tim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EAC2-4411-4E5E-B392-5F62D4D1E7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336699"/>
                </a:solidFill>
                <a:latin typeface="Arial"/>
              </a:rPr>
              <a:t>1. Prepayment mod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63360" y="1197000"/>
            <a:ext cx="8001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Customer </a:t>
            </a: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buys credit in advance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 from vending point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When credit is finished,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 meter goes to </a:t>
            </a: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restricted flow of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 40l/h. More credit must be purchased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Customer receives </a:t>
            </a: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Free Basic Water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 (FBW) of 9 000 litres once per month or 300 liters per day (50 l. per person per day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Emergency Water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 (EW) is available up to four times per year (1 000 litres per occasion) but only when there is no credit and FBW is finished</a:t>
            </a:r>
            <a:r>
              <a:rPr b="0" lang="en-ZA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0BA9-CCE0-4523-9AA3-044EA193CF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336699"/>
                </a:solidFill>
                <a:latin typeface="Arial"/>
              </a:rPr>
              <a:t>2. “Post paid” mod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94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When FBW is finished, water will continue 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user/client chooses his assigned negative credit limit in litres or Rand value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This amount can be consumed over a number of month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The meter shows the “Debt” water total in volume and in Rand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Full flow will be maintained until the negative credit limit is reached.  </a:t>
            </a: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Then the meter will turn into a restricted flow mode of 40l/h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 (optional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Customer receives </a:t>
            </a: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Free Basic Water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 (FBW) of 9 000 litres once per month or 300 litres per day and </a:t>
            </a: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Emergency water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96B8-E02A-4E4A-A937-5603EE2F9D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336699"/>
                </a:solidFill>
                <a:latin typeface="Arial"/>
              </a:rPr>
              <a:t>Lesira-Teq Metering - Overview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60" name="Picture 17" descr="SolidCaptureImage310719452"/>
          <p:cNvPicPr/>
          <p:nvPr/>
        </p:nvPicPr>
        <p:blipFill>
          <a:blip r:embed="rId1"/>
          <a:stretch/>
        </p:blipFill>
        <p:spPr>
          <a:xfrm>
            <a:off x="1042920" y="1557360"/>
            <a:ext cx="7993080" cy="42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9145-85BD-4D84-979B-32D0ECC602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1:15:52Z</dcterms:created>
  <dc:creator>FORNAGE</dc:creator>
  <dc:description/>
  <dc:language>en-US</dc:language>
  <cp:lastModifiedBy>ROTBARDTA</cp:lastModifiedBy>
  <cp:lastPrinted>2005-05-13T15:16:40Z</cp:lastPrinted>
  <dcterms:modified xsi:type="dcterms:W3CDTF">2010-05-20T14:55:19Z</dcterms:modified>
  <cp:revision>791</cp:revision>
  <dc:subject/>
  <dc:title>Présentation PowerPoint</dc:title>
</cp:coreProperties>
</file>