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4DF6-78EB-4D0B-8A43-50D36BB3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27F-9044-4E60-929F-3FD1D79C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8672-5C8F-465F-9E36-F9010B0D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DBBC-7BCD-4DB3-8C62-07736BD2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C34A-CA81-4548-A025-721BDC6F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C61C-3A06-4C8E-924D-6C9FBE9E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6F3C-AD67-406E-8686-C697F226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4B9E-DB20-4330-AB37-EBF5171D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965D-50C4-4B0A-BEDA-C4C1267D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FEFB-AB5B-4F61-8D3B-5B391D64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ABCC-9D86-4624-8E77-E2761CD4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F56E-6A5B-428E-8809-699CDE03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7BA6-B6CC-4B22-AE61-C0C8FBDD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63A4-DA0A-44F6-BE50-77B982F9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FA4E-0EBE-43DE-AD5C-4A52E892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F4F3-5190-4C0B-9280-EC3EF381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ABC1-8183-4F62-97B8-64BBCE4B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88EA4-9B55-43E3-9C40-564BE39A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8829B-4772-41B8-9602-FD2903E6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8C99F-6336-44E1-BF68-5DFE6790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E0668-33B7-4E68-86DC-5E78100D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4A67C-76F5-48AD-9BE1-C5E67C59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F71-F29E-4B73-B294-CA62A18B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9A819-13A4-48DC-988B-18A507B7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D0856-4A14-45E6-9533-C38A9298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195B8-12B7-41D7-9753-920D63FE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63ACB-B48F-4864-B670-16887790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3D981-E3A1-4487-841A-CA8AA332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08287-E303-43C5-8A56-581B3A47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75758-BC24-4C59-8309-A48831F4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66B2E-0E0A-48B0-BBB2-E5082A06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3AFE2-B529-473C-A504-0816BAE4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D599F-921B-487E-8731-F7B42684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FB1A-ED54-4502-A0EC-B0EA4024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05EFB-19D6-4CB0-ACDD-0EDB06CD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03DE9-B3C9-441F-947F-94DB5BFF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38282-2481-4811-977B-C14296D9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C35AD-9D1E-4200-874A-5DD392A7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2A7B7-7184-4A20-95DC-1D5D054B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E9071-B0C4-4AC3-9E84-B2E9D598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9307B-467B-49F0-AAFD-182F186D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8C4C8-FD0D-48DF-9D6C-36317428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C058A-FD94-4107-8515-CEDAE140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76ED6-CD48-493C-A9E1-616C4C0B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7FEE-1781-4DED-8A1A-4B656A56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1F031-39B1-48F6-A637-C56ED97E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FA531-A382-47C5-BA43-B08C9559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009B3-1C6C-461E-A9A0-C8F064E0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1846F-F9D0-43E9-B0B7-DA3DA2D9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86F93-ABD5-49E7-9ACE-929B9693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534C9-E946-4D89-B0BC-960BE9D9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F714A-149C-4CE6-AABD-D1715735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F5912-F151-4FEF-A01B-7C7F9E9E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08859-B5E3-4430-A828-B805D9D5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2D51C-245A-4A01-9090-CC80C556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DD3F-4212-47E8-BA9E-05C249D9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47EAE-7635-4891-B089-5FA9A1CD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C904-3281-4010-9055-D1854D34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0228-62B3-43C4-B2F1-313B750E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D737-3443-4DAB-A068-3750B548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4410-26E7-4A1E-A747-81FB0CC5F83A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Line 16"/>
          <p:cNvSpPr/>
          <p:nvPr/>
        </p:nvSpPr>
        <p:spPr>
          <a:xfrm>
            <a:off x="0" y="1773360"/>
            <a:ext cx="9144000" cy="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9" descr="uemoa2"/>
          <p:cNvPicPr/>
          <p:nvPr/>
        </p:nvPicPr>
        <p:blipFill>
          <a:blip r:embed="rId4"/>
          <a:stretch/>
        </p:blipFill>
        <p:spPr>
          <a:xfrm>
            <a:off x="8155080" y="38160"/>
            <a:ext cx="593640" cy="6094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21" descr="BF2"/>
          <p:cNvPicPr/>
          <p:nvPr/>
        </p:nvPicPr>
        <p:blipFill>
          <a:blip r:embed="rId5"/>
          <a:stretch/>
        </p:blipFill>
        <p:spPr>
          <a:xfrm>
            <a:off x="520560" y="162000"/>
            <a:ext cx="666720" cy="479520"/>
          </a:xfrm>
          <a:prstGeom prst="rect">
            <a:avLst/>
          </a:prstGeom>
          <a:ln w="0">
            <a:noFill/>
          </a:ln>
        </p:spPr>
      </p:pic>
      <p:sp>
        <p:nvSpPr>
          <p:cNvPr id="17" name="Rectangle 22"/>
          <p:cNvSpPr/>
          <p:nvPr/>
        </p:nvSpPr>
        <p:spPr>
          <a:xfrm>
            <a:off x="401760" y="-27000"/>
            <a:ext cx="930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</a:rPr>
              <a:t>Burkina Fa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rme libre 15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rme libre 16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e 1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7" name="Forme libre 1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8" name="Forme libre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Forme libre 2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1" name="Forme libr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D81D-B31B-434F-B719-D82EDAF35530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rme libre 15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rme libre 16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7" name="Forme libre 1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8" name="Forme libre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Forme libre 2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" name="Forme libr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F499-281C-47E4-8CAB-156989266990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ogner et arrondir un rectangle à un seul coin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riangle rect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rme libre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rme libre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25AC-C147-4007-910F-7A8B822D273D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rme libre 15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rme libre 16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2" name="Forme libre 1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3" name="Forme libre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Forme libre 2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6" name="Forme libr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9FBD-2765-437A-B35B-F3768F74A542}" type="slidenum">
              <a:rPr b="0" lang="fr-F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840" y="2130120"/>
            <a:ext cx="8643960" cy="194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alibri"/>
              </a:rPr>
              <a:t>‘</a:t>
            </a:r>
            <a:r>
              <a:rPr b="1" lang="fr-FR" sz="1800" spc="-1" strike="noStrike">
                <a:solidFill>
                  <a:srgbClr val="008000"/>
                </a:solidFill>
                <a:latin typeface="Calibri"/>
              </a:rPr>
              <a:t>BONNES PRATIQUES’ EN RAPPORT AVEC L’ACCES A L’EAU</a:t>
            </a:r>
            <a:br>
              <a:rPr sz="1800"/>
            </a:br>
            <a:r>
              <a:rPr b="1" lang="fr-FR" sz="1800" spc="-1" strike="noStrike">
                <a:solidFill>
                  <a:srgbClr val="008000"/>
                </a:solidFill>
                <a:latin typeface="Calibri"/>
              </a:rPr>
              <a:t>POTABLE ET A L’ASSAINISSEMENT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Calibri"/>
              </a:rPr>
              <a:t>Cas du Programme National d’Approvisionnement en Eau Potable et Assainissement à l’horizon 2015 du Burkina</a:t>
            </a:r>
            <a:br>
              <a:rPr sz="2400"/>
            </a:br>
            <a:r>
              <a:rPr b="1" lang="fr-FR" sz="2400" spc="-1" strike="noStrike" u="sng">
                <a:solidFill>
                  <a:srgbClr val="008000"/>
                </a:solidFill>
                <a:uFillTx/>
                <a:latin typeface="Calibri"/>
              </a:rPr>
              <a:t>Genève 2011</a:t>
            </a:r>
            <a:endParaRPr b="1" lang="en-US" sz="24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285920" y="4214520"/>
            <a:ext cx="64008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Constantia"/>
              </a:rPr>
              <a:t>Présenté par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Maxime SOM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nstantia"/>
              </a:rPr>
              <a:t>Ingénieur du Génie Rur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nstantia"/>
              </a:rPr>
              <a:t>Chef de service suivi-évalu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nstantia"/>
              </a:rPr>
              <a:t>Direction Générale des Ressources en Eau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1" name="Group 10"/>
          <p:cNvGrpSpPr/>
          <p:nvPr/>
        </p:nvGrpSpPr>
        <p:grpSpPr>
          <a:xfrm>
            <a:off x="451800" y="115920"/>
            <a:ext cx="1524960" cy="1324080"/>
            <a:chOff x="451800" y="115920"/>
            <a:chExt cx="1524960" cy="1324080"/>
          </a:xfrm>
        </p:grpSpPr>
        <p:pic>
          <p:nvPicPr>
            <p:cNvPr id="252" name="Picture 7" descr="BF2"/>
            <p:cNvPicPr/>
            <p:nvPr/>
          </p:nvPicPr>
          <p:blipFill>
            <a:blip r:embed="rId1"/>
            <a:stretch/>
          </p:blipFill>
          <p:spPr>
            <a:xfrm>
              <a:off x="466920" y="449280"/>
              <a:ext cx="149364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8"/>
            <p:cNvSpPr/>
            <p:nvPr/>
          </p:nvSpPr>
          <p:spPr>
            <a:xfrm>
              <a:off x="451800" y="115920"/>
              <a:ext cx="152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rkina Fa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Line 9"/>
          <p:cNvSpPr/>
          <p:nvPr/>
        </p:nvSpPr>
        <p:spPr>
          <a:xfrm>
            <a:off x="0" y="1484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PRESENTATION DU PN-AEPA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INSTRUMENTS DE PLANIFICATION ET DE SUIV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286160" y="1599840"/>
            <a:ext cx="440064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e Budget Programme par Objectif (BPO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e Plan de Développement des Ressources Huma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e Dispositif de Suivi-évalu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e plan de communi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Le PN-AEPA une « Bonne pratique »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1-Disponibilit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48320" y="785880"/>
            <a:ext cx="40384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Eau Pot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Milieu rural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PEM= 20l/j/hb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Milieu urbai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BF= 37l/j/hb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BP= 57l/j/hb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Assainiss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Milieu rural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395000 latrines famili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60000 puisard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12300 blocs de latrines publiqu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Milieu urbai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222000 latrines famili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900 blocs de latrines publiqu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32 plans stratégiques d’assainisse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Le PN-AEPA une « Bonne pratique »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2-Accessibilit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2928960" y="785880"/>
          <a:ext cx="6072120" cy="5851440"/>
        </p:xfrm>
        <a:graphic>
          <a:graphicData uri="http://schemas.openxmlformats.org/drawingml/2006/table">
            <a:tbl>
              <a:tblPr/>
              <a:tblGrid>
                <a:gridCol w="2214720"/>
                <a:gridCol w="1833480"/>
                <a:gridCol w="2023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AU PO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ill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hef lieu commune r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hef lieu commune urba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PEM/ 300 hb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PEM/village de moins de 300 ha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F/500 hb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PDC/100 hb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P/ 10 hb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F/1000 hb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PDC/100 hb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BP/ 10 hb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EM à moins de 1000 m du centre du groupement d’habit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F et PDC à moins de 500 m des groupements d’habita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F et PDC à moins de 500 m des groupements d’habit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SSAINISS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iv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utres  lieux publ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 personnes/ latr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locs de latrines à raison d'une cabine de latrine par cla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 blocs de 6 à 8 latrin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Le PN-AEPA une « Bonne pratique »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3-Abordabilit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00240" y="857160"/>
            <a:ext cx="56865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Eau Pot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Milieu r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PEM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pas de vente d’eau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Contribution de 150000 FCFA/PE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AEPS/PEA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Contrats affermage ou exploitation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Prix de l’eau fixé par le conseil municip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Milieu urbain: ONE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Branchement Privé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Tarification progressive à 4 tranches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Tranche sociale ( 0 m3- 8 m3)= 188 F/m3 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Bornes Fontaines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5 F le  bidon de 20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60 F le fût de de 220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Le PN-AEPA une « Bonne pratique »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3-Abordabilité (suit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000680" y="1600200"/>
            <a:ext cx="50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Assainiss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Milieu r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Subvention : 9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Milieu urba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Subvention : 90% financée pa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la taxe d’assainissement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Borne Fontaine= 10 F/m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Branchement Privé= 21 F/m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Le PN-AEPA une « Bonne pratique »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4-Qualité/suret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428640" y="185724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Eau Pot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Arrêté conjoint n° 00019/MAHRH/MS du 05/04 2005 portant normes de qualité de l’eau de boiss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Conforme avec normes OM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Assainiss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Technologie des infrastructures appropriées: latrines VIP, latrines ECOSAN, TC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Le PN-AEPA une « Bonne pratique »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5-Acceptabilit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142800" y="928440"/>
            <a:ext cx="55436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Eau Pot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Art 46 de la loi n° 002/2001/AN portant loi d’orientation relative à la gestion de l’eau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« obligation pour tout opérateur du  service de l’eau de veiller à la qualité de l’eau distribuée 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Assainiss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Conception des ouvrages respectant l’intimité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Séparation des installations en fonction du sex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Le PN-AEPA une « Bonne pratique »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6-Non discrimin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28680" y="928440"/>
            <a:ext cx="5072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Eau Pota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Art 2 de la loi n°002/2001/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portant loi d’orien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relative à la gestion de l’eau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« la loi reconnait le droit de chacun à disposer de l’eau correspondant à ses besoins et aux exigences élémentaires de sa vie et de sa dignité 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Assainiss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Construction de latrines familiales, institutionnelles et publiques pour accroître l’accès à to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Le PN-AEPA une « Bonne pratique »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7-Particip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999880" y="1600200"/>
            <a:ext cx="600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Planification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PCD/AEP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Tenue régulière des CRP et CN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Tenue régulière de la revue conjoi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Réalisation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Contribution financière des bénéficia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Maintenanc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- PEM: Comité de points d’ea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- AEPS/PEA:  Association des usagers de l’ea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Le PN-AEPA une « Bonne pratique »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8-Acountability/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Responsabilit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357720" y="2142720"/>
            <a:ext cx="56433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Dispositif de suivi-évaluation décliné jusqu’au niveau village pour prendre en compte tous les acteur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Les CRP et le CNP= instances de décision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Revue conjoint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PCD/AEPA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Transfert des compétences et des ressources en AEPA aux commune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PLAN DE L’EXPOSE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1- Présentation du Programme  National d’Approvisionnement en Eau Potable (PN-AEP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2- Le PN-AEPA une « Bonne pratique 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Le PN-AEPA une « Bonne pratique »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9-Impac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714400" y="1643040"/>
            <a:ext cx="597204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Activités génératrices de revenu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Allègement des tâches domestique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Amélioration du cadre de vi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Parité dans la scolarisation des filles et des garçon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Eradication de la maladie du ver de guiné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Baisse de la prévalence de la malnutrition et des maladies d’origine hydriqu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Le PN-AEPA une « Bonne pratique »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10-Durabilit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785680" y="1600200"/>
            <a:ext cx="59007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Capitalisation des acquis du Programme d’Application de la Réform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Décret n°2004-582/PRES/PM/MAHRH/MB portant définition et procédures de délimitation des périmètres de protection d’eau destinée à la consommation humain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Loi n° 058-2009 /AN du 15 décembre 2009 portant institution d’une taxe parafiscale au profit des Agences de l’ea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re 1" descr=""/>
          <p:cNvPicPr/>
          <p:nvPr/>
        </p:nvPicPr>
        <p:blipFill>
          <a:blip r:embed="rId1"/>
          <a:stretch/>
        </p:blipFill>
        <p:spPr>
          <a:xfrm>
            <a:off x="353880" y="1133640"/>
            <a:ext cx="8485200" cy="207324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7854840" cy="843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onstantia"/>
              </a:rPr>
              <a:t>Merci pour votre attention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PRESENTATION DU PN-AEPA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OBJECTIF GLONAL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286080" y="2428560"/>
            <a:ext cx="540072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« Réduire de moitié d'ici 2015 la proportion de personnes, en milieu urbain et rural, n'ayant pas un accès adéquat à l'eau potable et à l'assainissement en 2005, selon les critères, normes et indicateurs adoptés en la matière  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PRESENTATION DU PN-AEPA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RESULTATS ATTEND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571560" y="1214280"/>
            <a:ext cx="54291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En milieu rural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1- la fourniture d'un accès adéquat à l'eau potable à 4,0 millions de personnes, qui fera progresser le taux d'accès à l'eau potable de 60% en 2005 à 80% en 2015 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2 - la fourniture d'un accès adéquat à l'assainissement à 5,7 millions de personnes, qui fera progresser le taux d'accès à l'assainissement de 10% en 2005 à 54% en 2015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PRESENTATION DU PN-AEPA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RESULTATS ATTENDUS (suit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285800" y="1285560"/>
            <a:ext cx="4643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En milieu urbain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1- 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la fourniture d'un accès adéquat à l'eau potable à 1,8 millions de personnes, qui fera progresser le taux d'accès à l'eau potable de 74 % en 2005 à 87 % en 2015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2- la fourniture d'un accès adéquat à l'assainissement à 1,9 millions de personnes, qui fera progresser le taux d'accès à l'assainissement de 14 % en 2005 à 57 % en 201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PRESENTATION DU PN-AEPA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COMPOSANT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785680" y="2428920"/>
            <a:ext cx="590076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Infrastructures d’AE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Infrastructures d’Assainissement des EU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Cadre Unifié d’interven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PRESENTATION DU PN-AEPA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32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COÛT DU PROGRAM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786040" y="1356840"/>
            <a:ext cx="61437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20280" indent="-238320">
              <a:spcBef>
                <a:spcPts val="601"/>
              </a:spcBef>
              <a:tabLst>
                <a:tab algn="l" pos="0"/>
                <a:tab algn="l" pos="3411360"/>
                <a:tab algn="r" pos="6291360"/>
                <a:tab algn="l" pos="638640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cc"/>
                </a:solidFill>
                <a:latin typeface="Constantia"/>
                <a:ea typeface="Times New Roman"/>
              </a:rPr>
              <a:t>Milieu </a:t>
            </a:r>
            <a:r>
              <a:rPr b="1" lang="fr-FR" sz="2400" spc="-1" strike="noStrike">
                <a:solidFill>
                  <a:srgbClr val="3366cc"/>
                </a:solidFill>
                <a:latin typeface="Constantia"/>
              </a:rPr>
              <a:t>Rural </a:t>
            </a:r>
            <a:r>
              <a:rPr b="1" lang="fr-FR" sz="2400" spc="-1" strike="noStrike">
                <a:solidFill>
                  <a:srgbClr val="3366cc"/>
                </a:solidFill>
                <a:latin typeface="Constantia"/>
                <a:ea typeface="Times New Roman"/>
              </a:rPr>
              <a:t>=</a:t>
            </a:r>
            <a:r>
              <a:rPr b="1" lang="fr-FR" sz="2400" spc="-1" strike="noStrike">
                <a:solidFill>
                  <a:srgbClr val="3366cc"/>
                </a:solidFill>
                <a:latin typeface="Constantia"/>
              </a:rPr>
              <a:t>405,9 milliards FCF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tabLst>
                <a:tab algn="l" pos="0"/>
                <a:tab algn="l" pos="3411360"/>
                <a:tab algn="r" pos="6291360"/>
                <a:tab algn="l" pos="638640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tabLst>
                <a:tab algn="l" pos="0"/>
                <a:tab algn="l" pos="3411360"/>
                <a:tab algn="r" pos="6291360"/>
                <a:tab algn="l" pos="638640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Constantia"/>
                <a:ea typeface="Times New Roman"/>
              </a:rPr>
              <a:t>Milieu </a:t>
            </a:r>
            <a:r>
              <a:rPr b="1" lang="fr-FR" sz="2400" spc="-1" strike="noStrike">
                <a:solidFill>
                  <a:srgbClr val="008000"/>
                </a:solidFill>
                <a:latin typeface="Constantia"/>
              </a:rPr>
              <a:t>Urbain </a:t>
            </a:r>
            <a:r>
              <a:rPr b="1" lang="fr-FR" sz="2400" spc="-1" strike="noStrike">
                <a:solidFill>
                  <a:srgbClr val="008000"/>
                </a:solidFill>
                <a:latin typeface="Constantia"/>
                <a:ea typeface="Times New Roman"/>
              </a:rPr>
              <a:t>= </a:t>
            </a:r>
            <a:r>
              <a:rPr b="1" lang="fr-FR" sz="2400" spc="-1" strike="noStrike">
                <a:solidFill>
                  <a:srgbClr val="008000"/>
                </a:solidFill>
                <a:latin typeface="Constantia"/>
              </a:rPr>
              <a:t>137,8 milliards FCF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1360"/>
                <a:tab algn="r" pos="6291360"/>
                <a:tab algn="l" pos="638640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1360"/>
                <a:tab algn="r" pos="6291360"/>
                <a:tab algn="l" pos="638640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e2d700"/>
                </a:solidFill>
                <a:latin typeface="Arial"/>
                <a:ea typeface="Times New Roman"/>
              </a:rPr>
              <a:t>GRAND TOTAL =  </a:t>
            </a:r>
            <a:r>
              <a:rPr b="1" lang="fr-FR" sz="2400" spc="-1" strike="noStrike" u="sng">
                <a:solidFill>
                  <a:srgbClr val="e2d700"/>
                </a:solidFill>
                <a:uFillTx/>
                <a:latin typeface="Arial"/>
                <a:ea typeface="Times New Roman"/>
              </a:rPr>
              <a:t>543</a:t>
            </a:r>
            <a:r>
              <a:rPr b="0" lang="fr-FR" sz="2400" spc="-1" strike="noStrike" u="sng">
                <a:solidFill>
                  <a:srgbClr val="e2d700"/>
                </a:solidFill>
                <a:uFillTx/>
                <a:latin typeface="Constantia"/>
              </a:rPr>
              <a:t>,</a:t>
            </a:r>
            <a:r>
              <a:rPr b="1" lang="fr-FR" sz="2400" spc="-1" strike="noStrike" u="sng">
                <a:solidFill>
                  <a:srgbClr val="e2d700"/>
                </a:solidFill>
                <a:uFillTx/>
                <a:latin typeface="Arial"/>
                <a:ea typeface="Times New Roman"/>
              </a:rPr>
              <a:t>7</a:t>
            </a:r>
            <a:r>
              <a:rPr b="1" lang="fr-FR" sz="2400" spc="-1" strike="noStrike">
                <a:solidFill>
                  <a:srgbClr val="e2d700"/>
                </a:solidFill>
                <a:latin typeface="Arial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e2d700"/>
                </a:solidFill>
                <a:latin typeface="Constantia"/>
              </a:rPr>
              <a:t>milliards FCF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tabLst>
                <a:tab algn="l" pos="0"/>
                <a:tab algn="l" pos="3411360"/>
                <a:tab algn="r" pos="6291360"/>
                <a:tab algn="l" pos="638640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tabLst>
                <a:tab algn="l" pos="0"/>
                <a:tab algn="l" pos="3411360"/>
                <a:tab algn="r" pos="6291360"/>
                <a:tab algn="l" pos="638640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e2d700"/>
                </a:solidFill>
                <a:latin typeface="Constantia"/>
              </a:rPr>
              <a:t>364 milliards FCFA sont </a:t>
            </a:r>
            <a:r>
              <a:rPr b="0" lang="fr-FR" sz="2400" spc="-1" strike="noStrike">
                <a:solidFill>
                  <a:srgbClr val="e2d700"/>
                </a:solidFill>
                <a:latin typeface="Constantia"/>
              </a:rPr>
              <a:t>acquis dont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Char char="-"/>
              <a:tabLst>
                <a:tab algn="l" pos="3411360"/>
                <a:tab algn="r" pos="6291360"/>
                <a:tab algn="l" pos="638640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cc"/>
                </a:solidFill>
                <a:latin typeface="Constantia"/>
              </a:rPr>
              <a:t>208 milliards FCFA pour le Volet rural</a:t>
            </a:r>
            <a:r>
              <a:rPr b="0" lang="fr-FR" sz="2400" spc="-1" strike="noStrike">
                <a:solidFill>
                  <a:srgbClr val="e2d7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tabLst>
                <a:tab algn="l" pos="0"/>
                <a:tab algn="l" pos="3411360"/>
                <a:tab algn="r" pos="6291360"/>
                <a:tab algn="l" pos="638640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499"/>
              </a:spcBef>
              <a:tabLst>
                <a:tab algn="l" pos="0"/>
                <a:tab algn="l" pos="3411360"/>
                <a:tab algn="r" pos="6291360"/>
                <a:tab algn="l" pos="6386400"/>
                <a:tab algn="r" pos="676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Constantia"/>
              </a:rPr>
              <a:t>- 156 milliards FCFA pour le Volet urba</a:t>
            </a:r>
            <a:r>
              <a:rPr b="1" lang="fr-FR" sz="2000" spc="-1" strike="noStrike">
                <a:solidFill>
                  <a:srgbClr val="008000"/>
                </a:solidFill>
                <a:latin typeface="Constantia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PRESENTATION DU PN-AEPA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STRUCTURES DE MISE EN OEUV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8320" y="1928880"/>
            <a:ext cx="403848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94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Au niveau central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DGRE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 et </a:t>
            </a: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DGAEUE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 (volet rur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et </a:t>
            </a: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ONEA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 (Volet urbai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Au niveau déconcentré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les DRAHR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Au niveau décentralisé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</a:rPr>
              <a:t>les commu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fr-FR" sz="3000" spc="-1" strike="noStrike">
                <a:solidFill>
                  <a:srgbClr val="008000"/>
                </a:solidFill>
                <a:latin typeface="Calibri"/>
              </a:rPr>
              <a:t>PRESENTATION DU PN-AEPA</a:t>
            </a:r>
            <a:endParaRPr b="1" lang="en-US" sz="3000" spc="-1" strike="noStrike">
              <a:solidFill>
                <a:srgbClr val="008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</a:rPr>
              <a:t>STRUCTURES DE PILOTA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Au niveau nationa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e Comité National de Pilotage (CNP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Au niveau régiona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Le Comité Régional de Pilotage (CR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14:14:46Z</dcterms:created>
  <dc:creator>User</dc:creator>
  <dc:description/>
  <dc:language>en-US</dc:language>
  <cp:lastModifiedBy>Zapata</cp:lastModifiedBy>
  <dcterms:modified xsi:type="dcterms:W3CDTF">2011-02-07T08:00:15Z</dcterms:modified>
  <cp:revision>250</cp:revision>
  <dc:subject/>
  <dc:title>Canevas du rapport des directeurs de l’hydraulique</dc:title>
</cp:coreProperties>
</file>