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5B8-3DE3-46FD-891F-A002963F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F43-7465-4A21-9AA8-20E5863E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624-8836-4642-A093-6F76985C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2C7-5E7D-4151-AA6C-756D14EA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353F-F73E-4DEA-A2B7-BFFDC489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CA80-EBD4-4918-A110-86AA89C2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AC43-3448-47DD-87C6-3C9F3101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0E58-3B20-458D-9B70-B04FCDCB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8068-6E72-4B48-B798-2C037901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6A4E-8D3C-4AB9-81E8-04C5ACBA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398-7EAC-4019-AD1A-D630F2C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622-A2DA-4B03-A162-2DA76FB4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920C-0261-4D72-9422-329D88B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4CA5-7841-4EAC-938F-081CE3D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271F-1C02-4CE2-9C24-F963A3B9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7BB6-AFE3-450E-A1C1-34474BF7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5566-4260-4BD9-9DA9-9600D352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2C40-A9F2-4131-9869-FA697DE1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C6E7-A3A2-49B5-82DF-18D4C6B7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144B-42D9-4883-BD27-E0119935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05ED-4B8F-48BF-B69B-CDF36B1A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8B7A-DBD0-49F2-A609-5CF2C8F2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C65-2C67-473F-A735-20CCCF4B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9C70-DA1B-4F65-8017-7E926A37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C16D-5084-498A-AD13-168D2F75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E4FA-AA44-41A0-A8B0-26B66CD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692F-E80A-412A-818F-56247FEF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79D6-E275-47BE-A474-B5D0BCE3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44F3-E4F0-4332-B7E4-10049B2C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572D-42C0-4DD5-AC16-549AB027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8294-A141-4AD6-BB59-7EF9EFF5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8147F-738D-4F48-9722-462CEA62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BEA7-FA68-4E0D-87EC-0A160A03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6AD-E45E-4FBD-8EB3-056E04CC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7775-D66E-4309-9965-EA670DD1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3FA9B-EF4F-4DA8-AB6A-5B7E3461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CACCD-F053-41F7-813A-6CC9400F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2E51-993A-4AF1-84C4-9E9BC15E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D4DFA-16C7-4F3A-989E-DAEAE5B0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7739-4870-4FA1-BA9D-D068AC8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F87E-11D5-4DFB-901D-ECEC408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13D2-A529-4FAC-A68D-C1B3E724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A5D6-E41B-4F12-A9AB-4D5B1686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42A8-BA05-40A1-AE73-D0152FAE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6AF-329C-43F7-A1CC-6686AB71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2ECA8-BE79-4C16-A1EE-246CD20C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81061-5887-4248-A536-67934FEA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277F-C3C7-4E1E-90E4-3E4D8D67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007B-0AFF-4071-BA77-EA821F32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1D4F9-3656-443F-A817-DCDD152F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5E28C-CE9B-4A13-ADFC-15979E5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4632-8B3D-4BFE-A720-D81F834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95BDD-CCEB-4793-B489-663C5CB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986E1-1ED4-42F6-9885-3856C47B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86150-48F3-4002-ACDC-BBDDD05E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926-C3AF-4F9D-9973-5CB7DA13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C7673-3A6A-437D-BC78-6DADC349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9FF-8BD7-43BA-8591-FB3AE5CF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559-F5E7-4AB6-B32A-AE64C0C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2A4-A4D2-46E1-8735-339C223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BAF-6B87-464F-88AB-33EC979A9BA3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Line 16"/>
          <p:cNvSpPr/>
          <p:nvPr/>
        </p:nvSpPr>
        <p:spPr>
          <a:xfrm>
            <a:off x="0" y="177336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9" descr="uemoa2"/>
          <p:cNvPicPr/>
          <p:nvPr/>
        </p:nvPicPr>
        <p:blipFill>
          <a:blip r:embed="rId4"/>
          <a:stretch/>
        </p:blipFill>
        <p:spPr>
          <a:xfrm>
            <a:off x="8155080" y="38160"/>
            <a:ext cx="593640" cy="6094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1" descr="BF2"/>
          <p:cNvPicPr/>
          <p:nvPr/>
        </p:nvPicPr>
        <p:blipFill>
          <a:blip r:embed="rId5"/>
          <a:stretch/>
        </p:blipFill>
        <p:spPr>
          <a:xfrm>
            <a:off x="520560" y="162000"/>
            <a:ext cx="666720" cy="479520"/>
          </a:xfrm>
          <a:prstGeom prst="rect">
            <a:avLst/>
          </a:prstGeom>
          <a:ln w="0">
            <a:noFill/>
          </a:ln>
        </p:spPr>
      </p:pic>
      <p:sp>
        <p:nvSpPr>
          <p:cNvPr id="17" name="Rectangle 22"/>
          <p:cNvSpPr/>
          <p:nvPr/>
        </p:nvSpPr>
        <p:spPr>
          <a:xfrm>
            <a:off x="401760" y="-270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Burkina Fa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rme libre 15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rme libre 16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e 1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" name="Forme libre 1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8" name="Forme lib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Forme libre 2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" name="Forme lib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431A-98A1-44B9-AF93-5B547E027467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rme libre 15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rme libre 16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Forme libre 1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Forme lib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Forme libre 2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Forme lib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F0ED-CA38-49C8-B18B-FE92E4C75836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gner et arrondir un rectangle à un seul coin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riangle rect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rme libre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rme libre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0690-7A87-4463-9622-CCEB012853A6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rme libre 15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rme libre 16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2" name="Forme libre 1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3" name="Forme lib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Forme libre 2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6" name="Forme lib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F894-AB5E-4988-9299-68BEF4C8880D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840" y="2130120"/>
            <a:ext cx="8643960" cy="194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‘</a:t>
            </a: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BONNES PRATIQUES’ EN RAPPORT AVEC L’ACCES A L’EAU</a:t>
            </a:r>
            <a:br>
              <a:rPr sz="1800"/>
            </a:b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POTABLE ET A L’ASSAINISSEMENT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Cas du Programme National d’Approvisionnement en Eau Potable et Assainissement à l’horizon 2015 du Burkina</a:t>
            </a:r>
            <a:br>
              <a:rPr sz="2400"/>
            </a:br>
            <a:r>
              <a:rPr b="1" lang="fr-FR" sz="2400" spc="-1" strike="noStrike" u="sng">
                <a:solidFill>
                  <a:srgbClr val="008000"/>
                </a:solidFill>
                <a:uFillTx/>
                <a:latin typeface="Calibri"/>
              </a:rPr>
              <a:t>Genève 2011</a:t>
            </a:r>
            <a:endParaRPr b="1" lang="en-US" sz="24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85920" y="4214520"/>
            <a:ext cx="6400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Présenté par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Maxime SOM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nstantia"/>
              </a:rPr>
              <a:t>Ingénieur du Génie Rur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nstantia"/>
              </a:rPr>
              <a:t>Chef de service suivi-évalu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nstantia"/>
              </a:rPr>
              <a:t>Direction Générale des Ressources en Ea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1" name="Group 10"/>
          <p:cNvGrpSpPr/>
          <p:nvPr/>
        </p:nvGrpSpPr>
        <p:grpSpPr>
          <a:xfrm>
            <a:off x="451800" y="115920"/>
            <a:ext cx="1524960" cy="1324080"/>
            <a:chOff x="451800" y="115920"/>
            <a:chExt cx="1524960" cy="1324080"/>
          </a:xfrm>
        </p:grpSpPr>
        <p:pic>
          <p:nvPicPr>
            <p:cNvPr id="252" name="Picture 7" descr="BF2"/>
            <p:cNvPicPr/>
            <p:nvPr/>
          </p:nvPicPr>
          <p:blipFill>
            <a:blip r:embed="rId1"/>
            <a:stretch/>
          </p:blipFill>
          <p:spPr>
            <a:xfrm>
              <a:off x="466920" y="449280"/>
              <a:ext cx="14936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8"/>
            <p:cNvSpPr/>
            <p:nvPr/>
          </p:nvSpPr>
          <p:spPr>
            <a:xfrm>
              <a:off x="451800" y="11592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rkina Fa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Line 9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INSTRUMENTS DE PLANIFICATION ET DE SUIV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6160" y="1599840"/>
            <a:ext cx="440064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Budget Programme par Objectif (BP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Plan de Développement des Ressources Huma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Dispositif de Suivi-éval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plan de commun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-Disponi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8320" y="785880"/>
            <a:ext cx="4038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Milieu rural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EM= 20l/j/hb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Milieu urbai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BF= 37l/j/hb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BP= 57l/j/hb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Milieu rural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395000 latrines famili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60000 puisar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12300 blocs de latrines publiqu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Milieu urbai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222000 latrines famili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900 blocs de latrines publiqu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32 plans stratégiques d’assainisse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-Accessi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928960" y="785880"/>
          <a:ext cx="6072120" cy="5851440"/>
        </p:xfrm>
        <a:graphic>
          <a:graphicData uri="http://schemas.openxmlformats.org/drawingml/2006/table">
            <a:tbl>
              <a:tblPr/>
              <a:tblGrid>
                <a:gridCol w="2214720"/>
                <a:gridCol w="1833480"/>
                <a:gridCol w="202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AU PO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ll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ef lieu commune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ef lieu commune urb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PEM/ 3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PEM/village de moins de 300 ha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F/5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PDC/1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P/ 10 hb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F/10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PDC/1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P/ 1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M à moins de 1000 m du centre du groupement d’habit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F et PDC à moins de 500 m des groupements d’habita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F et PDC à moins de 500 m des groupements d’habit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SAINISS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v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utres  lieux publ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personnes/ la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ocs de latrines à raison d'une cabine de latrine par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 blocs de 6 à 8 latri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3-Aborda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00240" y="857160"/>
            <a:ext cx="56865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ilieu r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EM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as de vente d’ea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ntribution de 150000 FCFA/PE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AEPS/PE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ntrats affermage ou exploitation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rix de l’eau fixé par le conseil municip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ilieu urbain: ON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Branchement Privé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Tarification progressive à 4 tranch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Tranche sociale ( 0 m3- 8 m3)= 188 F/m3 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Bornes Fontain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5 F le  bidon de 20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60 F le fût de de 220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3-Abordabilité (sui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00680" y="1600200"/>
            <a:ext cx="50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ilieu r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Subvention : 9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ilieu urb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Subvention : 90% financée pa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la taxe d’assainissemen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orne Fontaine= 10 F/m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ranchement Privé= 21 F/m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4-Qualité/sure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428640" y="185724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rêté conjoint n° 00019/MAHRH/MS du 05/04 2005 portant normes de qualité de l’eau de bois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nforme avec normes 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echnologie des infrastructures appropriées: latrines VIP, latrines ECOSAN, TC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5-Accepta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42800" y="928440"/>
            <a:ext cx="55436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t 46 de la loi n° 002/2001/AN portant loi d’orientation relative à la gestion de l’eau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« obligation pour tout opérateur du  service de l’eau de veiller à la qualité de l’eau distribuée 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onception des ouvrages respectant l’intimité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Séparation des installations en fonction du sex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6-Non discrimin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28680" y="928440"/>
            <a:ext cx="5072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rt 2 de la loi n°002/2001/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ortant loi d’ori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relative à la gestion de l’eau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« la loi reconnait le droit de chacun à disposer de l’eau correspondant à ses besoins et aux exigences élémentaires de sa vie et de sa dignité 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onstruction de latrines familiales, institutionnelles et publiques pour accroître l’accès à t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7-Particip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999880" y="1600200"/>
            <a:ext cx="600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Planification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CD/AEP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Tenue régulière des CRP et CN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Tenue régulière de la revue conjoi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Réalisation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ontribution financière des bénéfici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Maintenanc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- PEM: Comité de points d’e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- AEPS/PEA:  Association des usagers de l’e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8-Acountability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Responsa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357720" y="2142720"/>
            <a:ext cx="56433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Dispositif de suivi-évaluation décliné jusqu’au niveau village pour prendre en compte tous les acteur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es CRP et le CNP= instances de décision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Revue conjoint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CD/AEP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Transfert des compétences et des ressources en AEPA aux commun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LAN DE L’EXPOSE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- Présentation du Programme  National d’Approvisionnement en Eau Potable (PN-AEP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- Le PN-AEPA une « Bonne pratique 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9-Impa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714400" y="1643040"/>
            <a:ext cx="59720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ctivités génératrices de revenu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llègement des tâches domestiqu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mélioration du cadre de vi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arité dans la scolarisation des filles et des garçon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Eradication de la maladie du ver de guiné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Baisse de la prévalence de la malnutrition et des maladies d’origine hydriq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0-Dura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785680" y="1600200"/>
            <a:ext cx="59007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apitalisation des acquis du Programme d’Application de la Réform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Décret n°2004-582/PRES/PM/MAHRH/MB portant définition et procédures de délimitation des périmètres de protection d’eau destinée à la consommation humain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oi n° 058-2009 /AN du 15 décembre 2009 portant institution d’une taxe parafiscale au profit des Agences de l’e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re 1" descr=""/>
          <p:cNvPicPr/>
          <p:nvPr/>
        </p:nvPicPr>
        <p:blipFill>
          <a:blip r:embed="rId1"/>
          <a:stretch/>
        </p:blipFill>
        <p:spPr>
          <a:xfrm>
            <a:off x="353880" y="1133640"/>
            <a:ext cx="8485200" cy="20732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843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onstantia"/>
              </a:rPr>
              <a:t>Merci pour votre attentio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OBJECTIF GLONAL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86080" y="2428560"/>
            <a:ext cx="54007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« Réduire de moitié d'ici 2015 la proportion de personnes, en milieu urbain et rural, n'ayant pas un accès adéquat à l'eau potable et à l'assainissement en 2005, selon les critères, normes et indicateurs adoptés en la matière  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RESULTATS ATTEND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71560" y="1214280"/>
            <a:ext cx="5429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En milieu rural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1- la fourniture d'un accès adéquat à l'eau potable à 4,0 millions de personnes, qui fera progresser le taux d'accès à l'eau potable de 60% en 2005 à 80% en 2015 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2 - la fourniture d'un accès adéquat à l'assainissement à 5,7 millions de personnes, qui fera progresser le taux d'accès à l'assainissement de 10% en 2005 à 54% en 20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RESULTATS ATTENDUS (sui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5800" y="1285560"/>
            <a:ext cx="4643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n milieu urbain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-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a fourniture d'un accès adéquat à l'eau potable à 1,8 millions de personnes, qui fera progresser le taux d'accès à l'eau potable de 74 % en 2005 à 87 % en 2015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2- la fourniture d'un accès adéquat à l'assainissement à 1,9 millions de personnes, qui fera progresser le taux d'accès à l'assainissement de 14 % en 2005 à 57 % en 201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MPOSA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785680" y="2428920"/>
            <a:ext cx="5900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Infrastructures d’AE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Infrastructures d’Assainissement des EU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Cadre Unifié d’interven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32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ÛT DU PROGRAM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786040" y="1356840"/>
            <a:ext cx="6143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Constantia"/>
                <a:ea typeface="Times New Roman"/>
              </a:rPr>
              <a:t>Milieu </a:t>
            </a:r>
            <a:r>
              <a:rPr b="1" lang="fr-FR" sz="2400" spc="-1" strike="noStrike">
                <a:solidFill>
                  <a:srgbClr val="3366cc"/>
                </a:solidFill>
                <a:latin typeface="Constantia"/>
              </a:rPr>
              <a:t>Rural </a:t>
            </a:r>
            <a:r>
              <a:rPr b="1" lang="fr-FR" sz="2400" spc="-1" strike="noStrike">
                <a:solidFill>
                  <a:srgbClr val="3366cc"/>
                </a:solidFill>
                <a:latin typeface="Constantia"/>
                <a:ea typeface="Times New Roman"/>
              </a:rPr>
              <a:t>=</a:t>
            </a:r>
            <a:r>
              <a:rPr b="1" lang="fr-FR" sz="2400" spc="-1" strike="noStrike">
                <a:solidFill>
                  <a:srgbClr val="3366cc"/>
                </a:solidFill>
                <a:latin typeface="Constantia"/>
              </a:rPr>
              <a:t>405,9 milliards FCF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onstantia"/>
                <a:ea typeface="Times New Roman"/>
              </a:rPr>
              <a:t>Milieu </a:t>
            </a:r>
            <a:r>
              <a:rPr b="1" lang="fr-FR" sz="2400" spc="-1" strike="noStrike">
                <a:solidFill>
                  <a:srgbClr val="008000"/>
                </a:solidFill>
                <a:latin typeface="Constantia"/>
              </a:rPr>
              <a:t>Urbain </a:t>
            </a:r>
            <a:r>
              <a:rPr b="1" lang="fr-FR" sz="2400" spc="-1" strike="noStrike">
                <a:solidFill>
                  <a:srgbClr val="008000"/>
                </a:solidFill>
                <a:latin typeface="Constantia"/>
                <a:ea typeface="Times New Roman"/>
              </a:rPr>
              <a:t>= </a:t>
            </a:r>
            <a:r>
              <a:rPr b="1" lang="fr-FR" sz="2400" spc="-1" strike="noStrike">
                <a:solidFill>
                  <a:srgbClr val="008000"/>
                </a:solidFill>
                <a:latin typeface="Constantia"/>
              </a:rPr>
              <a:t>137,8 milliards FCF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2d700"/>
                </a:solidFill>
                <a:latin typeface="Arial"/>
                <a:ea typeface="Times New Roman"/>
              </a:rPr>
              <a:t>GRAND TOTAL =  </a:t>
            </a:r>
            <a:r>
              <a:rPr b="1" lang="fr-FR" sz="24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</a:rPr>
              <a:t>543</a:t>
            </a:r>
            <a:r>
              <a:rPr b="0" lang="fr-FR" sz="2400" spc="-1" strike="noStrike" u="sng">
                <a:solidFill>
                  <a:srgbClr val="e2d700"/>
                </a:solidFill>
                <a:uFillTx/>
                <a:latin typeface="Constantia"/>
              </a:rPr>
              <a:t>,</a:t>
            </a:r>
            <a:r>
              <a:rPr b="1" lang="fr-FR" sz="24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</a:rPr>
              <a:t>7</a:t>
            </a:r>
            <a:r>
              <a:rPr b="1" lang="fr-FR" sz="2400" spc="-1" strike="noStrike">
                <a:solidFill>
                  <a:srgbClr val="e2d700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e2d700"/>
                </a:solidFill>
                <a:latin typeface="Constantia"/>
              </a:rPr>
              <a:t>milliards FCF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2d700"/>
                </a:solidFill>
                <a:latin typeface="Constantia"/>
              </a:rPr>
              <a:t>364 milliards FCFA sont </a:t>
            </a:r>
            <a:r>
              <a:rPr b="0" lang="fr-FR" sz="2400" spc="-1" strike="noStrike">
                <a:solidFill>
                  <a:srgbClr val="e2d700"/>
                </a:solidFill>
                <a:latin typeface="Constantia"/>
              </a:rPr>
              <a:t>acquis dont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Constantia"/>
              </a:rPr>
              <a:t>208 milliards FCFA pour le Volet rural</a:t>
            </a:r>
            <a:r>
              <a:rPr b="0" lang="fr-FR" sz="2400" spc="-1" strike="noStrike">
                <a:solidFill>
                  <a:srgbClr val="e2d7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499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onstantia"/>
              </a:rPr>
              <a:t>- 156 milliards FCFA pour le Volet urba</a:t>
            </a:r>
            <a:r>
              <a:rPr b="1" lang="fr-FR" sz="2000" spc="-1" strike="noStrike">
                <a:solidFill>
                  <a:srgbClr val="008000"/>
                </a:solidFill>
                <a:latin typeface="Constanti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STRUCTURES DE MISE EN OEUV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928880"/>
            <a:ext cx="40384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u niveau central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DGRE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DGAEUE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(volet rur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et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ONEA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(Volet urbai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u niveau déconcentré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es DRAHR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u niveau décentralisé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es commu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STRUCTURES DE PILOT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u niveau nation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Comité National de Pilotage (CNP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u niveau région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Comité Régional de Pilotage (CR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14:46Z</dcterms:created>
  <dc:creator>User</dc:creator>
  <dc:description/>
  <dc:language>en-US</dc:language>
  <cp:lastModifiedBy>Zapata</cp:lastModifiedBy>
  <dcterms:modified xsi:type="dcterms:W3CDTF">2011-02-07T08:00:15Z</dcterms:modified>
  <cp:revision>250</cp:revision>
  <dc:subject/>
  <dc:title>Canevas du rapport des directeurs de l’hydraulique</dc:title>
</cp:coreProperties>
</file>